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25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E00C-F185-4CC7-8436-B878236AE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4AB7-DE72-4C78-807E-0CFEB2CD4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1C56-6093-4C01-AD16-39436D026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4E79-8FE6-4F89-8471-415EADFEE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8E9E-B540-47FB-9434-702CD2EFF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668B-7D9C-4680-B77C-45147E0D6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0C3A-6F07-4290-B683-9B95F0FFE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5F35-7708-4788-B4DD-4DA4D9263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1670-22D9-42D7-AD36-A3E271F94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34A0-F979-416A-B975-32C843139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8670-628D-4A7A-8D8B-B94D0618D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7CFD-7B4A-41CF-AFB1-3CA743112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-68112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C624-9E46-4C2F-8CAC-583502C97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6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 1   LROM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D127-F2D7-4B18-A15C-7B82DED90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AC Report on Motor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1800" y="3984480"/>
            <a:ext cx="3330360" cy="1149120"/>
            <a:chOff x="2971800" y="3984480"/>
            <a:chExt cx="3330360" cy="1149120"/>
          </a:xfrm>
        </p:grpSpPr>
        <p:sp>
          <p:nvSpPr>
            <p:cNvPr id="117" name=""/>
            <p:cNvSpPr/>
            <p:nvPr/>
          </p:nvSpPr>
          <p:spPr>
            <a:xfrm>
              <a:off x="2971800" y="3984480"/>
              <a:ext cx="1066320" cy="1149120"/>
            </a:xfrm>
            <a:custGeom>
              <a:avLst/>
              <a:gdLst/>
              <a:ahLst/>
              <a:rect l="l" t="t" r="r" b="b"/>
              <a:pathLst>
                <a:path w="1995" h="2127">
                  <a:moveTo>
                    <a:pt x="0" y="2127"/>
                  </a:moveTo>
                  <a:lnTo>
                    <a:pt x="0" y="468"/>
                  </a:lnTo>
                  <a:lnTo>
                    <a:pt x="3" y="403"/>
                  </a:lnTo>
                  <a:lnTo>
                    <a:pt x="9" y="345"/>
                  </a:lnTo>
                  <a:lnTo>
                    <a:pt x="19" y="292"/>
                  </a:lnTo>
                  <a:lnTo>
                    <a:pt x="33" y="244"/>
                  </a:lnTo>
                  <a:lnTo>
                    <a:pt x="51" y="201"/>
                  </a:lnTo>
                  <a:lnTo>
                    <a:pt x="72" y="163"/>
                  </a:lnTo>
                  <a:lnTo>
                    <a:pt x="99" y="129"/>
                  </a:lnTo>
                  <a:lnTo>
                    <a:pt x="128" y="100"/>
                  </a:lnTo>
                  <a:lnTo>
                    <a:pt x="160" y="75"/>
                  </a:lnTo>
                  <a:lnTo>
                    <a:pt x="196" y="54"/>
                  </a:lnTo>
                  <a:lnTo>
                    <a:pt x="236" y="37"/>
                  </a:lnTo>
                  <a:lnTo>
                    <a:pt x="277" y="23"/>
                  </a:lnTo>
                  <a:lnTo>
                    <a:pt x="323" y="13"/>
                  </a:lnTo>
                  <a:lnTo>
                    <a:pt x="372" y="5"/>
                  </a:lnTo>
                  <a:lnTo>
                    <a:pt x="424" y="1"/>
                  </a:lnTo>
                  <a:lnTo>
                    <a:pt x="478" y="0"/>
                  </a:lnTo>
                  <a:lnTo>
                    <a:pt x="1575" y="0"/>
                  </a:lnTo>
                  <a:lnTo>
                    <a:pt x="1617" y="1"/>
                  </a:lnTo>
                  <a:lnTo>
                    <a:pt x="1657" y="6"/>
                  </a:lnTo>
                  <a:lnTo>
                    <a:pt x="1698" y="14"/>
                  </a:lnTo>
                  <a:lnTo>
                    <a:pt x="1736" y="24"/>
                  </a:lnTo>
                  <a:lnTo>
                    <a:pt x="1772" y="38"/>
                  </a:lnTo>
                  <a:lnTo>
                    <a:pt x="1807" y="54"/>
                  </a:lnTo>
                  <a:lnTo>
                    <a:pt x="1840" y="73"/>
                  </a:lnTo>
                  <a:lnTo>
                    <a:pt x="1870" y="96"/>
                  </a:lnTo>
                  <a:lnTo>
                    <a:pt x="1896" y="123"/>
                  </a:lnTo>
                  <a:lnTo>
                    <a:pt x="1922" y="152"/>
                  </a:lnTo>
                  <a:lnTo>
                    <a:pt x="1943" y="183"/>
                  </a:lnTo>
                  <a:lnTo>
                    <a:pt x="1961" y="219"/>
                  </a:lnTo>
                  <a:lnTo>
                    <a:pt x="1976" y="257"/>
                  </a:lnTo>
                  <a:lnTo>
                    <a:pt x="1986" y="297"/>
                  </a:lnTo>
                  <a:lnTo>
                    <a:pt x="1993" y="341"/>
                  </a:lnTo>
                  <a:lnTo>
                    <a:pt x="1995" y="390"/>
                  </a:lnTo>
                  <a:lnTo>
                    <a:pt x="1995" y="631"/>
                  </a:lnTo>
                  <a:lnTo>
                    <a:pt x="1994" y="681"/>
                  </a:lnTo>
                  <a:lnTo>
                    <a:pt x="1988" y="729"/>
                  </a:lnTo>
                  <a:lnTo>
                    <a:pt x="1979" y="773"/>
                  </a:lnTo>
                  <a:lnTo>
                    <a:pt x="1966" y="815"/>
                  </a:lnTo>
                  <a:lnTo>
                    <a:pt x="1950" y="853"/>
                  </a:lnTo>
                  <a:lnTo>
                    <a:pt x="1931" y="888"/>
                  </a:lnTo>
                  <a:lnTo>
                    <a:pt x="1908" y="921"/>
                  </a:lnTo>
                  <a:lnTo>
                    <a:pt x="1884" y="950"/>
                  </a:lnTo>
                  <a:lnTo>
                    <a:pt x="1855" y="977"/>
                  </a:lnTo>
                  <a:lnTo>
                    <a:pt x="1824" y="999"/>
                  </a:lnTo>
                  <a:lnTo>
                    <a:pt x="1791" y="1020"/>
                  </a:lnTo>
                  <a:lnTo>
                    <a:pt x="1755" y="1036"/>
                  </a:lnTo>
                  <a:lnTo>
                    <a:pt x="1717" y="1049"/>
                  </a:lnTo>
                  <a:lnTo>
                    <a:pt x="1676" y="1058"/>
                  </a:lnTo>
                  <a:lnTo>
                    <a:pt x="1633" y="1064"/>
                  </a:lnTo>
                  <a:lnTo>
                    <a:pt x="1589" y="1065"/>
                  </a:lnTo>
                  <a:lnTo>
                    <a:pt x="849" y="1065"/>
                  </a:lnTo>
                  <a:lnTo>
                    <a:pt x="834" y="1066"/>
                  </a:lnTo>
                  <a:lnTo>
                    <a:pt x="821" y="1069"/>
                  </a:lnTo>
                  <a:lnTo>
                    <a:pt x="812" y="1074"/>
                  </a:lnTo>
                  <a:lnTo>
                    <a:pt x="807" y="1080"/>
                  </a:lnTo>
                  <a:lnTo>
                    <a:pt x="806" y="1088"/>
                  </a:lnTo>
                  <a:lnTo>
                    <a:pt x="810" y="1095"/>
                  </a:lnTo>
                  <a:lnTo>
                    <a:pt x="817" y="1106"/>
                  </a:lnTo>
                  <a:lnTo>
                    <a:pt x="829" y="1114"/>
                  </a:lnTo>
                  <a:lnTo>
                    <a:pt x="1946" y="1839"/>
                  </a:lnTo>
                  <a:lnTo>
                    <a:pt x="1769" y="2127"/>
                  </a:lnTo>
                  <a:lnTo>
                    <a:pt x="680" y="1402"/>
                  </a:lnTo>
                  <a:lnTo>
                    <a:pt x="623" y="1359"/>
                  </a:lnTo>
                  <a:lnTo>
                    <a:pt x="576" y="1311"/>
                  </a:lnTo>
                  <a:lnTo>
                    <a:pt x="539" y="1261"/>
                  </a:lnTo>
                  <a:lnTo>
                    <a:pt x="511" y="1208"/>
                  </a:lnTo>
                  <a:lnTo>
                    <a:pt x="492" y="1155"/>
                  </a:lnTo>
                  <a:lnTo>
                    <a:pt x="484" y="1102"/>
                  </a:lnTo>
                  <a:lnTo>
                    <a:pt x="484" y="1049"/>
                  </a:lnTo>
                  <a:lnTo>
                    <a:pt x="492" y="997"/>
                  </a:lnTo>
                  <a:lnTo>
                    <a:pt x="510" y="949"/>
                  </a:lnTo>
                  <a:lnTo>
                    <a:pt x="537" y="903"/>
                  </a:lnTo>
                  <a:lnTo>
                    <a:pt x="572" y="861"/>
                  </a:lnTo>
                  <a:lnTo>
                    <a:pt x="616" y="826"/>
                  </a:lnTo>
                  <a:lnTo>
                    <a:pt x="668" y="797"/>
                  </a:lnTo>
                  <a:lnTo>
                    <a:pt x="728" y="775"/>
                  </a:lnTo>
                  <a:lnTo>
                    <a:pt x="797" y="762"/>
                  </a:lnTo>
                  <a:lnTo>
                    <a:pt x="873" y="756"/>
                  </a:lnTo>
                  <a:lnTo>
                    <a:pt x="1554" y="756"/>
                  </a:lnTo>
                  <a:lnTo>
                    <a:pt x="1581" y="755"/>
                  </a:lnTo>
                  <a:lnTo>
                    <a:pt x="1606" y="749"/>
                  </a:lnTo>
                  <a:lnTo>
                    <a:pt x="1626" y="740"/>
                  </a:lnTo>
                  <a:lnTo>
                    <a:pt x="1641" y="726"/>
                  </a:lnTo>
                  <a:lnTo>
                    <a:pt x="1652" y="710"/>
                  </a:lnTo>
                  <a:lnTo>
                    <a:pt x="1661" y="688"/>
                  </a:lnTo>
                  <a:lnTo>
                    <a:pt x="1666" y="664"/>
                  </a:lnTo>
                  <a:lnTo>
                    <a:pt x="1667" y="636"/>
                  </a:lnTo>
                  <a:lnTo>
                    <a:pt x="1667" y="420"/>
                  </a:lnTo>
                  <a:lnTo>
                    <a:pt x="1665" y="396"/>
                  </a:lnTo>
                  <a:lnTo>
                    <a:pt x="1657" y="374"/>
                  </a:lnTo>
                  <a:lnTo>
                    <a:pt x="1645" y="355"/>
                  </a:lnTo>
                  <a:lnTo>
                    <a:pt x="1628" y="340"/>
                  </a:lnTo>
                  <a:lnTo>
                    <a:pt x="1609" y="329"/>
                  </a:lnTo>
                  <a:lnTo>
                    <a:pt x="1588" y="320"/>
                  </a:lnTo>
                  <a:lnTo>
                    <a:pt x="1564" y="315"/>
                  </a:lnTo>
                  <a:lnTo>
                    <a:pt x="1540" y="314"/>
                  </a:lnTo>
                  <a:lnTo>
                    <a:pt x="481" y="314"/>
                  </a:lnTo>
                  <a:lnTo>
                    <a:pt x="444" y="316"/>
                  </a:lnTo>
                  <a:lnTo>
                    <a:pt x="413" y="323"/>
                  </a:lnTo>
                  <a:lnTo>
                    <a:pt x="387" y="333"/>
                  </a:lnTo>
                  <a:lnTo>
                    <a:pt x="367" y="348"/>
                  </a:lnTo>
                  <a:lnTo>
                    <a:pt x="351" y="366"/>
                  </a:lnTo>
                  <a:lnTo>
                    <a:pt x="341" y="388"/>
                  </a:lnTo>
                  <a:lnTo>
                    <a:pt x="334" y="414"/>
                  </a:lnTo>
                  <a:lnTo>
                    <a:pt x="332" y="441"/>
                  </a:lnTo>
                  <a:lnTo>
                    <a:pt x="332" y="2127"/>
                  </a:lnTo>
                  <a:lnTo>
                    <a:pt x="0" y="2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93920" y="3984480"/>
              <a:ext cx="1062360" cy="1149120"/>
            </a:xfrm>
            <a:custGeom>
              <a:avLst/>
              <a:gdLst/>
              <a:ahLst/>
              <a:rect l="l" t="t" r="r" b="b"/>
              <a:pathLst>
                <a:path w="1986" h="2127">
                  <a:moveTo>
                    <a:pt x="163" y="0"/>
                  </a:moveTo>
                  <a:lnTo>
                    <a:pt x="1486" y="0"/>
                  </a:lnTo>
                  <a:lnTo>
                    <a:pt x="1536" y="1"/>
                  </a:lnTo>
                  <a:lnTo>
                    <a:pt x="1585" y="6"/>
                  </a:lnTo>
                  <a:lnTo>
                    <a:pt x="1632" y="14"/>
                  </a:lnTo>
                  <a:lnTo>
                    <a:pt x="1677" y="24"/>
                  </a:lnTo>
                  <a:lnTo>
                    <a:pt x="1720" y="38"/>
                  </a:lnTo>
                  <a:lnTo>
                    <a:pt x="1762" y="56"/>
                  </a:lnTo>
                  <a:lnTo>
                    <a:pt x="1800" y="77"/>
                  </a:lnTo>
                  <a:lnTo>
                    <a:pt x="1837" y="101"/>
                  </a:lnTo>
                  <a:lnTo>
                    <a:pt x="1868" y="129"/>
                  </a:lnTo>
                  <a:lnTo>
                    <a:pt x="1899" y="162"/>
                  </a:lnTo>
                  <a:lnTo>
                    <a:pt x="1924" y="197"/>
                  </a:lnTo>
                  <a:lnTo>
                    <a:pt x="1946" y="236"/>
                  </a:lnTo>
                  <a:lnTo>
                    <a:pt x="1963" y="281"/>
                  </a:lnTo>
                  <a:lnTo>
                    <a:pt x="1976" y="329"/>
                  </a:lnTo>
                  <a:lnTo>
                    <a:pt x="1983" y="381"/>
                  </a:lnTo>
                  <a:lnTo>
                    <a:pt x="1986" y="438"/>
                  </a:lnTo>
                  <a:lnTo>
                    <a:pt x="1986" y="1645"/>
                  </a:lnTo>
                  <a:lnTo>
                    <a:pt x="1983" y="1708"/>
                  </a:lnTo>
                  <a:lnTo>
                    <a:pt x="1978" y="1767"/>
                  </a:lnTo>
                  <a:lnTo>
                    <a:pt x="1970" y="1820"/>
                  </a:lnTo>
                  <a:lnTo>
                    <a:pt x="1957" y="1870"/>
                  </a:lnTo>
                  <a:lnTo>
                    <a:pt x="1940" y="1913"/>
                  </a:lnTo>
                  <a:lnTo>
                    <a:pt x="1920" y="1953"/>
                  </a:lnTo>
                  <a:lnTo>
                    <a:pt x="1897" y="1987"/>
                  </a:lnTo>
                  <a:lnTo>
                    <a:pt x="1871" y="2018"/>
                  </a:lnTo>
                  <a:lnTo>
                    <a:pt x="1842" y="2044"/>
                  </a:lnTo>
                  <a:lnTo>
                    <a:pt x="1809" y="2067"/>
                  </a:lnTo>
                  <a:lnTo>
                    <a:pt x="1774" y="2086"/>
                  </a:lnTo>
                  <a:lnTo>
                    <a:pt x="1734" y="2101"/>
                  </a:lnTo>
                  <a:lnTo>
                    <a:pt x="1694" y="2113"/>
                  </a:lnTo>
                  <a:lnTo>
                    <a:pt x="1650" y="2120"/>
                  </a:lnTo>
                  <a:lnTo>
                    <a:pt x="1603" y="2125"/>
                  </a:lnTo>
                  <a:lnTo>
                    <a:pt x="1553" y="2127"/>
                  </a:lnTo>
                  <a:lnTo>
                    <a:pt x="424" y="2127"/>
                  </a:lnTo>
                  <a:lnTo>
                    <a:pt x="369" y="2124"/>
                  </a:lnTo>
                  <a:lnTo>
                    <a:pt x="320" y="2118"/>
                  </a:lnTo>
                  <a:lnTo>
                    <a:pt x="273" y="2108"/>
                  </a:lnTo>
                  <a:lnTo>
                    <a:pt x="232" y="2094"/>
                  </a:lnTo>
                  <a:lnTo>
                    <a:pt x="192" y="2075"/>
                  </a:lnTo>
                  <a:lnTo>
                    <a:pt x="158" y="2054"/>
                  </a:lnTo>
                  <a:lnTo>
                    <a:pt x="127" y="2029"/>
                  </a:lnTo>
                  <a:lnTo>
                    <a:pt x="100" y="2001"/>
                  </a:lnTo>
                  <a:lnTo>
                    <a:pt x="76" y="1971"/>
                  </a:lnTo>
                  <a:lnTo>
                    <a:pt x="56" y="1938"/>
                  </a:lnTo>
                  <a:lnTo>
                    <a:pt x="38" y="1903"/>
                  </a:lnTo>
                  <a:lnTo>
                    <a:pt x="24" y="1866"/>
                  </a:lnTo>
                  <a:lnTo>
                    <a:pt x="14" y="1825"/>
                  </a:lnTo>
                  <a:lnTo>
                    <a:pt x="6" y="1785"/>
                  </a:lnTo>
                  <a:lnTo>
                    <a:pt x="1" y="1742"/>
                  </a:lnTo>
                  <a:lnTo>
                    <a:pt x="0" y="1698"/>
                  </a:lnTo>
                  <a:lnTo>
                    <a:pt x="0" y="1190"/>
                  </a:lnTo>
                  <a:lnTo>
                    <a:pt x="1" y="1132"/>
                  </a:lnTo>
                  <a:lnTo>
                    <a:pt x="6" y="1079"/>
                  </a:lnTo>
                  <a:lnTo>
                    <a:pt x="15" y="1030"/>
                  </a:lnTo>
                  <a:lnTo>
                    <a:pt x="27" y="985"/>
                  </a:lnTo>
                  <a:lnTo>
                    <a:pt x="42" y="946"/>
                  </a:lnTo>
                  <a:lnTo>
                    <a:pt x="60" y="911"/>
                  </a:lnTo>
                  <a:lnTo>
                    <a:pt x="82" y="879"/>
                  </a:lnTo>
                  <a:lnTo>
                    <a:pt x="109" y="851"/>
                  </a:lnTo>
                  <a:lnTo>
                    <a:pt x="138" y="829"/>
                  </a:lnTo>
                  <a:lnTo>
                    <a:pt x="171" y="808"/>
                  </a:lnTo>
                  <a:lnTo>
                    <a:pt x="209" y="792"/>
                  </a:lnTo>
                  <a:lnTo>
                    <a:pt x="249" y="779"/>
                  </a:lnTo>
                  <a:lnTo>
                    <a:pt x="295" y="769"/>
                  </a:lnTo>
                  <a:lnTo>
                    <a:pt x="344" y="762"/>
                  </a:lnTo>
                  <a:lnTo>
                    <a:pt x="397" y="758"/>
                  </a:lnTo>
                  <a:lnTo>
                    <a:pt x="455" y="756"/>
                  </a:lnTo>
                  <a:lnTo>
                    <a:pt x="1646" y="756"/>
                  </a:lnTo>
                  <a:lnTo>
                    <a:pt x="1648" y="482"/>
                  </a:lnTo>
                  <a:lnTo>
                    <a:pt x="1646" y="444"/>
                  </a:lnTo>
                  <a:lnTo>
                    <a:pt x="1637" y="414"/>
                  </a:lnTo>
                  <a:lnTo>
                    <a:pt x="1622" y="390"/>
                  </a:lnTo>
                  <a:lnTo>
                    <a:pt x="1603" y="371"/>
                  </a:lnTo>
                  <a:lnTo>
                    <a:pt x="1580" y="357"/>
                  </a:lnTo>
                  <a:lnTo>
                    <a:pt x="1552" y="347"/>
                  </a:lnTo>
                  <a:lnTo>
                    <a:pt x="1522" y="341"/>
                  </a:lnTo>
                  <a:lnTo>
                    <a:pt x="1488" y="340"/>
                  </a:lnTo>
                  <a:lnTo>
                    <a:pt x="163" y="340"/>
                  </a:lnTo>
                  <a:lnTo>
                    <a:pt x="163" y="0"/>
                  </a:lnTo>
                  <a:close/>
                  <a:moveTo>
                    <a:pt x="1646" y="1065"/>
                  </a:moveTo>
                  <a:lnTo>
                    <a:pt x="1646" y="1698"/>
                  </a:lnTo>
                  <a:lnTo>
                    <a:pt x="1643" y="1718"/>
                  </a:lnTo>
                  <a:lnTo>
                    <a:pt x="1634" y="1739"/>
                  </a:lnTo>
                  <a:lnTo>
                    <a:pt x="1623" y="1760"/>
                  </a:lnTo>
                  <a:lnTo>
                    <a:pt x="1607" y="1779"/>
                  </a:lnTo>
                  <a:lnTo>
                    <a:pt x="1589" y="1794"/>
                  </a:lnTo>
                  <a:lnTo>
                    <a:pt x="1569" y="1806"/>
                  </a:lnTo>
                  <a:lnTo>
                    <a:pt x="1547" y="1815"/>
                  </a:lnTo>
                  <a:lnTo>
                    <a:pt x="1527" y="1818"/>
                  </a:lnTo>
                  <a:lnTo>
                    <a:pt x="433" y="1818"/>
                  </a:lnTo>
                  <a:lnTo>
                    <a:pt x="407" y="1815"/>
                  </a:lnTo>
                  <a:lnTo>
                    <a:pt x="385" y="1809"/>
                  </a:lnTo>
                  <a:lnTo>
                    <a:pt x="366" y="1800"/>
                  </a:lnTo>
                  <a:lnTo>
                    <a:pt x="350" y="1787"/>
                  </a:lnTo>
                  <a:lnTo>
                    <a:pt x="338" y="1771"/>
                  </a:lnTo>
                  <a:lnTo>
                    <a:pt x="329" y="1753"/>
                  </a:lnTo>
                  <a:lnTo>
                    <a:pt x="324" y="1733"/>
                  </a:lnTo>
                  <a:lnTo>
                    <a:pt x="323" y="1712"/>
                  </a:lnTo>
                  <a:lnTo>
                    <a:pt x="323" y="1171"/>
                  </a:lnTo>
                  <a:lnTo>
                    <a:pt x="324" y="1147"/>
                  </a:lnTo>
                  <a:lnTo>
                    <a:pt x="330" y="1126"/>
                  </a:lnTo>
                  <a:lnTo>
                    <a:pt x="339" y="1107"/>
                  </a:lnTo>
                  <a:lnTo>
                    <a:pt x="352" y="1092"/>
                  </a:lnTo>
                  <a:lnTo>
                    <a:pt x="368" y="1080"/>
                  </a:lnTo>
                  <a:lnTo>
                    <a:pt x="387" y="1071"/>
                  </a:lnTo>
                  <a:lnTo>
                    <a:pt x="410" y="1066"/>
                  </a:lnTo>
                  <a:lnTo>
                    <a:pt x="436" y="1065"/>
                  </a:lnTo>
                  <a:lnTo>
                    <a:pt x="1646" y="1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4000" y="3984480"/>
              <a:ext cx="1028160" cy="1149120"/>
            </a:xfrm>
            <a:custGeom>
              <a:avLst/>
              <a:gdLst/>
              <a:ahLst/>
              <a:rect l="l" t="t" r="r" b="b"/>
              <a:pathLst>
                <a:path w="1923" h="2127">
                  <a:moveTo>
                    <a:pt x="1923" y="0"/>
                  </a:moveTo>
                  <a:lnTo>
                    <a:pt x="432" y="0"/>
                  </a:lnTo>
                  <a:lnTo>
                    <a:pt x="385" y="2"/>
                  </a:lnTo>
                  <a:lnTo>
                    <a:pt x="339" y="10"/>
                  </a:lnTo>
                  <a:lnTo>
                    <a:pt x="296" y="21"/>
                  </a:lnTo>
                  <a:lnTo>
                    <a:pt x="256" y="38"/>
                  </a:lnTo>
                  <a:lnTo>
                    <a:pt x="218" y="58"/>
                  </a:lnTo>
                  <a:lnTo>
                    <a:pt x="181" y="82"/>
                  </a:lnTo>
                  <a:lnTo>
                    <a:pt x="150" y="109"/>
                  </a:lnTo>
                  <a:lnTo>
                    <a:pt x="119" y="139"/>
                  </a:lnTo>
                  <a:lnTo>
                    <a:pt x="93" y="172"/>
                  </a:lnTo>
                  <a:lnTo>
                    <a:pt x="69" y="206"/>
                  </a:lnTo>
                  <a:lnTo>
                    <a:pt x="48" y="244"/>
                  </a:lnTo>
                  <a:lnTo>
                    <a:pt x="32" y="283"/>
                  </a:lnTo>
                  <a:lnTo>
                    <a:pt x="18" y="324"/>
                  </a:lnTo>
                  <a:lnTo>
                    <a:pt x="8" y="364"/>
                  </a:lnTo>
                  <a:lnTo>
                    <a:pt x="3" y="407"/>
                  </a:lnTo>
                  <a:lnTo>
                    <a:pt x="0" y="450"/>
                  </a:lnTo>
                  <a:lnTo>
                    <a:pt x="0" y="1689"/>
                  </a:lnTo>
                  <a:lnTo>
                    <a:pt x="3" y="1742"/>
                  </a:lnTo>
                  <a:lnTo>
                    <a:pt x="8" y="1793"/>
                  </a:lnTo>
                  <a:lnTo>
                    <a:pt x="18" y="1838"/>
                  </a:lnTo>
                  <a:lnTo>
                    <a:pt x="31" y="1881"/>
                  </a:lnTo>
                  <a:lnTo>
                    <a:pt x="47" y="1920"/>
                  </a:lnTo>
                  <a:lnTo>
                    <a:pt x="67" y="1957"/>
                  </a:lnTo>
                  <a:lnTo>
                    <a:pt x="91" y="1989"/>
                  </a:lnTo>
                  <a:lnTo>
                    <a:pt x="119" y="2018"/>
                  </a:lnTo>
                  <a:lnTo>
                    <a:pt x="150" y="2044"/>
                  </a:lnTo>
                  <a:lnTo>
                    <a:pt x="183" y="2066"/>
                  </a:lnTo>
                  <a:lnTo>
                    <a:pt x="219" y="2085"/>
                  </a:lnTo>
                  <a:lnTo>
                    <a:pt x="260" y="2100"/>
                  </a:lnTo>
                  <a:lnTo>
                    <a:pt x="303" y="2111"/>
                  </a:lnTo>
                  <a:lnTo>
                    <a:pt x="348" y="2120"/>
                  </a:lnTo>
                  <a:lnTo>
                    <a:pt x="398" y="2125"/>
                  </a:lnTo>
                  <a:lnTo>
                    <a:pt x="449" y="2127"/>
                  </a:lnTo>
                  <a:lnTo>
                    <a:pt x="1923" y="2127"/>
                  </a:lnTo>
                  <a:lnTo>
                    <a:pt x="1923" y="1818"/>
                  </a:lnTo>
                  <a:lnTo>
                    <a:pt x="449" y="1818"/>
                  </a:lnTo>
                  <a:lnTo>
                    <a:pt x="425" y="1817"/>
                  </a:lnTo>
                  <a:lnTo>
                    <a:pt x="403" y="1810"/>
                  </a:lnTo>
                  <a:lnTo>
                    <a:pt x="382" y="1801"/>
                  </a:lnTo>
                  <a:lnTo>
                    <a:pt x="366" y="1790"/>
                  </a:lnTo>
                  <a:lnTo>
                    <a:pt x="351" y="1775"/>
                  </a:lnTo>
                  <a:lnTo>
                    <a:pt x="339" y="1756"/>
                  </a:lnTo>
                  <a:lnTo>
                    <a:pt x="333" y="1734"/>
                  </a:lnTo>
                  <a:lnTo>
                    <a:pt x="331" y="1710"/>
                  </a:lnTo>
                  <a:lnTo>
                    <a:pt x="331" y="464"/>
                  </a:lnTo>
                  <a:lnTo>
                    <a:pt x="333" y="439"/>
                  </a:lnTo>
                  <a:lnTo>
                    <a:pt x="341" y="416"/>
                  </a:lnTo>
                  <a:lnTo>
                    <a:pt x="353" y="395"/>
                  </a:lnTo>
                  <a:lnTo>
                    <a:pt x="370" y="377"/>
                  </a:lnTo>
                  <a:lnTo>
                    <a:pt x="389" y="362"/>
                  </a:lnTo>
                  <a:lnTo>
                    <a:pt x="411" y="350"/>
                  </a:lnTo>
                  <a:lnTo>
                    <a:pt x="434" y="343"/>
                  </a:lnTo>
                  <a:lnTo>
                    <a:pt x="460" y="340"/>
                  </a:lnTo>
                  <a:lnTo>
                    <a:pt x="1923" y="340"/>
                  </a:lnTo>
                  <a:lnTo>
                    <a:pt x="19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Journey costs by car and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5680" y="197640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97640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240320" y="5486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£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e addition to journey times from conges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232840" y="6168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ime cost of congestion for British motoris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7240" y="2028960"/>
          <a:ext cx="7778880" cy="40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28960"/>
                    <a:ext cx="7778880" cy="40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1562040"/>
          <a:ext cx="6097680" cy="407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562040"/>
                    <a:ext cx="60976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8960" y="217476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£ b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1600" y="2009880"/>
            <a:ext cx="293292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 to work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3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vel for work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8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ing friends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4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ing shop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2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run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1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s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5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97080" y="1565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23 b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Net support for fuel tax and other polic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981080"/>
          <a:ext cx="77788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88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972320" y="2438280"/>
            <a:ext cx="4184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any car tax based on pollu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private mileage tax for company c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company car 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ge for parking at work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ge to drive into town cent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ge for use of motorways/trunk roa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price of die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price of fuel by 6% over infla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2240" y="2039760"/>
            <a:ext cx="3056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crease tax for large eng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6520" y="21146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7848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02160" y="287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2385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4640" y="3581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6040" y="3962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5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67000" y="4338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76200" y="468648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7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0280" y="506736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55627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Actions by motorists if fuel goes from 75p to £1 per litre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232840" y="6130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Actions by motorists if road tax goes from £155 to £300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232840" y="6130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Actions if toll of £5 per 100 miles on motorway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8271000" y="6130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Actions if daily charge of £3 to drive into major town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290080" y="6149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rinks and drug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8680" y="533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ncidence of drink and drug driver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-893880" y="2836800"/>
          <a:ext cx="777888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93880" y="2836800"/>
                    <a:ext cx="77788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61800" y="2133720"/>
          <a:ext cx="8515440" cy="451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2133720"/>
                    <a:ext cx="851544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77920" y="16225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who have been in car while driver was under the influence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eme Pot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Managing Director, 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3960" y="933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lative seriousness of drink driv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-324000" y="1676520"/>
          <a:ext cx="9811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676520"/>
                    <a:ext cx="9811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64848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greement with random breath test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5680" y="197640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97640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126200" y="596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greement that drink drivers should go to pris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55680" y="197640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97640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164360" y="584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greement that drink limit should be halved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981080"/>
          <a:ext cx="847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7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16436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pee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river behaviou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Who makes the best drivers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4760" y="195732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5732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>
            <a:off x="7346160" y="59436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9320" y="149544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ews of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Who makes the best drivers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4760" y="195732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5732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flipH="1">
            <a:off x="7270920" y="590544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9320" y="149544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ews of wo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trafficlights" descr=""/>
          <p:cNvPicPr/>
          <p:nvPr/>
        </p:nvPicPr>
        <p:blipFill>
          <a:blip r:embed="rId1"/>
          <a:stretch/>
        </p:blipFill>
        <p:spPr>
          <a:xfrm>
            <a:off x="3276720" y="2171880"/>
            <a:ext cx="21240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42080" y="5143680"/>
            <a:ext cx="4347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lights out of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7% correctly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trafficlights" descr=""/>
          <p:cNvPicPr/>
          <p:nvPr/>
        </p:nvPicPr>
        <p:blipFill>
          <a:blip r:embed="rId1"/>
          <a:stretch/>
        </p:blipFill>
        <p:spPr>
          <a:xfrm>
            <a:off x="3276720" y="2171880"/>
            <a:ext cx="21240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on Franc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143160" y="2247840"/>
          <a:ext cx="260532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247840"/>
                    <a:ext cx="260532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54400" y="5048280"/>
            <a:ext cx="41432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y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9% correctly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143160" y="2247840"/>
          <a:ext cx="260532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247840"/>
                    <a:ext cx="260532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speed" descr=""/>
          <p:cNvPicPr/>
          <p:nvPr/>
        </p:nvPicPr>
        <p:blipFill>
          <a:blip r:embed="rId1"/>
          <a:stretch/>
        </p:blipFill>
        <p:spPr>
          <a:xfrm>
            <a:off x="3230640" y="2133720"/>
            <a:ext cx="31892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8840" y="5219640"/>
            <a:ext cx="4868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minimum speed li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% correctly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speed" descr=""/>
          <p:cNvPicPr/>
          <p:nvPr/>
        </p:nvPicPr>
        <p:blipFill>
          <a:blip r:embed="rId1"/>
          <a:stretch/>
        </p:blipFill>
        <p:spPr>
          <a:xfrm>
            <a:off x="3230640" y="2133720"/>
            <a:ext cx="31892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explosive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857680" y="2019240"/>
            <a:ext cx="37288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Knowledge of road sign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5400" y="5214960"/>
            <a:ext cx="473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vehicles carrying explos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% correctly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explosive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857680" y="2019240"/>
            <a:ext cx="37288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ncidence of speed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74760" y="195732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5732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 flipH="1">
            <a:off x="7288920" y="58863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47880" y="1622520"/>
            <a:ext cx="79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speed would you normally chose to travel on these ro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upport for increasing speed limi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16000" y="2114640"/>
          <a:ext cx="719604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14640"/>
                    <a:ext cx="719604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04760" y="1546200"/>
            <a:ext cx="72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of drivers who would like to see speed limits 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Measures that would stop drivers spee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80" y="1957320"/>
          <a:ext cx="89172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957320"/>
                    <a:ext cx="89172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8290080" y="61498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sults of being photographed by speed camer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55680" y="197640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97640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7164360" y="584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488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searc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720" y="152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rs’ 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,563 regular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 to face inter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sted sample of company car drivers (2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ghted to be representative of all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 September to 1 October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pio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ple of visitors to RAC web-site were e-mailed inviting them to take part in the surv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49 people responded to the inv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 to 22 November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onfessions of road rag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5400" y="1981080"/>
          <a:ext cx="9639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981080"/>
                    <a:ext cx="963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7486560" y="59436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Going for the last space in a car par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-1352520" y="723960"/>
          <a:ext cx="1158696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2520" y="723960"/>
                    <a:ext cx="1158696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sponse to tailgat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-1143000" y="1085760"/>
          <a:ext cx="115873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085760"/>
                    <a:ext cx="115873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vid Leibl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 Service P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nvironment and the c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3960" y="933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ortance of environmental concern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-1390680" y="1754280"/>
          <a:ext cx="105156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0680" y="1754280"/>
                    <a:ext cx="105156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838920" y="5900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Factors taken into account when buying a car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0" y="1752480"/>
          <a:ext cx="1186812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186812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8290080" y="6168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7320" y="60912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ikelihood of using star rating when buying a ca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-1257480" y="1333440"/>
          <a:ext cx="115873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57480" y="1333440"/>
                    <a:ext cx="115873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upport for stricter MOT for exhaust emission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43040" y="1981080"/>
          <a:ext cx="800100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001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Inter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Presentation overview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conomic benefits of car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nk and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ing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7320" y="60912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Use of Internet when buying a ca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-3586320" y="1486080"/>
            <a:ext cx="12482640" cy="6134040"/>
            <a:chOff x="-3586320" y="1486080"/>
            <a:chExt cx="12482640" cy="6134040"/>
          </a:xfrm>
        </p:grpSpPr>
        <p:grpSp>
          <p:nvGrpSpPr>
            <p:cNvPr id="297" name=""/>
            <p:cNvGrpSpPr/>
            <p:nvPr/>
          </p:nvGrpSpPr>
          <p:grpSpPr>
            <a:xfrm>
              <a:off x="-3586320" y="1486080"/>
              <a:ext cx="12482640" cy="6134040"/>
              <a:chOff x="-3586320" y="1486080"/>
              <a:chExt cx="12482640" cy="6134040"/>
            </a:xfrm>
          </p:grpSpPr>
          <p:graphicFrame>
            <p:nvGraphicFramePr>
              <p:cNvPr id="298" name=""/>
              <p:cNvGraphicFramePr/>
              <p:nvPr/>
            </p:nvGraphicFramePr>
            <p:xfrm>
              <a:off x="-3586320" y="1486080"/>
              <a:ext cx="11587320" cy="6134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-3586320" y="1486080"/>
                        <a:ext cx="11587320" cy="613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0" name=""/>
              <p:cNvGraphicFramePr/>
              <p:nvPr/>
            </p:nvGraphicFramePr>
            <p:xfrm>
              <a:off x="2800440" y="2019240"/>
              <a:ext cx="6095880" cy="407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00440" y="2019240"/>
                        <a:ext cx="6095880" cy="407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2" name=""/>
              <p:cNvSpPr/>
              <p:nvPr/>
            </p:nvSpPr>
            <p:spPr>
              <a:xfrm flipV="1">
                <a:off x="3505320" y="2571480"/>
                <a:ext cx="1847880" cy="1733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05320" y="4819680"/>
                <a:ext cx="1790640" cy="11048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460920" y="267012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fo on pric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60920" y="4270320"/>
                <a:ext cx="202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fo on mode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98720" y="543240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fo on deale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090440" y="2212920"/>
              <a:ext cx="21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sed Intern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35360" y="2898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8120" y="4346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4840" y="537516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7760" y="53316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ource for buying cars on the 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962000"/>
          <a:ext cx="1186812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2000"/>
                    <a:ext cx="1186812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899400" y="6130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34520" y="160956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net Pio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uying goods over the Internet or by telephon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78040" y="2664000"/>
          <a:ext cx="3084480" cy="30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2664000"/>
                    <a:ext cx="308448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162400" y="2624040"/>
          <a:ext cx="3143520" cy="312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2400" y="2624040"/>
                    <a:ext cx="314352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848520" y="202896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net Pio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91040" y="206676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ll motor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280" y="2612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 1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15600" y="31464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s 3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27960" y="52610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s  8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3440" y="27655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 6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2600" y="571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f home shopping on conges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-776160" y="1447920"/>
          <a:ext cx="10580400" cy="60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76160" y="1447920"/>
                    <a:ext cx="105804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134520" y="160956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net Pio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r ownership and servic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230040" y="1905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80920" y="2462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70360" y="293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230040" y="1905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80920" y="2462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70360" y="293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5040" y="4419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230040" y="1905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UK new car registrations by typ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20" y="19051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ar ownership in GB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914400" y="129528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686520" y="1676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25760" y="4519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3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liance on the ca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824480" y="175248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find it very difficult to adjust my lifesty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being without a ca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320" y="19051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 agre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ar ownership in GB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29528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686520" y="1676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25760" y="4519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3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atisfaction with servic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39880" y="1905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0520" y="2362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4114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dea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ir Trevor Chin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7640" y="3467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l for 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ppoint an independent roads “czar”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road network meets motorists’ nee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ey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for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ise standards of new driver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ing test to include hazard 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ime in test on true rather than rehearsed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manoeuvres examined by i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 environmental and social implications of transport on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rove the safety and environmental impact of company cars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s on fleet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dri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acc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fuel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business trave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te unnecessary journ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fuel efficient c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Extend driver rectification schem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to other off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ssive or persistent sp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light ru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 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eview speed limi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appropriate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higher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Education on the danger of drug driv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gent public education campa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light scheme for prescription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nvest in school bus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8860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 in school 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existing school mini-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4960" y="515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Willingness to use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60560" y="1655640"/>
            <a:ext cx="68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use my my car less if public transport were bette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320" y="19051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 agre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AC Report on Motor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467160" y="4060800"/>
            <a:ext cx="2473200" cy="844560"/>
            <a:chOff x="3467160" y="4060800"/>
            <a:chExt cx="2473200" cy="844560"/>
          </a:xfrm>
        </p:grpSpPr>
        <p:sp>
          <p:nvSpPr>
            <p:cNvPr id="387" name=""/>
            <p:cNvSpPr/>
            <p:nvPr/>
          </p:nvSpPr>
          <p:spPr>
            <a:xfrm>
              <a:off x="3467160" y="4060800"/>
              <a:ext cx="792000" cy="844560"/>
            </a:xfrm>
            <a:custGeom>
              <a:avLst/>
              <a:gdLst/>
              <a:ahLst/>
              <a:rect l="l" t="t" r="r" b="b"/>
              <a:pathLst>
                <a:path w="1995" h="2127">
                  <a:moveTo>
                    <a:pt x="0" y="2127"/>
                  </a:moveTo>
                  <a:lnTo>
                    <a:pt x="0" y="468"/>
                  </a:lnTo>
                  <a:lnTo>
                    <a:pt x="3" y="403"/>
                  </a:lnTo>
                  <a:lnTo>
                    <a:pt x="9" y="345"/>
                  </a:lnTo>
                  <a:lnTo>
                    <a:pt x="19" y="292"/>
                  </a:lnTo>
                  <a:lnTo>
                    <a:pt x="33" y="244"/>
                  </a:lnTo>
                  <a:lnTo>
                    <a:pt x="51" y="201"/>
                  </a:lnTo>
                  <a:lnTo>
                    <a:pt x="72" y="163"/>
                  </a:lnTo>
                  <a:lnTo>
                    <a:pt x="99" y="129"/>
                  </a:lnTo>
                  <a:lnTo>
                    <a:pt x="128" y="100"/>
                  </a:lnTo>
                  <a:lnTo>
                    <a:pt x="160" y="75"/>
                  </a:lnTo>
                  <a:lnTo>
                    <a:pt x="196" y="54"/>
                  </a:lnTo>
                  <a:lnTo>
                    <a:pt x="236" y="37"/>
                  </a:lnTo>
                  <a:lnTo>
                    <a:pt x="277" y="23"/>
                  </a:lnTo>
                  <a:lnTo>
                    <a:pt x="323" y="13"/>
                  </a:lnTo>
                  <a:lnTo>
                    <a:pt x="372" y="5"/>
                  </a:lnTo>
                  <a:lnTo>
                    <a:pt x="424" y="1"/>
                  </a:lnTo>
                  <a:lnTo>
                    <a:pt x="478" y="0"/>
                  </a:lnTo>
                  <a:lnTo>
                    <a:pt x="1575" y="0"/>
                  </a:lnTo>
                  <a:lnTo>
                    <a:pt x="1617" y="1"/>
                  </a:lnTo>
                  <a:lnTo>
                    <a:pt x="1657" y="6"/>
                  </a:lnTo>
                  <a:lnTo>
                    <a:pt x="1698" y="14"/>
                  </a:lnTo>
                  <a:lnTo>
                    <a:pt x="1736" y="24"/>
                  </a:lnTo>
                  <a:lnTo>
                    <a:pt x="1772" y="38"/>
                  </a:lnTo>
                  <a:lnTo>
                    <a:pt x="1807" y="54"/>
                  </a:lnTo>
                  <a:lnTo>
                    <a:pt x="1840" y="73"/>
                  </a:lnTo>
                  <a:lnTo>
                    <a:pt x="1870" y="96"/>
                  </a:lnTo>
                  <a:lnTo>
                    <a:pt x="1896" y="123"/>
                  </a:lnTo>
                  <a:lnTo>
                    <a:pt x="1922" y="152"/>
                  </a:lnTo>
                  <a:lnTo>
                    <a:pt x="1943" y="183"/>
                  </a:lnTo>
                  <a:lnTo>
                    <a:pt x="1961" y="219"/>
                  </a:lnTo>
                  <a:lnTo>
                    <a:pt x="1976" y="257"/>
                  </a:lnTo>
                  <a:lnTo>
                    <a:pt x="1986" y="297"/>
                  </a:lnTo>
                  <a:lnTo>
                    <a:pt x="1993" y="341"/>
                  </a:lnTo>
                  <a:lnTo>
                    <a:pt x="1995" y="390"/>
                  </a:lnTo>
                  <a:lnTo>
                    <a:pt x="1995" y="631"/>
                  </a:lnTo>
                  <a:lnTo>
                    <a:pt x="1994" y="681"/>
                  </a:lnTo>
                  <a:lnTo>
                    <a:pt x="1988" y="729"/>
                  </a:lnTo>
                  <a:lnTo>
                    <a:pt x="1979" y="773"/>
                  </a:lnTo>
                  <a:lnTo>
                    <a:pt x="1966" y="815"/>
                  </a:lnTo>
                  <a:lnTo>
                    <a:pt x="1950" y="853"/>
                  </a:lnTo>
                  <a:lnTo>
                    <a:pt x="1931" y="888"/>
                  </a:lnTo>
                  <a:lnTo>
                    <a:pt x="1908" y="921"/>
                  </a:lnTo>
                  <a:lnTo>
                    <a:pt x="1884" y="950"/>
                  </a:lnTo>
                  <a:lnTo>
                    <a:pt x="1855" y="977"/>
                  </a:lnTo>
                  <a:lnTo>
                    <a:pt x="1824" y="999"/>
                  </a:lnTo>
                  <a:lnTo>
                    <a:pt x="1791" y="1020"/>
                  </a:lnTo>
                  <a:lnTo>
                    <a:pt x="1755" y="1036"/>
                  </a:lnTo>
                  <a:lnTo>
                    <a:pt x="1717" y="1049"/>
                  </a:lnTo>
                  <a:lnTo>
                    <a:pt x="1676" y="1058"/>
                  </a:lnTo>
                  <a:lnTo>
                    <a:pt x="1633" y="1064"/>
                  </a:lnTo>
                  <a:lnTo>
                    <a:pt x="1589" y="1065"/>
                  </a:lnTo>
                  <a:lnTo>
                    <a:pt x="849" y="1065"/>
                  </a:lnTo>
                  <a:lnTo>
                    <a:pt x="834" y="1066"/>
                  </a:lnTo>
                  <a:lnTo>
                    <a:pt x="821" y="1069"/>
                  </a:lnTo>
                  <a:lnTo>
                    <a:pt x="812" y="1074"/>
                  </a:lnTo>
                  <a:lnTo>
                    <a:pt x="807" y="1080"/>
                  </a:lnTo>
                  <a:lnTo>
                    <a:pt x="806" y="1088"/>
                  </a:lnTo>
                  <a:lnTo>
                    <a:pt x="810" y="1095"/>
                  </a:lnTo>
                  <a:lnTo>
                    <a:pt x="817" y="1106"/>
                  </a:lnTo>
                  <a:lnTo>
                    <a:pt x="829" y="1114"/>
                  </a:lnTo>
                  <a:lnTo>
                    <a:pt x="1946" y="1839"/>
                  </a:lnTo>
                  <a:lnTo>
                    <a:pt x="1769" y="2127"/>
                  </a:lnTo>
                  <a:lnTo>
                    <a:pt x="680" y="1402"/>
                  </a:lnTo>
                  <a:lnTo>
                    <a:pt x="623" y="1359"/>
                  </a:lnTo>
                  <a:lnTo>
                    <a:pt x="576" y="1311"/>
                  </a:lnTo>
                  <a:lnTo>
                    <a:pt x="539" y="1261"/>
                  </a:lnTo>
                  <a:lnTo>
                    <a:pt x="511" y="1208"/>
                  </a:lnTo>
                  <a:lnTo>
                    <a:pt x="492" y="1155"/>
                  </a:lnTo>
                  <a:lnTo>
                    <a:pt x="484" y="1102"/>
                  </a:lnTo>
                  <a:lnTo>
                    <a:pt x="484" y="1049"/>
                  </a:lnTo>
                  <a:lnTo>
                    <a:pt x="492" y="997"/>
                  </a:lnTo>
                  <a:lnTo>
                    <a:pt x="510" y="949"/>
                  </a:lnTo>
                  <a:lnTo>
                    <a:pt x="537" y="903"/>
                  </a:lnTo>
                  <a:lnTo>
                    <a:pt x="572" y="861"/>
                  </a:lnTo>
                  <a:lnTo>
                    <a:pt x="616" y="826"/>
                  </a:lnTo>
                  <a:lnTo>
                    <a:pt x="668" y="797"/>
                  </a:lnTo>
                  <a:lnTo>
                    <a:pt x="728" y="775"/>
                  </a:lnTo>
                  <a:lnTo>
                    <a:pt x="797" y="762"/>
                  </a:lnTo>
                  <a:lnTo>
                    <a:pt x="873" y="756"/>
                  </a:lnTo>
                  <a:lnTo>
                    <a:pt x="1554" y="756"/>
                  </a:lnTo>
                  <a:lnTo>
                    <a:pt x="1581" y="755"/>
                  </a:lnTo>
                  <a:lnTo>
                    <a:pt x="1606" y="749"/>
                  </a:lnTo>
                  <a:lnTo>
                    <a:pt x="1626" y="740"/>
                  </a:lnTo>
                  <a:lnTo>
                    <a:pt x="1641" y="726"/>
                  </a:lnTo>
                  <a:lnTo>
                    <a:pt x="1652" y="710"/>
                  </a:lnTo>
                  <a:lnTo>
                    <a:pt x="1661" y="688"/>
                  </a:lnTo>
                  <a:lnTo>
                    <a:pt x="1666" y="664"/>
                  </a:lnTo>
                  <a:lnTo>
                    <a:pt x="1667" y="636"/>
                  </a:lnTo>
                  <a:lnTo>
                    <a:pt x="1667" y="420"/>
                  </a:lnTo>
                  <a:lnTo>
                    <a:pt x="1665" y="396"/>
                  </a:lnTo>
                  <a:lnTo>
                    <a:pt x="1657" y="374"/>
                  </a:lnTo>
                  <a:lnTo>
                    <a:pt x="1645" y="355"/>
                  </a:lnTo>
                  <a:lnTo>
                    <a:pt x="1628" y="340"/>
                  </a:lnTo>
                  <a:lnTo>
                    <a:pt x="1609" y="329"/>
                  </a:lnTo>
                  <a:lnTo>
                    <a:pt x="1588" y="320"/>
                  </a:lnTo>
                  <a:lnTo>
                    <a:pt x="1564" y="315"/>
                  </a:lnTo>
                  <a:lnTo>
                    <a:pt x="1540" y="314"/>
                  </a:lnTo>
                  <a:lnTo>
                    <a:pt x="481" y="314"/>
                  </a:lnTo>
                  <a:lnTo>
                    <a:pt x="444" y="316"/>
                  </a:lnTo>
                  <a:lnTo>
                    <a:pt x="413" y="323"/>
                  </a:lnTo>
                  <a:lnTo>
                    <a:pt x="387" y="333"/>
                  </a:lnTo>
                  <a:lnTo>
                    <a:pt x="367" y="348"/>
                  </a:lnTo>
                  <a:lnTo>
                    <a:pt x="351" y="366"/>
                  </a:lnTo>
                  <a:lnTo>
                    <a:pt x="341" y="388"/>
                  </a:lnTo>
                  <a:lnTo>
                    <a:pt x="334" y="414"/>
                  </a:lnTo>
                  <a:lnTo>
                    <a:pt x="332" y="441"/>
                  </a:lnTo>
                  <a:lnTo>
                    <a:pt x="332" y="2127"/>
                  </a:lnTo>
                  <a:lnTo>
                    <a:pt x="0" y="2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0560" y="4060800"/>
              <a:ext cx="789120" cy="844560"/>
            </a:xfrm>
            <a:custGeom>
              <a:avLst/>
              <a:gdLst/>
              <a:ahLst/>
              <a:rect l="l" t="t" r="r" b="b"/>
              <a:pathLst>
                <a:path w="1986" h="2127">
                  <a:moveTo>
                    <a:pt x="163" y="0"/>
                  </a:moveTo>
                  <a:lnTo>
                    <a:pt x="1486" y="0"/>
                  </a:lnTo>
                  <a:lnTo>
                    <a:pt x="1536" y="1"/>
                  </a:lnTo>
                  <a:lnTo>
                    <a:pt x="1585" y="6"/>
                  </a:lnTo>
                  <a:lnTo>
                    <a:pt x="1632" y="14"/>
                  </a:lnTo>
                  <a:lnTo>
                    <a:pt x="1677" y="24"/>
                  </a:lnTo>
                  <a:lnTo>
                    <a:pt x="1720" y="38"/>
                  </a:lnTo>
                  <a:lnTo>
                    <a:pt x="1762" y="56"/>
                  </a:lnTo>
                  <a:lnTo>
                    <a:pt x="1800" y="77"/>
                  </a:lnTo>
                  <a:lnTo>
                    <a:pt x="1837" y="101"/>
                  </a:lnTo>
                  <a:lnTo>
                    <a:pt x="1868" y="129"/>
                  </a:lnTo>
                  <a:lnTo>
                    <a:pt x="1899" y="162"/>
                  </a:lnTo>
                  <a:lnTo>
                    <a:pt x="1924" y="197"/>
                  </a:lnTo>
                  <a:lnTo>
                    <a:pt x="1946" y="236"/>
                  </a:lnTo>
                  <a:lnTo>
                    <a:pt x="1963" y="281"/>
                  </a:lnTo>
                  <a:lnTo>
                    <a:pt x="1976" y="329"/>
                  </a:lnTo>
                  <a:lnTo>
                    <a:pt x="1983" y="381"/>
                  </a:lnTo>
                  <a:lnTo>
                    <a:pt x="1986" y="438"/>
                  </a:lnTo>
                  <a:lnTo>
                    <a:pt x="1986" y="1645"/>
                  </a:lnTo>
                  <a:lnTo>
                    <a:pt x="1983" y="1708"/>
                  </a:lnTo>
                  <a:lnTo>
                    <a:pt x="1978" y="1767"/>
                  </a:lnTo>
                  <a:lnTo>
                    <a:pt x="1970" y="1820"/>
                  </a:lnTo>
                  <a:lnTo>
                    <a:pt x="1957" y="1870"/>
                  </a:lnTo>
                  <a:lnTo>
                    <a:pt x="1940" y="1913"/>
                  </a:lnTo>
                  <a:lnTo>
                    <a:pt x="1920" y="1953"/>
                  </a:lnTo>
                  <a:lnTo>
                    <a:pt x="1897" y="1987"/>
                  </a:lnTo>
                  <a:lnTo>
                    <a:pt x="1871" y="2018"/>
                  </a:lnTo>
                  <a:lnTo>
                    <a:pt x="1842" y="2044"/>
                  </a:lnTo>
                  <a:lnTo>
                    <a:pt x="1809" y="2067"/>
                  </a:lnTo>
                  <a:lnTo>
                    <a:pt x="1774" y="2086"/>
                  </a:lnTo>
                  <a:lnTo>
                    <a:pt x="1734" y="2101"/>
                  </a:lnTo>
                  <a:lnTo>
                    <a:pt x="1694" y="2113"/>
                  </a:lnTo>
                  <a:lnTo>
                    <a:pt x="1650" y="2120"/>
                  </a:lnTo>
                  <a:lnTo>
                    <a:pt x="1603" y="2125"/>
                  </a:lnTo>
                  <a:lnTo>
                    <a:pt x="1553" y="2127"/>
                  </a:lnTo>
                  <a:lnTo>
                    <a:pt x="424" y="2127"/>
                  </a:lnTo>
                  <a:lnTo>
                    <a:pt x="369" y="2124"/>
                  </a:lnTo>
                  <a:lnTo>
                    <a:pt x="320" y="2118"/>
                  </a:lnTo>
                  <a:lnTo>
                    <a:pt x="273" y="2108"/>
                  </a:lnTo>
                  <a:lnTo>
                    <a:pt x="232" y="2094"/>
                  </a:lnTo>
                  <a:lnTo>
                    <a:pt x="192" y="2075"/>
                  </a:lnTo>
                  <a:lnTo>
                    <a:pt x="158" y="2054"/>
                  </a:lnTo>
                  <a:lnTo>
                    <a:pt x="127" y="2029"/>
                  </a:lnTo>
                  <a:lnTo>
                    <a:pt x="100" y="2001"/>
                  </a:lnTo>
                  <a:lnTo>
                    <a:pt x="76" y="1971"/>
                  </a:lnTo>
                  <a:lnTo>
                    <a:pt x="56" y="1938"/>
                  </a:lnTo>
                  <a:lnTo>
                    <a:pt x="38" y="1903"/>
                  </a:lnTo>
                  <a:lnTo>
                    <a:pt x="24" y="1866"/>
                  </a:lnTo>
                  <a:lnTo>
                    <a:pt x="14" y="1825"/>
                  </a:lnTo>
                  <a:lnTo>
                    <a:pt x="6" y="1785"/>
                  </a:lnTo>
                  <a:lnTo>
                    <a:pt x="1" y="1742"/>
                  </a:lnTo>
                  <a:lnTo>
                    <a:pt x="0" y="1698"/>
                  </a:lnTo>
                  <a:lnTo>
                    <a:pt x="0" y="1190"/>
                  </a:lnTo>
                  <a:lnTo>
                    <a:pt x="1" y="1132"/>
                  </a:lnTo>
                  <a:lnTo>
                    <a:pt x="6" y="1079"/>
                  </a:lnTo>
                  <a:lnTo>
                    <a:pt x="15" y="1030"/>
                  </a:lnTo>
                  <a:lnTo>
                    <a:pt x="27" y="985"/>
                  </a:lnTo>
                  <a:lnTo>
                    <a:pt x="42" y="946"/>
                  </a:lnTo>
                  <a:lnTo>
                    <a:pt x="60" y="911"/>
                  </a:lnTo>
                  <a:lnTo>
                    <a:pt x="82" y="879"/>
                  </a:lnTo>
                  <a:lnTo>
                    <a:pt x="109" y="851"/>
                  </a:lnTo>
                  <a:lnTo>
                    <a:pt x="138" y="829"/>
                  </a:lnTo>
                  <a:lnTo>
                    <a:pt x="171" y="808"/>
                  </a:lnTo>
                  <a:lnTo>
                    <a:pt x="209" y="792"/>
                  </a:lnTo>
                  <a:lnTo>
                    <a:pt x="249" y="779"/>
                  </a:lnTo>
                  <a:lnTo>
                    <a:pt x="295" y="769"/>
                  </a:lnTo>
                  <a:lnTo>
                    <a:pt x="344" y="762"/>
                  </a:lnTo>
                  <a:lnTo>
                    <a:pt x="397" y="758"/>
                  </a:lnTo>
                  <a:lnTo>
                    <a:pt x="455" y="756"/>
                  </a:lnTo>
                  <a:lnTo>
                    <a:pt x="1646" y="756"/>
                  </a:lnTo>
                  <a:lnTo>
                    <a:pt x="1648" y="482"/>
                  </a:lnTo>
                  <a:lnTo>
                    <a:pt x="1646" y="444"/>
                  </a:lnTo>
                  <a:lnTo>
                    <a:pt x="1637" y="414"/>
                  </a:lnTo>
                  <a:lnTo>
                    <a:pt x="1622" y="390"/>
                  </a:lnTo>
                  <a:lnTo>
                    <a:pt x="1603" y="371"/>
                  </a:lnTo>
                  <a:lnTo>
                    <a:pt x="1580" y="357"/>
                  </a:lnTo>
                  <a:lnTo>
                    <a:pt x="1552" y="347"/>
                  </a:lnTo>
                  <a:lnTo>
                    <a:pt x="1522" y="341"/>
                  </a:lnTo>
                  <a:lnTo>
                    <a:pt x="1488" y="340"/>
                  </a:lnTo>
                  <a:lnTo>
                    <a:pt x="163" y="340"/>
                  </a:lnTo>
                  <a:lnTo>
                    <a:pt x="163" y="0"/>
                  </a:lnTo>
                  <a:close/>
                  <a:moveTo>
                    <a:pt x="1646" y="1065"/>
                  </a:moveTo>
                  <a:lnTo>
                    <a:pt x="1646" y="1698"/>
                  </a:lnTo>
                  <a:lnTo>
                    <a:pt x="1643" y="1718"/>
                  </a:lnTo>
                  <a:lnTo>
                    <a:pt x="1634" y="1739"/>
                  </a:lnTo>
                  <a:lnTo>
                    <a:pt x="1623" y="1760"/>
                  </a:lnTo>
                  <a:lnTo>
                    <a:pt x="1607" y="1779"/>
                  </a:lnTo>
                  <a:lnTo>
                    <a:pt x="1589" y="1794"/>
                  </a:lnTo>
                  <a:lnTo>
                    <a:pt x="1569" y="1806"/>
                  </a:lnTo>
                  <a:lnTo>
                    <a:pt x="1547" y="1815"/>
                  </a:lnTo>
                  <a:lnTo>
                    <a:pt x="1527" y="1818"/>
                  </a:lnTo>
                  <a:lnTo>
                    <a:pt x="433" y="1818"/>
                  </a:lnTo>
                  <a:lnTo>
                    <a:pt x="407" y="1815"/>
                  </a:lnTo>
                  <a:lnTo>
                    <a:pt x="385" y="1809"/>
                  </a:lnTo>
                  <a:lnTo>
                    <a:pt x="366" y="1800"/>
                  </a:lnTo>
                  <a:lnTo>
                    <a:pt x="350" y="1787"/>
                  </a:lnTo>
                  <a:lnTo>
                    <a:pt x="338" y="1771"/>
                  </a:lnTo>
                  <a:lnTo>
                    <a:pt x="329" y="1753"/>
                  </a:lnTo>
                  <a:lnTo>
                    <a:pt x="324" y="1733"/>
                  </a:lnTo>
                  <a:lnTo>
                    <a:pt x="323" y="1712"/>
                  </a:lnTo>
                  <a:lnTo>
                    <a:pt x="323" y="1171"/>
                  </a:lnTo>
                  <a:lnTo>
                    <a:pt x="324" y="1147"/>
                  </a:lnTo>
                  <a:lnTo>
                    <a:pt x="330" y="1126"/>
                  </a:lnTo>
                  <a:lnTo>
                    <a:pt x="339" y="1107"/>
                  </a:lnTo>
                  <a:lnTo>
                    <a:pt x="352" y="1092"/>
                  </a:lnTo>
                  <a:lnTo>
                    <a:pt x="368" y="1080"/>
                  </a:lnTo>
                  <a:lnTo>
                    <a:pt x="387" y="1071"/>
                  </a:lnTo>
                  <a:lnTo>
                    <a:pt x="410" y="1066"/>
                  </a:lnTo>
                  <a:lnTo>
                    <a:pt x="436" y="1065"/>
                  </a:lnTo>
                  <a:lnTo>
                    <a:pt x="1646" y="1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76800" y="4060800"/>
              <a:ext cx="763560" cy="844560"/>
            </a:xfrm>
            <a:custGeom>
              <a:avLst/>
              <a:gdLst/>
              <a:ahLst/>
              <a:rect l="l" t="t" r="r" b="b"/>
              <a:pathLst>
                <a:path w="1923" h="2127">
                  <a:moveTo>
                    <a:pt x="1923" y="0"/>
                  </a:moveTo>
                  <a:lnTo>
                    <a:pt x="432" y="0"/>
                  </a:lnTo>
                  <a:lnTo>
                    <a:pt x="385" y="2"/>
                  </a:lnTo>
                  <a:lnTo>
                    <a:pt x="339" y="10"/>
                  </a:lnTo>
                  <a:lnTo>
                    <a:pt x="296" y="21"/>
                  </a:lnTo>
                  <a:lnTo>
                    <a:pt x="256" y="38"/>
                  </a:lnTo>
                  <a:lnTo>
                    <a:pt x="218" y="58"/>
                  </a:lnTo>
                  <a:lnTo>
                    <a:pt x="181" y="82"/>
                  </a:lnTo>
                  <a:lnTo>
                    <a:pt x="150" y="109"/>
                  </a:lnTo>
                  <a:lnTo>
                    <a:pt x="119" y="139"/>
                  </a:lnTo>
                  <a:lnTo>
                    <a:pt x="93" y="172"/>
                  </a:lnTo>
                  <a:lnTo>
                    <a:pt x="69" y="206"/>
                  </a:lnTo>
                  <a:lnTo>
                    <a:pt x="48" y="244"/>
                  </a:lnTo>
                  <a:lnTo>
                    <a:pt x="32" y="283"/>
                  </a:lnTo>
                  <a:lnTo>
                    <a:pt x="18" y="324"/>
                  </a:lnTo>
                  <a:lnTo>
                    <a:pt x="8" y="364"/>
                  </a:lnTo>
                  <a:lnTo>
                    <a:pt x="3" y="407"/>
                  </a:lnTo>
                  <a:lnTo>
                    <a:pt x="0" y="450"/>
                  </a:lnTo>
                  <a:lnTo>
                    <a:pt x="0" y="1689"/>
                  </a:lnTo>
                  <a:lnTo>
                    <a:pt x="3" y="1742"/>
                  </a:lnTo>
                  <a:lnTo>
                    <a:pt x="8" y="1793"/>
                  </a:lnTo>
                  <a:lnTo>
                    <a:pt x="18" y="1838"/>
                  </a:lnTo>
                  <a:lnTo>
                    <a:pt x="31" y="1881"/>
                  </a:lnTo>
                  <a:lnTo>
                    <a:pt x="47" y="1920"/>
                  </a:lnTo>
                  <a:lnTo>
                    <a:pt x="67" y="1957"/>
                  </a:lnTo>
                  <a:lnTo>
                    <a:pt x="91" y="1989"/>
                  </a:lnTo>
                  <a:lnTo>
                    <a:pt x="119" y="2018"/>
                  </a:lnTo>
                  <a:lnTo>
                    <a:pt x="150" y="2044"/>
                  </a:lnTo>
                  <a:lnTo>
                    <a:pt x="183" y="2066"/>
                  </a:lnTo>
                  <a:lnTo>
                    <a:pt x="219" y="2085"/>
                  </a:lnTo>
                  <a:lnTo>
                    <a:pt x="260" y="2100"/>
                  </a:lnTo>
                  <a:lnTo>
                    <a:pt x="303" y="2111"/>
                  </a:lnTo>
                  <a:lnTo>
                    <a:pt x="348" y="2120"/>
                  </a:lnTo>
                  <a:lnTo>
                    <a:pt x="398" y="2125"/>
                  </a:lnTo>
                  <a:lnTo>
                    <a:pt x="449" y="2127"/>
                  </a:lnTo>
                  <a:lnTo>
                    <a:pt x="1923" y="2127"/>
                  </a:lnTo>
                  <a:lnTo>
                    <a:pt x="1923" y="1818"/>
                  </a:lnTo>
                  <a:lnTo>
                    <a:pt x="449" y="1818"/>
                  </a:lnTo>
                  <a:lnTo>
                    <a:pt x="425" y="1817"/>
                  </a:lnTo>
                  <a:lnTo>
                    <a:pt x="403" y="1810"/>
                  </a:lnTo>
                  <a:lnTo>
                    <a:pt x="382" y="1801"/>
                  </a:lnTo>
                  <a:lnTo>
                    <a:pt x="366" y="1790"/>
                  </a:lnTo>
                  <a:lnTo>
                    <a:pt x="351" y="1775"/>
                  </a:lnTo>
                  <a:lnTo>
                    <a:pt x="339" y="1756"/>
                  </a:lnTo>
                  <a:lnTo>
                    <a:pt x="333" y="1734"/>
                  </a:lnTo>
                  <a:lnTo>
                    <a:pt x="331" y="1710"/>
                  </a:lnTo>
                  <a:lnTo>
                    <a:pt x="331" y="464"/>
                  </a:lnTo>
                  <a:lnTo>
                    <a:pt x="333" y="439"/>
                  </a:lnTo>
                  <a:lnTo>
                    <a:pt x="341" y="416"/>
                  </a:lnTo>
                  <a:lnTo>
                    <a:pt x="353" y="395"/>
                  </a:lnTo>
                  <a:lnTo>
                    <a:pt x="370" y="377"/>
                  </a:lnTo>
                  <a:lnTo>
                    <a:pt x="389" y="362"/>
                  </a:lnTo>
                  <a:lnTo>
                    <a:pt x="411" y="350"/>
                  </a:lnTo>
                  <a:lnTo>
                    <a:pt x="434" y="343"/>
                  </a:lnTo>
                  <a:lnTo>
                    <a:pt x="460" y="340"/>
                  </a:lnTo>
                  <a:lnTo>
                    <a:pt x="1923" y="340"/>
                  </a:lnTo>
                  <a:lnTo>
                    <a:pt x="19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Motorists’ use of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934320" y="59626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Journey times by car and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55680" y="1976400"/>
          <a:ext cx="84596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976400"/>
                    <a:ext cx="84596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163920" y="53625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14:13:59Z</dcterms:created>
  <dc:creator>David Leibling</dc:creator>
  <dc:description/>
  <dc:language>en-US</dc:language>
  <cp:lastModifiedBy>David Leibling</cp:lastModifiedBy>
  <cp:lastPrinted>2000-01-24T14:49:29Z</cp:lastPrinted>
  <dcterms:modified xsi:type="dcterms:W3CDTF">2000-01-24T14:49:30Z</dcterms:modified>
  <cp:revision>63</cp:revision>
  <dc:subject/>
  <dc:title>1999 Lex Report on Motoring</dc:title>
</cp:coreProperties>
</file>