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BCF-BC36-4DDE-B71E-80A815C6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75F-9363-476A-9B47-487ADA76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9D1-9137-448D-9876-FC26F6C9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592-E05B-42EF-A21C-7E5C51C7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89DD-C412-4F94-9265-D7B4EB0D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80A-6D33-455D-97E9-D023D2B8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4B5-204C-48C7-BDC0-35181ABD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9A3-B941-4C0C-875C-1CC0E26C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5FA-D64C-4C34-8B95-BC44AA0A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6B7-7108-4E02-80BD-DFC3A726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AD1-0709-4EB2-9205-5AB69A0F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884-5088-461E-A737-75964988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8CD0-3EE3-4C4D-927C-53547C9E7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RAC Report on Motoring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Disabled Drivers Survey</a:t>
            </a:r>
            <a:endParaRPr b="0" lang="en-US" sz="4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3" name="RAC" descr=""/>
          <p:cNvPicPr/>
          <p:nvPr/>
        </p:nvPicPr>
        <p:blipFill>
          <a:blip r:embed="rId1"/>
          <a:stretch/>
        </p:blipFill>
        <p:spPr>
          <a:xfrm>
            <a:off x="762120" y="5486400"/>
            <a:ext cx="48765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Why service the ca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1676520"/>
          <a:ext cx="8915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1905120"/>
                <a:gridCol w="1752480"/>
                <a:gridCol w="13716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isabled motor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ll motor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li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nufacturers’ say 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afe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eace of m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intain value of c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arran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Home shopping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2120" y="1676520"/>
          <a:ext cx="7619760" cy="4724280"/>
        </p:xfrm>
        <a:graphic>
          <a:graphicData uri="http://schemas.openxmlformats.org/drawingml/2006/table">
            <a:tbl>
              <a:tblPr/>
              <a:tblGrid>
                <a:gridCol w="3886200"/>
                <a:gridCol w="1981080"/>
                <a:gridCol w="17524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isabled motor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ll motor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ccess to intern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uy by mail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uy by intern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ill buy more by mail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ill buy more by intern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Time to park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-1676520" y="2209680"/>
          <a:ext cx="7388280" cy="39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76520" y="2209680"/>
                    <a:ext cx="738828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58920" y="1600200"/>
            <a:ext cx="76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How long on average does it take to find a parking spa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895480" y="2438280"/>
          <a:ext cx="7388280" cy="391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438280"/>
                    <a:ext cx="738828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826640" y="202572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sabl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5880" y="206064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l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Parking for disable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46200" y="2209680"/>
          <a:ext cx="849780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2209680"/>
                    <a:ext cx="849780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-287280" y="1371600"/>
            <a:ext cx="97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en you drive into a town/city centre to shop, which do you do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53280" y="58672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Misuse of orange badge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>
            <a:off x="343440" y="1449360"/>
            <a:ext cx="91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How widespread do you think is the misuse of orange or blue badg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i.e. users who are not disabled using them to park in reserve parking spaces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-1447920" y="25146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7920" y="25146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819520" y="2362320"/>
          <a:ext cx="777240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3623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826640" y="202572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sabl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25880" y="206064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l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isuse of disabled parking space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What do you think the penalty should be for misuse of disabled parking spaces?”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2217600"/>
          <a:ext cx="8686800" cy="42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17600"/>
                    <a:ext cx="8686800" cy="42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8153280" y="57150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Treatment of disabled driver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How do you rate the way you are treated as a disabled driver and provisions for disabled drivers?”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9200" y="1984320"/>
          <a:ext cx="863604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1984320"/>
                    <a:ext cx="863604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004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43400" y="6137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Improvements for disabled driver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5800" y="1981080"/>
          <a:ext cx="7772400" cy="3411720"/>
        </p:xfrm>
        <a:graphic>
          <a:graphicData uri="http://schemas.openxmlformats.org/drawingml/2006/table">
            <a:tbl>
              <a:tblPr/>
              <a:tblGrid>
                <a:gridCol w="6705720"/>
                <a:gridCol w="1066680"/>
              </a:tblGrid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ore parking spa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trol use of disabled ba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asier access to town cent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aise penalties for misuse of disabled parking spa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New services from RAC/AA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1828800"/>
          <a:ext cx="7772400" cy="4708440"/>
        </p:xfrm>
        <a:graphic>
          <a:graphicData uri="http://schemas.openxmlformats.org/drawingml/2006/table">
            <a:tbl>
              <a:tblPr/>
              <a:tblGrid>
                <a:gridCol w="6705720"/>
                <a:gridCol w="1066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iority rescue and recovery 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edicated phone/emergency button in c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dvice on new products for disabled driv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formation on hotel facil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formation on service station facil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heap fi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elp in getting car adap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isabled drivers are older, unlikely to be work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are very dependent on their ca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ose who can do use buses – for shopp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ncerned over availability and misuse of disabled parking spaces, seek higher penalti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ant priority rescue servic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The sample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in sampl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,378 motorists, interviewed at home, Sept/Oct 2000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cluded 87 orange badge holders – 1.7 mill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7 Motability drivers – 0.5 mill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isabled driver sampl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04 selected drivers from Motability (90) and DDA (14), interviewed at home, Sept/Oct 2000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Key characteristic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523880"/>
          <a:ext cx="7772400" cy="5220000"/>
        </p:xfrm>
        <a:graphic>
          <a:graphicData uri="http://schemas.openxmlformats.org/drawingml/2006/table">
            <a:tbl>
              <a:tblPr/>
              <a:tblGrid>
                <a:gridCol w="2057400"/>
                <a:gridCol w="1828800"/>
                <a:gridCol w="1943280"/>
                <a:gridCol w="1942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isab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otori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range ba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ol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ll motori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o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ge 65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or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rive every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ars/house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xpected length of own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.8y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.5 y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.7 y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verage mile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Adaptation of car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509840"/>
          <a:ext cx="7772400" cy="5119560"/>
        </p:xfrm>
        <a:graphic>
          <a:graphicData uri="http://schemas.openxmlformats.org/drawingml/2006/table">
            <a:tbl>
              <a:tblPr/>
              <a:tblGrid>
                <a:gridCol w="4114800"/>
                <a:gridCol w="1828800"/>
                <a:gridCol w="1828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heelchair users (3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on-wheel chair users (6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ar adapted on purch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ar adapted after purch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and 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ccelerator adap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nob on steering wh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ide lift/wheel chair 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wer st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utom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at adap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Reliance on car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I would find it very difficult to adjust my lifestyle to being without a car”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2286000"/>
          <a:ext cx="7772400" cy="16747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isab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otori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range ba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ol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ll motori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trongly ag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g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739080" y="4006800"/>
            <a:ext cx="5553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ould mi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nse of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bility to do s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isiting rel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oing to leisur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l motorists mention getting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Reliance on car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I would use my car less if public transport were easier for disabled people to use/better”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2400" cy="16765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isab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otori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range ba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ol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ll motori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g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+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+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+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isag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755640" y="4006800"/>
            <a:ext cx="835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at would make public transport 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etter facilities for disabled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asier access/wheelchair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oser to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l motorists men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ore frequent, cheaper and more reliabl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Use of public transpor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1676520"/>
          <a:ext cx="7925040" cy="4114800"/>
        </p:xfrm>
        <a:graphic>
          <a:graphicData uri="http://schemas.openxmlformats.org/drawingml/2006/table">
            <a:tbl>
              <a:tblPr/>
              <a:tblGrid>
                <a:gridCol w="2667240"/>
                <a:gridCol w="1295280"/>
                <a:gridCol w="1219320"/>
                <a:gridCol w="1447560"/>
                <a:gridCol w="12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uses/c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isab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isabled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/from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or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Visiting fami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ho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ei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chool r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 Unicode MS"/>
                        </a:rPr>
                        <a:t>Never use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 Unicode MS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 Unicode MS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276840" y="5867280"/>
            <a:ext cx="84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sabled drivers who can use public transport – 3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75% of disabled drivers and all motorists never use 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Maintenance check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here basic checks are done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981080" y="1981080"/>
          <a:ext cx="510552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12193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ocal ga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ri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I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reakdown serv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Location of servic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1676520"/>
          <a:ext cx="8915400" cy="3581280"/>
        </p:xfrm>
        <a:graphic>
          <a:graphicData uri="http://schemas.openxmlformats.org/drawingml/2006/table">
            <a:tbl>
              <a:tblPr/>
              <a:tblGrid>
                <a:gridCol w="3886200"/>
                <a:gridCol w="1905120"/>
                <a:gridCol w="1752480"/>
                <a:gridCol w="13716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isabled motor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ll motor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in dealer for m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in dealer for other m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Ga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I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4T09:06:52Z</dcterms:created>
  <dc:creator>David Leibling</dc:creator>
  <dc:description/>
  <dc:language>en-US</dc:language>
  <cp:lastModifiedBy>David Leibling</cp:lastModifiedBy>
  <dcterms:modified xsi:type="dcterms:W3CDTF">2001-02-19T17:52:37Z</dcterms:modified>
  <cp:revision>6</cp:revision>
  <dc:subject/>
  <dc:title>RAC Report on Motoring</dc:title>
</cp:coreProperties>
</file>