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4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:\final\Master5.jpg"/>
          <p:cNvPicPr/>
          <p:nvPr/>
        </p:nvPicPr>
        <p:blipFill>
          <a:blip r:embed="rId2"/>
          <a:srcRect l="0" t="87623" r="0" b="0"/>
          <a:stretch/>
        </p:blipFill>
        <p:spPr>
          <a:xfrm>
            <a:off x="-19080" y="6019920"/>
            <a:ext cx="9182160" cy="852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661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C:\Personal\R A C\ROMcoverred.jpg"/>
          <p:cNvPicPr/>
          <p:nvPr/>
        </p:nvPicPr>
        <p:blipFill>
          <a:blip r:embed="rId1"/>
          <a:stretch/>
        </p:blipFill>
        <p:spPr>
          <a:xfrm>
            <a:off x="380880" y="0"/>
            <a:ext cx="8374320" cy="118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Current and future car ownership in Britain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304920" y="1143000"/>
          <a:ext cx="10362960" cy="44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036296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5"/>
          <p:cNvSpPr/>
          <p:nvPr/>
        </p:nvSpPr>
        <p:spPr>
          <a:xfrm>
            <a:off x="267120" y="99072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Millions of car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Current and future car ownership in Britain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304920" y="1371600"/>
          <a:ext cx="10362960" cy="44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1036296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67120" y="99072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Millions of car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0" lang="en-GB" sz="3200" spc="-1" strike="noStrike">
                <a:solidFill>
                  <a:srgbClr val="ed6613"/>
                </a:solidFill>
                <a:latin typeface="Arial Unicode MS"/>
              </a:rPr>
              <a:t>I would find it very difficult to adjust my lifestyle to being without a car”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990720" y="1066680"/>
          <a:ext cx="845820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would use my car less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if public transport were better</a:t>
            </a:r>
            <a:r>
              <a:rPr b="0" lang="en-GB" sz="3200" spc="-1" strike="noStrike">
                <a:solidFill>
                  <a:srgbClr val="ed6613"/>
                </a:solidFill>
                <a:latin typeface="Arial Unicode MS"/>
              </a:rPr>
              <a:t>”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990720" y="1066680"/>
          <a:ext cx="845820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ependence on the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Green trave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Saf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"/>
                <a:ea typeface="Times New Roman"/>
              </a:rPr>
              <a:t>“</a:t>
            </a:r>
            <a:r>
              <a:rPr b="1" lang="en-GB" sz="2400" spc="-1" strike="noStrike">
                <a:solidFill>
                  <a:srgbClr val="ed6613"/>
                </a:solidFill>
                <a:latin typeface="Arial"/>
                <a:ea typeface="Times New Roman"/>
              </a:rPr>
              <a:t>Have you given up a journey in</a:t>
            </a:r>
            <a:r>
              <a:rPr b="1" lang="en-GB" sz="4800" spc="-1" strike="noStrike">
                <a:solidFill>
                  <a:srgbClr val="ed6613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ed6613"/>
                </a:solidFill>
                <a:latin typeface="Arial"/>
                <a:ea typeface="Times New Roman"/>
              </a:rPr>
              <a:t>the past 3 months </a:t>
            </a:r>
            <a:br>
              <a:rPr sz="2400"/>
            </a:br>
            <a:r>
              <a:rPr b="1" lang="en-GB" sz="2400" spc="-1" strike="noStrike">
                <a:solidFill>
                  <a:srgbClr val="ed6613"/>
                </a:solidFill>
                <a:latin typeface="Arial"/>
                <a:ea typeface="Times New Roman"/>
              </a:rPr>
              <a:t>because of congestion?”</a:t>
            </a:r>
            <a:br>
              <a:rPr sz="2400"/>
            </a:br>
            <a:r>
              <a:rPr b="1" lang="en-GB" sz="2400" spc="-1" strike="noStrike">
                <a:solidFill>
                  <a:srgbClr val="ed6613"/>
                </a:solidFill>
                <a:latin typeface="Arial"/>
                <a:ea typeface="Times New Roman"/>
              </a:rPr>
              <a:t>“Did you make the journey by an alternative means of transport?”</a:t>
            </a: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676520"/>
          <a:ext cx="7772400" cy="4216320"/>
        </p:xfrm>
        <a:graphic>
          <a:graphicData uri="http://schemas.openxmlformats.org/drawingml/2006/table">
            <a:tbl>
              <a:tblPr/>
              <a:tblGrid>
                <a:gridCol w="4191120"/>
                <a:gridCol w="358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motorist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andoned car because of conges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0 mill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ave up journey altogethe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0 mill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witched to: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/tube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 mill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 mill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lke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 mill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ik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 mill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 mill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  <a:ea typeface="Times New Roman"/>
              </a:rPr>
              <a:t>If you could switch one journey a week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"/>
                <a:ea typeface="Times New Roman"/>
              </a:rPr>
              <a:t>from your car to public transport,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"/>
                <a:ea typeface="Times New Roman"/>
              </a:rPr>
              <a:t>which journey would it be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1676520"/>
          <a:ext cx="5562720" cy="4267080"/>
        </p:xfrm>
        <a:graphic>
          <a:graphicData uri="http://schemas.openxmlformats.org/drawingml/2006/table">
            <a:tbl>
              <a:tblPr/>
              <a:tblGrid>
                <a:gridCol w="3886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hoppin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o town/city cent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ourney to work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 leisure facilities e.g. club/spo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sit to relative/frien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ru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one - wouldn't/couldn'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uld not specify journe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The school run</a:t>
            </a:r>
            <a:br>
              <a:rPr sz="3600"/>
            </a:br>
            <a:r>
              <a:rPr b="0" lang="en-GB" sz="24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“Why do you take your children to school by car?”</a:t>
            </a: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73" name="Object 92"/>
          <p:cNvGraphicFramePr/>
          <p:nvPr/>
        </p:nvGraphicFramePr>
        <p:xfrm>
          <a:off x="646200" y="1600200"/>
          <a:ext cx="84978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600200"/>
                    <a:ext cx="84978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The school run</a:t>
            </a:r>
            <a:br>
              <a:rPr sz="3600"/>
            </a:br>
            <a:r>
              <a:rPr b="0" lang="en-GB" sz="24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“What would make you give up taking your children to school by car?”</a:t>
            </a: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647640" y="1467000"/>
          <a:ext cx="973476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467000"/>
                    <a:ext cx="97347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ependence on the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n trave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Saf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,378 regular motor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ce to face in-home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ptember/October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hanced company car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Basis of research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Does your employer have any policies to reduce the impact of the cars on the environment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-533520" y="1371600"/>
          <a:ext cx="967752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371600"/>
                    <a:ext cx="967752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  <a:ea typeface="Times New Roman"/>
              </a:rPr>
              <a:t>“</a:t>
            </a:r>
            <a:r>
              <a:rPr b="0" lang="en-GB" sz="3200" spc="-1" strike="noStrike">
                <a:solidFill>
                  <a:srgbClr val="ed6613"/>
                </a:solidFill>
                <a:latin typeface="Arial"/>
                <a:ea typeface="Times New Roman"/>
              </a:rPr>
              <a:t>What should your company be doing </a:t>
            </a:r>
            <a:br>
              <a:rPr sz="3200"/>
            </a:br>
            <a:r>
              <a:rPr b="0" lang="en-GB" sz="3200" spc="-1" strike="noStrike">
                <a:solidFill>
                  <a:srgbClr val="ed6613"/>
                </a:solidFill>
                <a:latin typeface="Arial"/>
                <a:ea typeface="Times New Roman"/>
              </a:rPr>
              <a:t>to reduce the impact of cars on the environment?”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95280" y="2209680"/>
          <a:ext cx="6667560" cy="3565800"/>
        </p:xfrm>
        <a:graphic>
          <a:graphicData uri="http://schemas.openxmlformats.org/drawingml/2006/table">
            <a:tbl>
              <a:tblPr/>
              <a:tblGrid>
                <a:gridCol w="4991400"/>
                <a:gridCol w="167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thin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courage car sharin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maller/fewer company ca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witch to environmentally friendly  ca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public transport arrangement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nitor fuel consump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't know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ependence on the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Green trave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f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  <a:ea typeface="Times New Roman"/>
              </a:rPr>
              <a:t>In the past 12 months have you ever felt yourself  falling asleep or nodding off at the wheel?”</a:t>
            </a:r>
            <a:br>
              <a:rPr sz="2800"/>
            </a:b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0640" y="1847880"/>
          <a:ext cx="5562720" cy="3382920"/>
        </p:xfrm>
        <a:graphic>
          <a:graphicData uri="http://schemas.openxmlformats.org/drawingml/2006/table">
            <a:tbl>
              <a:tblPr/>
              <a:tblGrid>
                <a:gridCol w="3886200"/>
                <a:gridCol w="167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llions of “sleep” drive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  drive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rive over 20,000 miles a yea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Mileage and “sleep driving”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88" name="Object 1027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028"/>
          <p:cNvSpPr/>
          <p:nvPr/>
        </p:nvSpPr>
        <p:spPr>
          <a:xfrm>
            <a:off x="95040" y="1066680"/>
            <a:ext cx="33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% driving when too tired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683928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Scotland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Text Box 1030"/>
          <p:cNvSpPr/>
          <p:nvPr/>
        </p:nvSpPr>
        <p:spPr>
          <a:xfrm>
            <a:off x="1790640" y="27432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Midland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Text Box 1031"/>
          <p:cNvSpPr/>
          <p:nvPr/>
        </p:nvSpPr>
        <p:spPr>
          <a:xfrm>
            <a:off x="1986120" y="16765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London/Southeast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Text Box 1032"/>
          <p:cNvSpPr/>
          <p:nvPr/>
        </p:nvSpPr>
        <p:spPr>
          <a:xfrm>
            <a:off x="3153240" y="213372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North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Wales/Southwest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6613"/>
                </a:solidFill>
                <a:latin typeface="Arial Unicode MS"/>
              </a:rPr>
              <a:t>Under work pressure</a:t>
            </a:r>
            <a:br>
              <a:rPr sz="3600"/>
            </a:br>
            <a:endParaRPr b="0" lang="en-US" sz="36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-1905120" y="1676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-4680" y="136836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es your employer put you under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ssure to get to your destination on time?”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3124080" y="16765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4491720" y="1447920"/>
            <a:ext cx="45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es your employer set you unrealistic targets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require you to drive too fast/too long?”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43640" y="1143000"/>
            <a:ext cx="38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To get to destination on time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984920" y="1066680"/>
            <a:ext cx="41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Set unrealistic targets requiring driving too fast/too long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How dangerous do you think it is to drive a car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while doing the following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557600" y="3424320"/>
            <a:ext cx="27000" cy="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7"/>
          <p:cNvGraphicFramePr/>
          <p:nvPr/>
        </p:nvGraphicFramePr>
        <p:xfrm>
          <a:off x="838080" y="1612800"/>
          <a:ext cx="857268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12800"/>
                    <a:ext cx="857268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9"/>
          <p:cNvSpPr/>
          <p:nvPr/>
        </p:nvSpPr>
        <p:spPr>
          <a:xfrm>
            <a:off x="2571840" y="130968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Extremel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dangerou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7124040" y="12952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Not dangerou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4191120" y="1600200"/>
            <a:ext cx="2971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337360" y="20574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91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962520" y="297180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47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8381880" y="5410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How dangerous do you think it is to drive a car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while doing the following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557600" y="3424320"/>
            <a:ext cx="27000" cy="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Object 4"/>
          <p:cNvGraphicFramePr/>
          <p:nvPr/>
        </p:nvGraphicFramePr>
        <p:xfrm>
          <a:off x="838080" y="1612800"/>
          <a:ext cx="857268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12800"/>
                    <a:ext cx="857268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571840" y="130968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Extremely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dangerou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124040" y="12952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Not dangerou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4191120" y="1600200"/>
            <a:ext cx="2971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7360" y="20574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91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724280" y="3886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84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962520" y="297180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47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581280" y="48006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36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8381880" y="5410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6613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ed6613"/>
                </a:solidFill>
                <a:latin typeface="Arial"/>
              </a:rPr>
              <a:t>Which type of mobile phone do you use?”</a:t>
            </a:r>
            <a:endParaRPr b="0" lang="en-US" sz="36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3276720" y="1371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71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5"/>
          <p:cNvGraphicFramePr/>
          <p:nvPr/>
        </p:nvGraphicFramePr>
        <p:xfrm>
          <a:off x="-1143000" y="14479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143000" y="14479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6"/>
          <p:cNvSpPr/>
          <p:nvPr/>
        </p:nvSpPr>
        <p:spPr>
          <a:xfrm>
            <a:off x="1073520" y="1550880"/>
            <a:ext cx="31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Private car driver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0" y="1523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Company car driver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4572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Improving standards of younger drivers</a:t>
            </a:r>
            <a:br>
              <a:rPr sz="4400"/>
            </a:br>
            <a:r>
              <a:rPr b="0" lang="en-GB" sz="12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1143000"/>
          <a:ext cx="8458200" cy="4335480"/>
        </p:xfrm>
        <a:graphic>
          <a:graphicData uri="http://schemas.openxmlformats.org/drawingml/2006/table">
            <a:tbl>
              <a:tblPr/>
              <a:tblGrid>
                <a:gridCol w="6781680"/>
                <a:gridCol w="167652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agree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drivers to have supplementary training and a test</a:t>
                      </a: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n motorways after passing their test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pendence on the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n trave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f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4572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Improving standards of younger drivers</a:t>
            </a:r>
            <a:br>
              <a:rPr sz="4400"/>
            </a:br>
            <a:r>
              <a:rPr b="0" lang="en-GB" sz="12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458200" cy="4335480"/>
        </p:xfrm>
        <a:graphic>
          <a:graphicData uri="http://schemas.openxmlformats.org/drawingml/2006/table">
            <a:tbl>
              <a:tblPr/>
              <a:tblGrid>
                <a:gridCol w="6781680"/>
                <a:gridCol w="167652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agree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New drivers to have supplementary training and a test</a:t>
                      </a:r>
                      <a:r>
                        <a:rPr b="1" i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on motorways after passing their test</a:t>
                      </a:r>
                      <a:r>
                        <a:rPr b="1" lang="en-GB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ly qualified drivers to have a P plate for a year after passing their test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4572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Improving standards of younger drivers</a:t>
            </a:r>
            <a:br>
              <a:rPr sz="4400"/>
            </a:br>
            <a:r>
              <a:rPr b="0" lang="en-GB" sz="1200" spc="-1" strike="noStrike">
                <a:solidFill>
                  <a:srgbClr val="ed6613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143000"/>
          <a:ext cx="8458200" cy="4495680"/>
        </p:xfrm>
        <a:graphic>
          <a:graphicData uri="http://schemas.openxmlformats.org/drawingml/2006/table">
            <a:tbl>
              <a:tblPr/>
              <a:tblGrid>
                <a:gridCol w="6781680"/>
                <a:gridCol w="1676520"/>
              </a:tblGrid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agree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New drivers to have supplementary training and a test</a:t>
                      </a:r>
                      <a:r>
                        <a:rPr b="1" i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on motorways after passing their test</a:t>
                      </a:r>
                      <a:r>
                        <a:rPr b="1" lang="en-GB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b2b2b2"/>
                          </a:solidFill>
                          <a:latin typeface="Arial"/>
                          <a:ea typeface="Times New Roman"/>
                        </a:rPr>
                        <a:t>Newly qualified drivers to have a P plate for a year after passing their test</a:t>
                      </a:r>
                      <a:r>
                        <a:rPr b="1" lang="en-GB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arner drivers to take a minimum number of lessons with an approved instructor before taking their test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661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If you break down on a motorway, it is safer to remain inside your car rather than waiting outside</a:t>
            </a:r>
            <a:r>
              <a:rPr b="0" lang="en-GB" sz="3600" spc="-1" strike="noStrike">
                <a:solidFill>
                  <a:srgbClr val="ed6613"/>
                </a:solidFill>
                <a:latin typeface="Arial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143000" y="1523880"/>
          <a:ext cx="86360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86360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1295280" y="43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Men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086600" y="53341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29528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Women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20040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Disagree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029200" y="1766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Agree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Cars should be allowed to use the hard shoulder on motorways when there is heavy congestion</a:t>
            </a:r>
            <a:r>
              <a:rPr b="0" lang="en-GB" sz="2400" spc="-1" strike="noStrike">
                <a:solidFill>
                  <a:srgbClr val="ed6613"/>
                </a:solidFill>
                <a:latin typeface="Arial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1176480" y="1905120"/>
          <a:ext cx="628164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1905120"/>
                    <a:ext cx="62816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4"/>
          <p:cNvSpPr/>
          <p:nvPr/>
        </p:nvSpPr>
        <p:spPr>
          <a:xfrm>
            <a:off x="5562720" y="46483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9810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Disagree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4956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</a:rPr>
              <a:t>Agree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ependence on the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Green trave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Saf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Internet regulars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p up menu on RAC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13 respondents (2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ypically 600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Have you ever used the internet to get information on the following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0" y="990720"/>
          <a:ext cx="9080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080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7"/>
          <p:cNvSpPr/>
          <p:nvPr/>
        </p:nvSpPr>
        <p:spPr>
          <a:xfrm>
            <a:off x="593640" y="53481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lete capital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231040" y="541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 Unicode MS"/>
              </a:rPr>
              <a:t>Proportion who have used the internet to buy after gathering information</a:t>
            </a:r>
            <a:br>
              <a:rPr sz="2400"/>
            </a:b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0" y="990720"/>
          <a:ext cx="9080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080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4"/>
          <p:cNvSpPr/>
          <p:nvPr/>
        </p:nvSpPr>
        <p:spPr>
          <a:xfrm>
            <a:off x="593640" y="53481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lete capital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Motoring websites </a:t>
            </a:r>
            <a:br>
              <a:rPr sz="3200"/>
            </a:b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Familiarity and usage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0" y="990720"/>
          <a:ext cx="9080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080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4"/>
          <p:cNvSpPr/>
          <p:nvPr/>
        </p:nvSpPr>
        <p:spPr>
          <a:xfrm>
            <a:off x="593640" y="53481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lete capital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153280" y="53341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0" y="1676520"/>
          <a:ext cx="8636040" cy="45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63604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3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6613"/>
                </a:solidFill>
                <a:latin typeface="Arial Unicode MS"/>
              </a:rPr>
              <a:t>Ease of accessing and using the interne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295280" y="3505320"/>
            <a:ext cx="9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Using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865440" y="12952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Accessing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707160" y="5486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Motoring websites - Useful services 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0" y="1219320"/>
          <a:ext cx="1000116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1000116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Do you ever buy goods from home using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the telephone/fax, mail order or over the internet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-1371600" y="304920"/>
          <a:ext cx="1051560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304920"/>
                    <a:ext cx="105156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In future, do you think you will buy more or less goods </a:t>
            </a:r>
            <a:br>
              <a:rPr sz="2800"/>
            </a:br>
            <a:r>
              <a:rPr b="0" lang="en-GB" sz="2800" spc="-1" strike="noStrike">
                <a:solidFill>
                  <a:srgbClr val="ed6613"/>
                </a:solidFill>
                <a:latin typeface="Arial Unicode MS"/>
              </a:rPr>
              <a:t>via phone/fax/mail order or over the internet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457200" y="1600200"/>
          <a:ext cx="815328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6"/>
          <p:cNvSpPr/>
          <p:nvPr/>
        </p:nvSpPr>
        <p:spPr>
          <a:xfrm>
            <a:off x="3347640" y="137160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More                      Same                       Les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ed6613"/>
                </a:solidFill>
                <a:latin typeface="Arial"/>
              </a:rPr>
              <a:t>Do you support home shopping if it leads to increased vans and lorries in residential streets?”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0" y="1371600"/>
          <a:ext cx="937260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372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The sample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,378 motorists, interviewed at home, Sept/Oct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luded 87 orange badge holders – 1.7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7 Motability drivers – 0.5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abled drive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4 selected drivers from Motability (90) and DDA (14), interviewed at home, Sept/Oct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Key characteristics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295280"/>
          <a:ext cx="7772400" cy="4632480"/>
        </p:xfrm>
        <a:graphic>
          <a:graphicData uri="http://schemas.openxmlformats.org/drawingml/2006/table">
            <a:tbl>
              <a:tblPr/>
              <a:tblGrid>
                <a:gridCol w="2057400"/>
                <a:gridCol w="1752480"/>
                <a:gridCol w="2019600"/>
                <a:gridCol w="1942920"/>
              </a:tblGrid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ble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ist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nge bad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de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motorist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e 65+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rkin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ive every da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/househ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pected length of ownershi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8y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5 y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7 y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milea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5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Reliance on car</a:t>
            </a:r>
            <a:br>
              <a:rPr sz="4400"/>
            </a:br>
            <a:r>
              <a:rPr b="1" lang="en-GB" sz="2400" spc="-1" strike="noStrike">
                <a:solidFill>
                  <a:srgbClr val="ed6613"/>
                </a:solidFill>
                <a:latin typeface="Arial"/>
              </a:rPr>
              <a:t>“I would find it very difficult to adjust my lifestyle to being without a car”</a:t>
            </a: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1676520"/>
          <a:ext cx="7772400" cy="1676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ble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ist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nge bad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de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motorist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ngly agre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25"/>
          <p:cNvSpPr/>
          <p:nvPr/>
        </p:nvSpPr>
        <p:spPr>
          <a:xfrm>
            <a:off x="754920" y="3505320"/>
            <a:ext cx="555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Unicode MS"/>
              </a:rPr>
              <a:t>Would miss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Sense of freedom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Ability to do shopping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Visiting relative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Going to leisure activitie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Unicode MS"/>
              </a:rPr>
              <a:t>All motorists mention getting to work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Reliance on car</a:t>
            </a:r>
            <a:br>
              <a:rPr sz="4400"/>
            </a:br>
            <a:r>
              <a:rPr b="1" lang="en-GB" sz="2400" spc="-1" strike="noStrike">
                <a:solidFill>
                  <a:srgbClr val="ed6613"/>
                </a:solidFill>
                <a:latin typeface="Arial"/>
              </a:rPr>
              <a:t>“I would use my car less if public transport were easier for disabled people to use/better”</a:t>
            </a: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1371600"/>
          <a:ext cx="7772400" cy="16765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ble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ist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nge bad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de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motorist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25"/>
          <p:cNvSpPr/>
          <p:nvPr/>
        </p:nvSpPr>
        <p:spPr>
          <a:xfrm>
            <a:off x="542880" y="3352680"/>
            <a:ext cx="835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Unicode MS"/>
              </a:rPr>
              <a:t>What would make public transport better: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Better facilities for disabled people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asier access/wheelchair acces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Closer to home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Unicode MS"/>
              </a:rPr>
              <a:t>All motorists mention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More frequent, cheaper and more reliable service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pendence on the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Green trave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Saf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Home shopping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2120" y="1143000"/>
          <a:ext cx="7619760" cy="4929120"/>
        </p:xfrm>
        <a:graphic>
          <a:graphicData uri="http://schemas.openxmlformats.org/drawingml/2006/table">
            <a:tbl>
              <a:tblPr/>
              <a:tblGrid>
                <a:gridCol w="3886200"/>
                <a:gridCol w="1981080"/>
                <a:gridCol w="17524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bled motorist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motorist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interne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y by mail ord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y by interne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l buy more by mail ord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l buy more by interne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Parking for disabled</a:t>
            </a:r>
            <a:br>
              <a:rPr sz="4000"/>
            </a:b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646200" y="1752480"/>
          <a:ext cx="84978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752480"/>
                    <a:ext cx="84978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4"/>
          <p:cNvSpPr/>
          <p:nvPr/>
        </p:nvSpPr>
        <p:spPr>
          <a:xfrm>
            <a:off x="-597600" y="1371600"/>
            <a:ext cx="103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When you drive into a town/city centre to shop, which do you do?”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 flipV="1">
            <a:off x="8153280" y="54072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6613"/>
                </a:solidFill>
                <a:latin typeface="Arial"/>
              </a:rPr>
              <a:t>Misuse of orange badges</a:t>
            </a:r>
            <a:endParaRPr b="0" lang="en-US" sz="36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15280" y="1042920"/>
            <a:ext cx="92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How widespread do you think is the misuse of orange or blue badges,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i.e. users who are not disabled using them to park in reserved spaces?”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447920" y="2514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2514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5"/>
          <p:cNvGraphicFramePr/>
          <p:nvPr/>
        </p:nvGraphicFramePr>
        <p:xfrm>
          <a:off x="2819520" y="220968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"/>
          <p:cNvSpPr/>
          <p:nvPr/>
        </p:nvSpPr>
        <p:spPr>
          <a:xfrm>
            <a:off x="1313640" y="205740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Disabled driver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767200" y="20606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 Unicode MS"/>
              </a:rPr>
              <a:t>All driver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Treatment of disabled drivers</a:t>
            </a:r>
            <a:br>
              <a:rPr sz="3200"/>
            </a:br>
            <a:r>
              <a:rPr b="1" lang="en-GB" sz="2400" spc="-1" strike="noStrike">
                <a:solidFill>
                  <a:srgbClr val="ed6613"/>
                </a:solidFill>
                <a:latin typeface="Arial"/>
              </a:rPr>
              <a:t>“How do you rate the way you are treated as a disabled driver and provisions for disabled drivers?”</a:t>
            </a: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0" y="152388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088040" y="541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Improvements for disabled drivers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371600"/>
          <a:ext cx="7772400" cy="3413160"/>
        </p:xfrm>
        <a:graphic>
          <a:graphicData uri="http://schemas.openxmlformats.org/drawingml/2006/table">
            <a:tbl>
              <a:tblPr/>
              <a:tblGrid>
                <a:gridCol w="6705720"/>
                <a:gridCol w="106668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parking spac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use of disabled badg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ier access to town centr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se penalties for misuse of disabled parking spac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New services from RAC/AA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295280"/>
          <a:ext cx="7772400" cy="4572000"/>
        </p:xfrm>
        <a:graphic>
          <a:graphicData uri="http://schemas.openxmlformats.org/drawingml/2006/table">
            <a:tbl>
              <a:tblPr/>
              <a:tblGrid>
                <a:gridCol w="6705720"/>
                <a:gridCol w="1066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 rescue and recovery servic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dicated phone/emergency button in ca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n new products for disabled drive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 on hotel facili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 on service station facili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ap financ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p in getting car adapte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Travelling abroad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-457200" y="304920"/>
          <a:ext cx="96156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304920"/>
                    <a:ext cx="96156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4"/>
          <p:cNvSpPr/>
          <p:nvPr/>
        </p:nvSpPr>
        <p:spPr>
          <a:xfrm>
            <a:off x="675360" y="1371600"/>
            <a:ext cx="78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w many times have you taken your car to the continent in the past 12 months?”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16640" y="1143000"/>
            <a:ext cx="87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How often have you taken your car abroad in the past 12 months?”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Covering the car abroad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646200" y="1752480"/>
          <a:ext cx="849780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752480"/>
                    <a:ext cx="849780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4"/>
          <p:cNvSpPr/>
          <p:nvPr/>
        </p:nvSpPr>
        <p:spPr>
          <a:xfrm>
            <a:off x="-606960" y="1066680"/>
            <a:ext cx="103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6613"/>
                </a:solidFill>
                <a:latin typeface="Arial Unicode MS"/>
              </a:rPr>
              <a:t>“</a:t>
            </a: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Do you take out vehicle breakdown insurance when you take your car abroad?”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8078760" y="5181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Number of driving licence holders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3657600"/>
                <a:gridCol w="1371600"/>
                <a:gridCol w="1371600"/>
                <a:gridCol w="1371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Membership of breakdown organisations</a:t>
            </a:r>
            <a:br>
              <a:rPr sz="2800"/>
            </a:br>
            <a:r>
              <a:rPr b="0" i="1" lang="en-GB" sz="2800" spc="-1" strike="noStrike">
                <a:solidFill>
                  <a:srgbClr val="ed6613"/>
                </a:solidFill>
                <a:latin typeface="Arial"/>
              </a:rPr>
              <a:t>by age of car</a:t>
            </a:r>
            <a:endParaRPr b="0" lang="en-US" sz="2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39" name="Object 3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613"/>
                </a:solidFill>
                <a:latin typeface="Arial"/>
                <a:ea typeface="Times New Roman"/>
              </a:rPr>
              <a:t>Which services should be provided by an organisation like RAC or AA?</a:t>
            </a:r>
            <a:br>
              <a:rPr sz="2400"/>
            </a:br>
            <a:endParaRPr b="0" lang="en-US" sz="2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914400"/>
          <a:ext cx="7772400" cy="5118120"/>
        </p:xfrm>
        <a:graphic>
          <a:graphicData uri="http://schemas.openxmlformats.org/drawingml/2006/table">
            <a:tbl>
              <a:tblPr/>
              <a:tblGrid>
                <a:gridCol w="4648320"/>
                <a:gridCol w="1676160"/>
                <a:gridCol w="1447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 menti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p 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adside rescue and recover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vel and traffic inform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tor insuranc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vel books and map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 and legal servic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hicle securit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ormation on car model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ling used cars and warranties and inspecti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  <a:ea typeface="Times New Roman"/>
              </a:rPr>
              <a:t>Reasons for not taking out membership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 can't afford it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1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or friends help ou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 have never got round to i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 can fix the car myself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 think it's too expensive to jo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y car has low mileag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 never break dow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Membership of breakdown organisations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85800" y="1295280"/>
          <a:ext cx="8001000" cy="4724640"/>
        </p:xfrm>
        <a:graphic>
          <a:graphicData uri="http://schemas.openxmlformats.org/drawingml/2006/table">
            <a:tbl>
              <a:tblPr/>
              <a:tblGrid>
                <a:gridCol w="4800600"/>
                <a:gridCol w="160020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llion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vered for roadside assistanc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8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 these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een Fla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itanni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rect Lin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rance compan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nufacturers’ own schem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Length of membership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600200"/>
          <a:ext cx="7772400" cy="42372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Yea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% over 10 year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%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C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%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een Flag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itanni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%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6613"/>
                </a:solidFill>
                <a:latin typeface="Arial"/>
              </a:rPr>
              <a:t>Usage of breakdown organisations</a:t>
            </a:r>
            <a:br>
              <a:rPr sz="2800"/>
            </a:br>
            <a:r>
              <a:rPr b="0" lang="en-GB" sz="1800" spc="-1" strike="noStrike">
                <a:solidFill>
                  <a:srgbClr val="ed6613"/>
                </a:solidFill>
                <a:latin typeface="Arial"/>
              </a:rPr>
              <a:t>No. of call outs in past 12 months</a:t>
            </a:r>
            <a:endParaRPr b="0" lang="en-US" sz="18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  <a:ea typeface="Times New Roman"/>
              </a:rPr>
              <a:t>No. of call outs in past 12 months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85800" y="1295280"/>
          <a:ext cx="7010280" cy="4515120"/>
        </p:xfrm>
        <a:graphic>
          <a:graphicData uri="http://schemas.openxmlformats.org/drawingml/2006/table">
            <a:tbl>
              <a:tblPr/>
              <a:tblGrid>
                <a:gridCol w="2438280"/>
                <a:gridCol w="1524240"/>
                <a:gridCol w="1523880"/>
                <a:gridCol w="1523880"/>
              </a:tblGrid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A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een Fla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age of cars covere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or mo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  <a:ea typeface="Times New Roman"/>
              </a:rPr>
              <a:t>Awareness of change of ownership/</a:t>
            </a:r>
            <a:br>
              <a:rPr sz="4000"/>
            </a:br>
            <a:r>
              <a:rPr b="0" lang="en-GB" sz="4000" spc="-1" strike="noStrike">
                <a:solidFill>
                  <a:srgbClr val="ed6613"/>
                </a:solidFill>
                <a:latin typeface="Arial"/>
                <a:ea typeface="Times New Roman"/>
              </a:rPr>
              <a:t>change in level of service</a:t>
            </a: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1600200"/>
          <a:ext cx="7772400" cy="4392720"/>
        </p:xfrm>
        <a:graphic>
          <a:graphicData uri="http://schemas.openxmlformats.org/drawingml/2006/table">
            <a:tbl>
              <a:tblPr/>
              <a:tblGrid>
                <a:gridCol w="2666880"/>
                <a:gridCol w="1905120"/>
                <a:gridCol w="1600200"/>
                <a:gridCol w="16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A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een Fla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aware of chang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% saying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tter servic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chang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lightly wors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’t kn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ed6613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ed6613"/>
                </a:solidFill>
                <a:latin typeface="Arial"/>
                <a:ea typeface="Times New Roman"/>
              </a:rPr>
              <a:t>Loyalty to motoring organisation</a:t>
            </a:r>
            <a:r>
              <a:rPr b="1" i="1" lang="en-GB" sz="4000" spc="-1" strike="noStrike">
                <a:solidFill>
                  <a:srgbClr val="ed6613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1295280"/>
          <a:ext cx="8229600" cy="448812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1371600"/>
                <a:gridCol w="1371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A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een Fla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nly change if bad experienc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ver think of changin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ange if cost were 10% to 20% cheape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ways shop around when renew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mily has always belonge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gularly change  supplier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't know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Number of driving licence holders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3657600"/>
                <a:gridCol w="1371600"/>
                <a:gridCol w="1371600"/>
                <a:gridCol w="1371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 grow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Company cars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 million company c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million employer provi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million business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ast 2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0.3 million have given up c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0.2 million have taken c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0.1 million have stayed with car rather than cas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% of private drivers get mileage allowanc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0.7 million c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Dependence on company car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What would make people give up their company car?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th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of job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ig cash lump sum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 salary increase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8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ig increase in taxation 14%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Awareness of change in company car tax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69" name="Object 3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4"/>
          <p:cNvSpPr/>
          <p:nvPr/>
        </p:nvSpPr>
        <p:spPr>
          <a:xfrm>
            <a:off x="1066680" y="4952880"/>
            <a:ext cx="274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Private owner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in work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429000" y="4952880"/>
            <a:ext cx="27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Company car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ed6613"/>
                </a:solidFill>
                <a:latin typeface="Arial Unicode MS"/>
              </a:rPr>
              <a:t>drivers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ernet/home sh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Disable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Taking the car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of breakdown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mpany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ing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What will happen by 2010?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4325760" y="1751040"/>
          <a:ext cx="481824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1751040"/>
                    <a:ext cx="481824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4"/>
          <p:cNvSpPr/>
          <p:nvPr/>
        </p:nvSpPr>
        <p:spPr>
          <a:xfrm>
            <a:off x="0" y="1295280"/>
            <a:ext cx="579132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ver half will work at home via computer    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+55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will cost £10 per day to drive into towns     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+45</a:t>
            </a: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ver half will do shopping by computer  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+37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627640" y="1523880"/>
            <a:ext cx="65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GB" sz="2000" spc="-1" strike="noStrike">
                <a:solidFill>
                  <a:srgbClr val="ffff00"/>
                </a:solidFill>
                <a:latin typeface="Arial Unicode MS"/>
              </a:rPr>
              <a:t>Net will happen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  Won’t happen    Will happen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8381880" y="5410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What will happen by 2010?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4495680" y="1827360"/>
          <a:ext cx="464832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827360"/>
                    <a:ext cx="464832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4"/>
          <p:cNvSpPr/>
          <p:nvPr/>
        </p:nvSpPr>
        <p:spPr>
          <a:xfrm>
            <a:off x="345600" y="1674720"/>
            <a:ext cx="4878000" cy="36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will cost £10 a day          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park in the office      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+20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nly cars with at least 2 people     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llowed during rush hours  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-1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eople will use public transport more  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–7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639160" y="152388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GB" sz="2000" spc="-1" strike="noStrike">
                <a:solidFill>
                  <a:srgbClr val="ffff00"/>
                </a:solidFill>
                <a:latin typeface="Arial Unicode MS"/>
              </a:rPr>
              <a:t>Net will happen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    Won’t happen          Will happen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838188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-380880" y="1965240"/>
            <a:ext cx="53337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ll new cars will run on electricity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–53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nly one car allowed per household </a:t>
            </a:r>
            <a:r>
              <a:rPr b="1" lang="en-GB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–62</a:t>
            </a: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6613"/>
                </a:solidFill>
                <a:latin typeface="Arial"/>
              </a:rPr>
              <a:t>What will happen by 2010?</a:t>
            </a:r>
            <a:endParaRPr b="0" lang="en-US" sz="32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618640" y="1830240"/>
            <a:ext cx="63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GB" sz="2000" spc="-1" strike="noStrike">
                <a:solidFill>
                  <a:srgbClr val="ffff00"/>
                </a:solidFill>
                <a:latin typeface="Arial Unicode MS"/>
              </a:rPr>
              <a:t>Net will happen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    Won’t happen    Will happen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4325760" y="1752480"/>
          <a:ext cx="4818240" cy="43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1752480"/>
                    <a:ext cx="481824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6"/>
          <p:cNvSpPr/>
          <p:nvPr/>
        </p:nvSpPr>
        <p:spPr>
          <a:xfrm>
            <a:off x="8381880" y="54100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</a:rPr>
              <a:t>%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d6613"/>
                </a:solidFill>
                <a:latin typeface="Arial"/>
              </a:rPr>
              <a:t>Other topics</a:t>
            </a:r>
            <a:endParaRPr b="0" lang="en-US" sz="4400" spc="-1" strike="noStrike">
              <a:solidFill>
                <a:srgbClr val="ed661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ying our c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quency of purc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spection and warran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nding of c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ge in excise du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6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oking after our c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ple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cars are servi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tisfaction with servi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ufacturers p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d661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ission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Personal\R A C\ROMcoverred.jpg"/>
          <p:cNvPicPr/>
          <p:nvPr/>
        </p:nvPicPr>
        <p:blipFill>
          <a:blip r:embed="rId1"/>
          <a:stretch/>
        </p:blipFill>
        <p:spPr>
          <a:xfrm>
            <a:off x="380880" y="0"/>
            <a:ext cx="8374320" cy="118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Number of driving licence holders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3657600"/>
                <a:gridCol w="1371600"/>
                <a:gridCol w="1371600"/>
                <a:gridCol w="1371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opulation grow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3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graphic chang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d6613"/>
                </a:solidFill>
                <a:latin typeface="Arial"/>
              </a:rPr>
              <a:t>Number of driving licence holders</a:t>
            </a:r>
            <a:endParaRPr b="0" lang="en-US" sz="4000" spc="-1" strike="noStrike">
              <a:solidFill>
                <a:srgbClr val="ed6613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3657600"/>
                <a:gridCol w="1371600"/>
                <a:gridCol w="1371600"/>
                <a:gridCol w="1371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opulation grow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3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emographic chang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1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3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 holders increas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8:25:26Z</dcterms:created>
  <dc:creator>MarneyH</dc:creator>
  <dc:description/>
  <dc:language>en-US</dc:language>
  <cp:lastModifiedBy>David Leibling</cp:lastModifiedBy>
  <dcterms:modified xsi:type="dcterms:W3CDTF">2016-10-09T09:39:43Z</dcterms:modified>
  <cp:revision>28</cp:revision>
  <dc:subject/>
  <dc:title>No Slide Title</dc:title>
</cp:coreProperties>
</file>