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63.jpeg" ContentType="image/jpeg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D73-34D8-44A4-A8FA-37C4DC78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0DB-4C3F-4005-9014-92EE15B6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C6A-A27C-416D-8709-DE48E85E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9EE-5398-4E34-80F4-17A7E8E3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63B-DB3E-483C-8132-228DEE6B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0CF-F1D1-4174-AA51-0A72F8FB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AB7-82C5-405F-A930-940F0A80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B41-ADAD-4238-BD15-B112938F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D03-4216-4C71-BBA0-50EAF343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20F-D801-4B77-A7A3-84EEAEDC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F9C-BBF5-44BA-A301-D408AAEC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84A-D07D-4A1C-BAA0-1DFD5202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DCB9-E599-48E4-BF30-F489A1D72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1.1 Dependence on the car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I would find it very difficult to adjust my lifestyle to being without a c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066680" y="586728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(1,3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1.13 School ru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46200" y="2209680"/>
          <a:ext cx="84978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2209680"/>
                    <a:ext cx="84978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27760" y="1447920"/>
            <a:ext cx="641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you take your children to school by ca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6234120"/>
            <a:ext cx="487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ho take their children to school by car (9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60199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age and “sleep driv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223920" y="175248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% driving when too t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41800" y="2529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t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88920" y="32907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90600" y="237636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don/South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06440" y="2757600"/>
            <a:ext cx="194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les/South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Dependence on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Safe dr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or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Target road safety among flee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Make driving while tired an unacceptabl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Improve the driving standards of novices and experienced   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Incentivise a reduction in school car journ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Raise the awareness of safety measures on the motorwa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Maintain ready access for disabl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type of phone do you use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-990720" y="18288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90720" y="18288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2514600" y="1905120"/>
          <a:ext cx="77724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9051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1140840" y="19051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76920" y="190512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work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-1600200" y="17524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17524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-4680" y="1368360"/>
            <a:ext cx="42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your employer put you un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 to get to your destination on tim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590920" y="1676520"/>
          <a:ext cx="77724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6765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4491720" y="1447920"/>
            <a:ext cx="45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your employer set you unrealistic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require you to drive too fast/too long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break down on a motorway, it is safer to remain inside your car rather than waiting outsi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0" y="1905120"/>
          <a:ext cx="8636040" cy="45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63604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0" y="58672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5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ag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9880" y="1919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s should be allowed to use the hard shoulder on motorways when there is heavy conges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0" y="1905120"/>
          <a:ext cx="8636040" cy="45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63604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0" y="58672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810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ag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1919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762120" y="457200"/>
            <a:ext cx="91440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standards of younger driver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685800" y="1981080"/>
          <a:ext cx="7772400" cy="4710240"/>
        </p:xfrm>
        <a:graphic>
          <a:graphicData uri="http://schemas.openxmlformats.org/drawingml/2006/table">
            <a:tbl>
              <a:tblPr/>
              <a:tblGrid>
                <a:gridCol w="6477120"/>
                <a:gridCol w="129528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agree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drivers should be required to have supplementary training and a test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motorways after they have passed their te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ly qualified drivers should have a P (probationary) plate for a year after passing their te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er drivers should be required to tak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inimum number of lessons with an approved instructor before taking their driving te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1.14 Alternatives to the School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360" y="2214720"/>
          <a:ext cx="84744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2214720"/>
                    <a:ext cx="84744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66400" y="1447920"/>
            <a:ext cx="88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factors would help you change your mind and not take your children to school by c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3160" y="6340320"/>
            <a:ext cx="474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ho take their children to school by car (9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2920" y="6172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2.1 Distractions while driv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How dangerous do you think it is to drive a c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oing the following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1981080"/>
          <a:ext cx="863604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6360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6234120"/>
            <a:ext cx="662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 All motorists (6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/*1997 Lex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43400" y="613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19200" y="52992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06480" y="16416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doing activity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2.3 Use of mobile phones in c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-990720" y="18288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90720" y="18288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191320" y="1336680"/>
            <a:ext cx="45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ype of phone do you us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71500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ho use mobile phone in car (26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8120" y="1905120"/>
          <a:ext cx="77724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9051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140840" y="19051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90512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2.5 Under work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-1600200" y="17524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17524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-4680" y="1368360"/>
            <a:ext cx="42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your employer put you un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 to get to your destination on tim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571500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ho are working full or part time (39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90920" y="1676520"/>
          <a:ext cx="77724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6765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491720" y="1447920"/>
            <a:ext cx="45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your employer set you unrealistic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require you to drive too fast/too long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2.8 Safety on motorways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How strongly do you agree/disagree with the following?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break down on a motorway, it is safer to remain inside your car rather than waiting out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ars should be allowed to use the hard shoulder on motorways when there is heavy conges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981080"/>
          <a:ext cx="863604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6360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62341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6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fer to stay in 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43200" y="5908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3.1 Travelling ab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617840"/>
          <a:ext cx="8458200" cy="44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17840"/>
                    <a:ext cx="8458200" cy="44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75360" y="1371600"/>
            <a:ext cx="78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times have you taken your car to the continent in the past 12 months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71500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6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3.2 Covering the car ab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46200" y="2217600"/>
          <a:ext cx="8497800" cy="42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2217600"/>
                    <a:ext cx="849780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12280" y="1496880"/>
            <a:ext cx="84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take out vehicle breakdown insurance when you take your car abroad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0199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ho have taken their car  abroad (7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62720" y="6289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3.3 Covering the driver ab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50880" y="2216160"/>
          <a:ext cx="8488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2216160"/>
                    <a:ext cx="8488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15520" y="1496880"/>
            <a:ext cx="733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take out personal insurance (medical expenses and baggag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you take your car abroad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60199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ho have taken car abroad (7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34120" y="613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3.4 Holidays in Bri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617840"/>
          <a:ext cx="8458200" cy="44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17840"/>
                    <a:ext cx="8458200" cy="44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78240" y="1371600"/>
            <a:ext cx="66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times have you taken your car on a holiday or short br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 Britain in the past 12 months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71500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6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1.3 Reliance on car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What would you miss most if you did not have a ca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212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0552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4680" y="3581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41292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458640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9920" y="5105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25909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4680" y="312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571500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(1,3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91120" y="5756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21000" y="17524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m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3.7 Value of temporary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0440" y="1371600"/>
            <a:ext cx="52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useful do you find the temporary direction sig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t up by RAC and the AA for specific events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571500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6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4.4 What will happen by 20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478400" y="2109960"/>
          <a:ext cx="4817880" cy="42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0" y="2109960"/>
                    <a:ext cx="48178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893600" y="1523880"/>
            <a:ext cx="50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of these will happen by the year 2010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0199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6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4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8360" y="1676520"/>
            <a:ext cx="4813560" cy="44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eople will work at home via computer +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cks banned from town centres during rush hours +4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cost £10 per day to drive into towns  +4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ars will have automatic guidance systems +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eople will do shopping by computer +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cost £10 per day to park at the office  +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cars with 2 people allowed during rush hours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will use public transport more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50 mph on motorways to conserve fuel  -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75s not allowed to drive  -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new cars will run on electricity –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one car allowed per household –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80720" y="1828800"/>
            <a:ext cx="58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will happen     Won’t happen          Will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15000" y="613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4.6 Current and future car ownership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ssed up estimates of number of cars in Britain at time of surveys and expectations in two years’ time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62120" y="1676520"/>
          <a:ext cx="777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68400" y="5954760"/>
            <a:ext cx="29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4.7 Length of ownership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versus company ca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680920" y="24620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1828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5040" y="40384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2200" y="2971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3720" y="595476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verage length of ownership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versus used ca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year of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1676520"/>
          <a:ext cx="777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968400" y="5954760"/>
            <a:ext cx="29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4.8 Average length of ownership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versus used ca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ge of car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62120" y="1676520"/>
          <a:ext cx="777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967320" y="5954760"/>
            <a:ext cx="30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1,3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49600" y="24033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43760" y="42321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36720" y="5195880"/>
            <a:ext cx="26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 of car now (ye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4.9 Ideal number of c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7520" y="1066680"/>
            <a:ext cx="545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cars do you think there would be in your househo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r household could afford as many cars as they lik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320" y="5954760"/>
            <a:ext cx="30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1,3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2952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-24840" y="5073480"/>
            <a:ext cx="7465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red number:     0   1   2    3+      0   1   2    3   4+             0   1    2   3   4   5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umber         1 car                    2 cars                                       3 cars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91520" y="1967040"/>
            <a:ext cx="228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756560" y="18288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91520" y="2390760"/>
            <a:ext cx="22860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56560" y="2130480"/>
            <a:ext cx="753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2722680"/>
            <a:ext cx="228600" cy="152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6560" y="25844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3024360"/>
            <a:ext cx="2286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56200" y="2886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3448080"/>
            <a:ext cx="22860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55840" y="3187800"/>
            <a:ext cx="897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91520" y="3902040"/>
            <a:ext cx="22860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5840" y="3641760"/>
            <a:ext cx="897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5.6 Parking for disabl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46200" y="2209680"/>
          <a:ext cx="84978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2209680"/>
                    <a:ext cx="84978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525960" y="1447920"/>
            <a:ext cx="85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drive into a town/city centre to shop, which do you do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62341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Disabled motorists (1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60199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5.7 Time to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-1676520" y="2209680"/>
          <a:ext cx="738828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2209680"/>
                    <a:ext cx="73882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806040" y="1600200"/>
            <a:ext cx="56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ong on average does it take to find a parking spa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5715000"/>
            <a:ext cx="4572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Disabled motorists(104)/All motorists who use cars to go shopping(1,387)  (1999 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895480" y="2438280"/>
          <a:ext cx="7388280" cy="391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438280"/>
                    <a:ext cx="73882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888560" y="202248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bl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205740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5.8 Misuse of orange ba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9080" y="1447920"/>
            <a:ext cx="72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widespread do you think is the misuse of orange or blue badg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users who are not disabled using them to park in reserve parking spa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6095880"/>
            <a:ext cx="5410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Disabled motorists (104)/All drivers (1,534) (1989 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/Lex report on Motoring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-1447920" y="2514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7920" y="2514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819520" y="2362320"/>
          <a:ext cx="77724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3623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888560" y="202248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bl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205740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5800" y="2106720"/>
          <a:ext cx="777240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6720"/>
                    <a:ext cx="777240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1.4 Attitude towards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5400" y="1447920"/>
            <a:ext cx="79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care what car I drive as long as it gets me from A to 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5680" y="18288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% agre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0720" y="6095880"/>
            <a:ext cx="29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1,3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91120" y="598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5.9 Penalties for misuse of disabled parking spa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do you think the penalty should be for misuse of disabled parking spaces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46200" y="2216160"/>
          <a:ext cx="849780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2216160"/>
                    <a:ext cx="849780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" y="60199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Disabled motorists (1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60199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5.10 Treatment of disabled driver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How do you rate the way you are treated as a disabled driver and provisions for disabled drivers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9200" y="1984320"/>
          <a:ext cx="863604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1984320"/>
                    <a:ext cx="86360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62341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Disabled motorists (1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43400" y="613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6.3 Use of internet f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1981080"/>
          <a:ext cx="908064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08064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-11520" y="1447920"/>
            <a:ext cx="88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you ever used the internet to get information on the following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5945040"/>
            <a:ext cx="4572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ith access to internet (584)/Internet regulars (67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560" y="6213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3640" y="534816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api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6.4 Use of internet for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-142920" y="2460600"/>
          <a:ext cx="911232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2460600"/>
                    <a:ext cx="911232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35400" y="1523880"/>
            <a:ext cx="57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rtion who have used the internet to bu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gather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6234120"/>
            <a:ext cx="4572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ith access to Internet(584) /Internet regulars (67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used Figure 6.5 Motoring websit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iarity and us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-142920" y="2452680"/>
          <a:ext cx="908064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2452680"/>
                    <a:ext cx="908064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6481080" y="4648320"/>
            <a:ext cx="239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ed and unpromp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ses for famili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2341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All motorists who have access to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79200" y="1984320"/>
          <a:ext cx="863604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1984320"/>
                    <a:ext cx="86360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6234120"/>
            <a:ext cx="4572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using the motoring web sites (210)/Internet regulars (56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6.5 Accessing and using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0040" y="1523880"/>
            <a:ext cx="60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easy do you find it to access and use motoring websites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6200" y="3733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6520" y="18288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19520" y="598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6.6 Motoring websit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-142920" y="2452680"/>
          <a:ext cx="908064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2452680"/>
                    <a:ext cx="908064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0" y="6234120"/>
            <a:ext cx="6019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All motorists who have access to Internet(584) /Internet regulars(57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84240" y="1984320"/>
          <a:ext cx="862632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1984320"/>
                    <a:ext cx="862632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62341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700)/Internet regulars (58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6 Buying goods by mail order, phone or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5840" y="1295280"/>
            <a:ext cx="87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you ever buy goods from home using the telephone/fax, mail order or over the internet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79200" y="1995480"/>
          <a:ext cx="8636040" cy="44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1995480"/>
                    <a:ext cx="863604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0" y="6021360"/>
            <a:ext cx="4572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ho shop from home(384) /Internet regulars, who shop from home (5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7 Future use of home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8000" y="1143000"/>
            <a:ext cx="773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future, do you think you will buy more or less goods via phone/fax/mail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over the internet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88920" y="18288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phone/fax/mail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720" y="36576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6.8 Preferred method of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-158760" y="2460600"/>
          <a:ext cx="912816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760" y="2460600"/>
                    <a:ext cx="912816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34680" y="1523880"/>
            <a:ext cx="68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options would be best for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ordered goods from h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021360"/>
            <a:ext cx="4572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ho have bought from home (312) /Internet regulars who have bought from home (54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1.5 Attitude towards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1800" y="14479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onsider the type of car I usually drive reflects my personal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5680" y="18288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% agre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0720" y="6095880"/>
            <a:ext cx="29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1,3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91120" y="598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2106720"/>
          <a:ext cx="777240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6720"/>
                    <a:ext cx="777240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6.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home shopping if it led to increased vans and lorries in residential str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1905120"/>
          <a:ext cx="8458200" cy="44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458200" cy="44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066680" y="571500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Internet regulars(5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000" y="1600200"/>
            <a:ext cx="389484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5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st people will work at home via compu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st people will do shopping by compu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l new cars will run on electricity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6.10 What will happen by 20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325760" y="2057400"/>
          <a:ext cx="481824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057400"/>
                    <a:ext cx="481824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1893600" y="1523880"/>
            <a:ext cx="50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of these will happen by the year 2010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60199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678) /Internet regulars(53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034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97960" y="1905120"/>
            <a:ext cx="33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           Won’t happen   Will hap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 hap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37680" y="25146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rs 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+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37320" y="41148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rs 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+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25780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rs -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-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67280" y="613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7.5 How cars are inspected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Who inspected the used car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1600200"/>
          <a:ext cx="845820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45820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1066680" y="5715000"/>
            <a:ext cx="5639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who bought a used car within last two years and had it tested (4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7.6 Source of finance for car purchase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How was the car used most often bought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-142920" y="2452680"/>
          <a:ext cx="908064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2452680"/>
                    <a:ext cx="908064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0" y="62341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urchase cost of car driven most often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968400" y="5954760"/>
            <a:ext cx="29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used  Changes to car ta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79200" y="2270160"/>
          <a:ext cx="8413920" cy="44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2270160"/>
                    <a:ext cx="841392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673920" y="1371600"/>
            <a:ext cx="82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you aware of any changes in the taxation of cars,e.g. changes to road fund licen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so, what changes are you aware of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571500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1,3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7.7 Changes as a result of new car ta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9200" y="2270160"/>
          <a:ext cx="8413920" cy="44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2270160"/>
                    <a:ext cx="841392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799920" y="1600200"/>
            <a:ext cx="83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you made or are you likely to make any change in the type or size of car you bu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so, what changes have you made or will you mak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5715000"/>
            <a:ext cx="487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ho are aware of a change in taxation (85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4191120"/>
            <a:ext cx="28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n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% to smaller car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fuel efficient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% change f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8.3 Timing of serv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-142920" y="2455920"/>
          <a:ext cx="9080640" cy="42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2455920"/>
                    <a:ext cx="908064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630000" y="1523880"/>
            <a:ext cx="77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termines when you normally get your car serviced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602136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ith responsibility for servicing (1,09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8.6 Use of franchised dealer for serv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744920" y="158580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 using franchised dealer for servi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58680" y="5954760"/>
            <a:ext cx="442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ith responsibility for servicing (1,09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62160" y="32148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37760" y="50436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8.7 Frequency of servicing and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745640" y="1585800"/>
            <a:ext cx="328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 number of services or re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66240" y="5954760"/>
            <a:ext cx="37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ho have car serviced (1,2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46480" y="33670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76000" y="420516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1.6 The car as an office or crè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57680" y="141300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 my car as a mobile office/crèch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080" y="20574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% agre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2341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(1,3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48320" y="6213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10080" y="5295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2209680"/>
          <a:ext cx="8112240" cy="40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8112240" cy="40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8.8 Satisfaction with serv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1742040" y="158580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 net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58680" y="5954760"/>
            <a:ext cx="5459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Net satisfaction: % satisfied less % dissatis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responsible for servicing who use dealer/garage (975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4640" y="266688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h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360" y="22096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8.10 Use of manufacturers’ par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important is it to you that genuine manufacturers’ parts are fitted during the car service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0" y="1981080"/>
          <a:ext cx="863604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6360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62341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(1,3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19520" y="613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C Inter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B1 Membership of breakdown organis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ge of c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961200" y="5954760"/>
            <a:ext cx="386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ith responsibility for servi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ervices should be provided by an organisation like RAC or AA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00200"/>
          <a:ext cx="7772400" cy="5295960"/>
        </p:xfrm>
        <a:graphic>
          <a:graphicData uri="http://schemas.openxmlformats.org/drawingml/2006/table">
            <a:tbl>
              <a:tblPr/>
              <a:tblGrid>
                <a:gridCol w="4648320"/>
                <a:gridCol w="1676160"/>
                <a:gridCol w="1447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m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adside rescue and 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vel and traffic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 insu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vel books and ma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dent and legal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hicle sec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tion on car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ling used cars and warranties and insp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 for not taking out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an't afford 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1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or friends help 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never got round to 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an fix the car mysel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it's too expensive to jo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car has low mile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ever break 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bership of breakdown organis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85800" y="1981080"/>
          <a:ext cx="7772400" cy="4724640"/>
        </p:xfrm>
        <a:graphic>
          <a:graphicData uri="http://schemas.openxmlformats.org/drawingml/2006/table">
            <a:tbl>
              <a:tblPr/>
              <a:tblGrid>
                <a:gridCol w="4191120"/>
                <a:gridCol w="22096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vered for roadside ass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hes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en Fl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tan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 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urance 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facturers’ own sche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gth of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ver 10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en Fl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tan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B2 Usage of breakdown organisatio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. of call outs in past 12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961200" y="5954760"/>
            <a:ext cx="386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 with responsibility for servi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. of call outs in past 12 mon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33520" y="1905120"/>
          <a:ext cx="7010280" cy="4865400"/>
        </p:xfrm>
        <a:graphic>
          <a:graphicData uri="http://schemas.openxmlformats.org/drawingml/2006/table">
            <a:tbl>
              <a:tblPr/>
              <a:tblGrid>
                <a:gridCol w="2438280"/>
                <a:gridCol w="1523880"/>
                <a:gridCol w="1524240"/>
                <a:gridCol w="152388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en Fl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ge of cars cov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or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1.7 The personality of our c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187720" y="133668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your car is male or femal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have a name for your ca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20640" y="2590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% hav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% have no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1520" y="426708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% hav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% have no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7400" y="41911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% hav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8% have no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571500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 All motorists (7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reness of change of ownership/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in level of servi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685800" y="1676520"/>
          <a:ext cx="7772400" cy="4994280"/>
        </p:xfrm>
        <a:graphic>
          <a:graphicData uri="http://schemas.openxmlformats.org/drawingml/2006/table">
            <a:tbl>
              <a:tblPr/>
              <a:tblGrid>
                <a:gridCol w="2666880"/>
                <a:gridCol w="1905120"/>
                <a:gridCol w="1600200"/>
                <a:gridCol w="1600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en Fl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aware of 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saying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tter serv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ightly wo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n’t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1 Truck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-61920" y="1981080"/>
          <a:ext cx="858060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920" y="1981080"/>
                    <a:ext cx="85806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62341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9760" y="6400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support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yalty to motoring organisation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28600" y="1981080"/>
          <a:ext cx="8229600" cy="5034240"/>
        </p:xfrm>
        <a:graphic>
          <a:graphicData uri="http://schemas.openxmlformats.org/drawingml/2006/table">
            <a:tbl>
              <a:tblPr/>
              <a:tblGrid>
                <a:gridCol w="4038480"/>
                <a:gridCol w="1447920"/>
                <a:gridCol w="1371600"/>
                <a:gridCol w="1371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en Fl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change if bad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ver think of chan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 if cost were 10% to 20% chea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ways shop around when ren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y has always belong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ularly change  suppli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n't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ny c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million company c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illion employer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illion business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ast 2 ye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 million have given up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 million have taken 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 million have stayed with car rather than 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 of private drivers get mileage allow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.7 million c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2 Truck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680" y="1981080"/>
          <a:ext cx="857088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981080"/>
                    <a:ext cx="857088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62341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49760" y="6400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0080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support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e on company 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uld make people give up their company c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of jo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cash lump s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salary increase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increase in taxation    14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reness of change in company car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cence hold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growth in car own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OMcover" descr=""/>
          <p:cNvPicPr/>
          <p:nvPr/>
        </p:nvPicPr>
        <p:blipFill>
          <a:blip r:embed="rId1"/>
          <a:stretch/>
        </p:blipFill>
        <p:spPr>
          <a:xfrm>
            <a:off x="533520" y="0"/>
            <a:ext cx="7994520" cy="11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1.8 Willingness to use public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749600" y="1585800"/>
            <a:ext cx="473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would use my car less if public transport were bette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8400" y="5954760"/>
            <a:ext cx="29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Humphr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vid Leib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e on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travel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dr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s of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78 regular motor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e to face in-home 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/October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company car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e on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Green travel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Safe dr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ould find it very difficul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djust my lifestyle to being without a c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76212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ber of driving licence hol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657600"/>
                <a:gridCol w="1371600"/>
                <a:gridCol w="1371600"/>
                <a:gridCol w="13716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ion grow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graphic chan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men holders incr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and future car ownership in Bri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762120" y="1676520"/>
          <a:ext cx="777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and future car ownership in Bri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762120" y="1676520"/>
          <a:ext cx="777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ould use my car less if public transport were bet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used Giving up a jour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7520" y="1371600"/>
            <a:ext cx="78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had to give up one journey a w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your car to public transport, which journey would it b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571500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 All motorists (1,3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RAC Report on Moto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Dependence on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Green travel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Safe dr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given up a journey 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st 3 month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of congestion?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Did you make the journey by an alternative means of transport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85800" y="2174760"/>
          <a:ext cx="7772400" cy="42116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motor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andoned car because of cong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ve up journey al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itched t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in/tub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lk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could switch one journey a wee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your car to public transpor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journey would it be?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828800" y="2057400"/>
          <a:ext cx="5562720" cy="3922560"/>
        </p:xfrm>
        <a:graphic>
          <a:graphicData uri="http://schemas.openxmlformats.org/drawingml/2006/table">
            <a:tbl>
              <a:tblPr/>
              <a:tblGrid>
                <a:gridCol w="3886200"/>
                <a:gridCol w="167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o town/city cen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urney to 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leisure facilities e.g. club/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t to relative/fri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ool r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 - wouldn't/couldn'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ld not specify jou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Dependence on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travel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Safe dr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hould your company be do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the impact of cars on the environment?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838080" y="2286000"/>
          <a:ext cx="7772400" cy="3809880"/>
        </p:xfrm>
        <a:graphic>
          <a:graphicData uri="http://schemas.openxmlformats.org/drawingml/2006/table">
            <a:tbl>
              <a:tblPr/>
              <a:tblGrid>
                <a:gridCol w="6477120"/>
                <a:gridCol w="129528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ourage car sh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er/fewer company c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itch to environmentally friendly  c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public transport arrangeme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 fuel consum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n't k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Dependence on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Green travel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dr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angerous do you think it is to drive a c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oing the following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919080" y="2347920"/>
          <a:ext cx="862344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2347920"/>
                    <a:ext cx="862344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10280" y="595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50320" y="1766880"/>
            <a:ext cx="13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rem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ng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05000" y="1752480"/>
            <a:ext cx="13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at 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ng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2057400"/>
            <a:ext cx="243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205740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15360" y="27432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58160" y="4648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10240" y="3733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55627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ast 12 months have you ever felt yoursel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ing asleep or nodding off at the wheel?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828800" y="2057400"/>
          <a:ext cx="5562720" cy="3376440"/>
        </p:xfrm>
        <a:graphic>
          <a:graphicData uri="http://schemas.openxmlformats.org/drawingml/2006/table">
            <a:tbl>
              <a:tblPr/>
              <a:tblGrid>
                <a:gridCol w="3886200"/>
                <a:gridCol w="167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lions of “sleep” dri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 dri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ive over 20,000 miles a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Dependence on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Green travel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Safe dr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happen by 20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4478400" y="2057400"/>
          <a:ext cx="481788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0" y="2057400"/>
                    <a:ext cx="481788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12034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2960" y="1905120"/>
            <a:ext cx="42588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half will work at home via computer     +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cost £10 per day to drive into towns     +4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half will do shopping by computer   +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0720" y="1828800"/>
            <a:ext cx="58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will happen     Won’t happen          Will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15000" y="613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1.12 Annual mileag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68400" y="5954760"/>
            <a:ext cx="29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:All motor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Lex/RAC Report on Mo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happen by 20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4478400" y="2057400"/>
          <a:ext cx="481788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0" y="2057400"/>
                    <a:ext cx="481788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12034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2960" y="1905120"/>
            <a:ext cx="42588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half will work at home via computer     +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cost £10 per day to drive into towns     +4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half will do shopping by computer   +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80720" y="1828800"/>
            <a:ext cx="58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will happen     Won’t happen          Will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15000" y="613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happen by 20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4341960" y="2057400"/>
          <a:ext cx="479412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1960" y="2057400"/>
                    <a:ext cx="479412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12034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87480" y="1447920"/>
            <a:ext cx="389916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cost £10 a day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ark at the office  +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cars with at least 2 people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ed during rush hours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will use public transport more –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80720" y="1828800"/>
            <a:ext cx="58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will happen     Won’t happen          Will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615000" y="613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happen by 20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4478400" y="2057400"/>
          <a:ext cx="481788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0" y="2057400"/>
                    <a:ext cx="481788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12034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98880" y="1905120"/>
            <a:ext cx="347724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new cars will run on electricity –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one car allowed per household –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80720" y="1828800"/>
            <a:ext cx="58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will happen     Won’t happen          Will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15000" y="613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ever buy goods from home us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lephone/fax, mail order or over the interne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0" y="1905120"/>
          <a:ext cx="8458200" cy="44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458200" cy="44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380880" y="2108160"/>
          <a:ext cx="815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08160"/>
                    <a:ext cx="815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62120" y="533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uture, do you think you will buy more or less go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phone/fax/mail order or over the interne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53040" y="175248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e               Same               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6040" y="4114800"/>
            <a:ext cx="40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                     Same 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support home shopping if it leads to increased vans and lorries in residential stree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0" y="1905120"/>
          <a:ext cx="8458200" cy="44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458200" cy="44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e on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dr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e on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Safe dr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Dependence on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Safe dr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Dependence on the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dr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08:16:34Z</dcterms:created>
  <dc:creator>David Leibling</dc:creator>
  <dc:description/>
  <dc:language>en-US</dc:language>
  <cp:lastModifiedBy>David Leibling</cp:lastModifiedBy>
  <dcterms:modified xsi:type="dcterms:W3CDTF">2001-04-30T11:06:40Z</dcterms:modified>
  <cp:revision>86</cp:revision>
  <dc:subject/>
  <dc:title>PowerPoint Presentation</dc:title>
</cp:coreProperties>
</file>