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7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6.jpeg" ContentType="image/jpeg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.jpeg" ContentType="image/jpeg"/>
  <Override PartName="/ppt/media/image18.wmf" ContentType="image/x-wmf"/>
  <Override PartName="/ppt/media/image24.wmf" ContentType="image/x-wmf"/>
  <Override PartName="/ppt/media/image74.wmf" ContentType="image/x-wmf"/>
  <Override PartName="/ppt/media/image34.png" ContentType="image/png"/>
  <Override PartName="/ppt/media/image62.wmf" ContentType="image/x-wmf"/>
  <Override PartName="/ppt/media/image73.jpeg" ContentType="image/jpeg"/>
  <Override PartName="/ppt/media/image26.wmf" ContentType="image/x-wmf"/>
  <Override PartName="/ppt/media/image72.wmf" ContentType="image/x-wmf"/>
  <Override PartName="/ppt/media/image32.png" ContentType="image/png"/>
  <Override PartName="/ppt/media/image69.wmf" ContentType="image/x-wmf"/>
  <Override PartName="/ppt/media/image71.wmf" ContentType="image/x-wmf"/>
  <Override PartName="/ppt/media/image29.wmf" ContentType="image/x-wmf"/>
  <Override PartName="/ppt/media/image70.wmf" ContentType="image/x-wmf"/>
  <Override PartName="/ppt/media/image3.jpeg" ContentType="image/jpeg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4.png" ContentType="image/png"/>
  <Override PartName="/ppt/media/image7.jpeg" ContentType="image/jpeg"/>
  <Override PartName="/ppt/media/image1.gif" ContentType="image/gif"/>
  <Override PartName="/ppt/media/image63.wmf" ContentType="image/x-wmf"/>
  <Override PartName="/ppt/media/image14.wmf" ContentType="image/x-wmf"/>
  <Override PartName="/ppt/media/image25.wmf" ContentType="image/x-wmf"/>
  <Override PartName="/ppt/media/image20.wmf" ContentType="image/x-wmf"/>
  <Override PartName="/ppt/media/image57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9.wmf" ContentType="image/x-wmf"/>
  <Override PartName="/ppt/media/image39.wmf" ContentType="image/x-wmf"/>
  <Override PartName="/ppt/media/image12.wmf" ContentType="image/x-wmf"/>
  <Override PartName="/ppt/media/image49.wmf" ContentType="image/x-wmf"/>
  <Override PartName="/ppt/media/image10.wmf" ContentType="image/x-wmf"/>
  <Override PartName="/ppt/media/image47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33.png" ContentType="image/png"/>
  <Override PartName="/ppt/media/image35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09200" y="742680"/>
            <a:ext cx="538020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e94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02EF632-8B91-4CAB-B7EE-3E20260BE5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964F63A-F6E7-46EA-B083-B68C9AEAC4A5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D3F989A-F79B-40AF-9595-4C4F9A813F65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51762A1-EE46-4722-BE5B-924A12D3DE68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9156EB3-4F29-478E-AEB6-A951F04A1148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4A89DFF-6284-40F7-99C5-C65E65304CEB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0B779B8-C8B3-42BF-B7E7-F04CDFA11CDF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0B4390B-3C5E-421B-A59E-1EBE1D6E779E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75A1CD9-FD0F-4603-B006-CDD076BA0C83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8A69C9F-04ED-4C61-A0A9-20978B9CE403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83584D4-4927-43DD-BB3E-09C17F2FD3AB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51DA06D-0CF4-4EB4-9600-48674BF511E4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D4475F5-157D-4FE8-AB23-A00C86381713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0CB4043-1299-4F1F-A8F8-BEB4E0DF4CEE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4C33ABD-5511-4D6E-BA25-E03029DBAE9F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6783849-6245-413E-8571-852AECBBDF1D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C05380D-3B81-4141-92A6-20E3C18A2A27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7146E1B-FEB6-4006-A0B4-DF43597EA486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4B5B003-0483-4522-8F4E-7B30CB34F30C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A9B61EB-D396-41C3-A412-DF220F53CC44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0B98A5C-1D5D-4B86-AF51-BAA913C8821D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559963E-AF8B-4B6B-9BBC-255DC187FFFE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BBC370B-9779-438E-AF20-FD8B7EB2BBFD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0F35584-997F-4713-8AC4-DEFDC0812C33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556D86F-FB92-41F0-9B70-487536AFBDA9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D9D9D3A-DA7F-49D7-872E-277C2893C6F4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B16F9E7-5BCC-4BC8-B505-AB130D532BDD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C32072A-E24B-4867-BAA4-B4EF6742E9DB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EC02C2F-3B89-4067-973C-7217069D99A4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0230BBC-06F9-45A9-A169-881C5D3015DF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07D3276-887A-4373-B5B9-B588DCDFD860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3CEC1B9-A24E-4142-A485-3A67889B9ABD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3FF9BC1-A5F2-4FDA-84AE-424ABE094C59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0E0F42F-D7A7-4568-9C19-BE36323D7462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473C979-391B-4952-991C-78EAB965AB4D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584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1BB0A79-D2AA-496B-89B9-AB3AC42C0444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59828AA-B545-4FF3-AF0D-DC14C11CF928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464C0B4-D845-4680-A369-56F1A70F4063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1BDD3DF-EB96-435D-A33B-D71ACDE9E6C8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5F9B227-0728-46F0-92B4-DFFC1FAA4727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61FB01D-75E4-4A81-8188-E6F8BF2036B6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272545A-1015-474C-8243-70EE177F30CE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CC338D1-DA82-489D-88E4-4063912C68DC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7EE8F49-76DD-4F86-9642-9C4AF2926FEB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96466FB-9B9A-4393-9745-51F94192D039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7AB6FEC-D82F-4371-B32E-F4BBB6382C0C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49EEE73-E464-4D19-BE8A-3C32C322329E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27063AE-F037-44D5-B6FC-8ABA4A9FB4C0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AB3C517-EFD9-42FB-8263-FD054A50349E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42E6E3A-AA9F-4883-8C8F-934E75AC59DE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7FE91D6-6D43-45D2-8FD3-510779F49E0F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104C7FF-DB1D-4E37-B9A8-0BA8A5FCAD90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7F12DB1-EF5E-4DD3-A869-FB2F7FB558DF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1844404-0E78-440F-8E11-FB634292F924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16BE753-3172-4969-9EB3-647352EA3945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BC83045-E5A5-4F5F-8978-9A6F66C0DA09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F10722B-C669-4418-9A75-A95C165819BE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7D42E8F-BE5D-4A85-B6E6-3B0B0C993A27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1478D39-69B6-42C4-8310-A3C5BDA06A43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AF8B1F4-1CCE-46C0-A489-B04CF2271F5B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ED56F7A-266C-42B5-9714-CA4806CC52F2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3255163-DDE9-427F-82A5-6775502468B4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CF456C1-13F8-493E-91D0-BCA32A4F5EA4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9BA906D-03A5-43ED-B87F-7B259DC3FFD2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2793323-DCB5-4B0A-A609-7581FA6B39F9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9A6B265-C89F-415F-8078-62CA8CE9E3F1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B00E40B-2D5B-4FA7-B7BF-B77FB143DA8E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405400" cy="37418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03240" y="4735080"/>
            <a:ext cx="49672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4460655-F4B2-4B27-AA58-69471F244691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6852BD8-CEB6-4216-84E9-089FD4C71B50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D121805-5C3B-43C6-8FAB-86D6EF20438F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3861B92-8814-42B4-8E39-C1A6624238F3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684360" y="7621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03240" y="4730760"/>
            <a:ext cx="496584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AC82E76-2D55-4B2E-99AC-6D64AABF6499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CACE72D-1916-4FD2-A684-A17D12AB607C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FC3F80E-1993-4709-8548-7348B4AECD69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709560" y="74304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89917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00" y="3837240"/>
            <a:ext cx="89917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3480" y="170028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200" y="383724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3480" y="383724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28951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6400" y="1700280"/>
            <a:ext cx="28951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6600" y="1700280"/>
            <a:ext cx="28951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200" y="3837240"/>
            <a:ext cx="28951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6400" y="3837240"/>
            <a:ext cx="28951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6600" y="3837240"/>
            <a:ext cx="28951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6200" y="1700280"/>
            <a:ext cx="899172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8991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43876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73480" y="1700280"/>
            <a:ext cx="43876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66200" y="764640"/>
            <a:ext cx="90234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3480" y="1700280"/>
            <a:ext cx="43876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200" y="383724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6200" y="1700280"/>
            <a:ext cx="899172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43876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3480" y="170028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73480" y="383724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73480" y="170028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200" y="3837240"/>
            <a:ext cx="89917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89917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200" y="3837240"/>
            <a:ext cx="89917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73480" y="170028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200" y="383724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73480" y="383724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28951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6400" y="1700280"/>
            <a:ext cx="28951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46600" y="1700280"/>
            <a:ext cx="28951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200" y="3837240"/>
            <a:ext cx="28951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6400" y="3837240"/>
            <a:ext cx="28951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46600" y="3837240"/>
            <a:ext cx="28951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8991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43876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3480" y="1700280"/>
            <a:ext cx="43876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6200" y="764640"/>
            <a:ext cx="90234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3480" y="1700280"/>
            <a:ext cx="43876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200" y="383724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43876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3480" y="170028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3480" y="383724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3480" y="1700280"/>
            <a:ext cx="43876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200" y="3837240"/>
            <a:ext cx="89917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e94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200" y="1700280"/>
            <a:ext cx="8991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343080" indent="-343080">
              <a:spcBef>
                <a:spcPts val="1400"/>
              </a:spcBef>
              <a:buClr>
                <a:srgbClr val="cc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343080" indent="-343080">
              <a:spcBef>
                <a:spcPts val="1400"/>
              </a:spcBef>
              <a:buClr>
                <a:srgbClr val="4d4d4d"/>
              </a:buClr>
              <a:buFont typeface="Arial Narrow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3" marL="343080" indent="-343080">
              <a:spcBef>
                <a:spcPts val="1400"/>
              </a:spcBef>
              <a:buClr>
                <a:srgbClr val="4d4d4d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4" marL="343080" indent="-343080">
              <a:spcBef>
                <a:spcPts val="1400"/>
              </a:spcBef>
              <a:buClr>
                <a:srgbClr val="4d4d4d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5" marL="343080" indent="-343080">
              <a:spcBef>
                <a:spcPts val="1400"/>
              </a:spcBef>
              <a:buClr>
                <a:srgbClr val="4d4d4d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6" marL="343080" indent="-343080">
              <a:spcBef>
                <a:spcPts val="1400"/>
              </a:spcBef>
              <a:buClr>
                <a:srgbClr val="4d4d4d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2" name="Picture 8" descr="quad-ani-logo"/>
          <p:cNvPicPr/>
          <p:nvPr/>
        </p:nvPicPr>
        <p:blipFill>
          <a:blip r:embed="rId2"/>
          <a:stretch/>
        </p:blipFill>
        <p:spPr>
          <a:xfrm>
            <a:off x="560520" y="433440"/>
            <a:ext cx="215640" cy="216000"/>
          </a:xfrm>
          <a:prstGeom prst="rect">
            <a:avLst/>
          </a:prstGeom>
          <a:ln w="0">
            <a:noFill/>
          </a:ln>
        </p:spPr>
      </p:pic>
      <p:sp>
        <p:nvSpPr>
          <p:cNvPr id="3" name="Line 9"/>
          <p:cNvSpPr/>
          <p:nvPr/>
        </p:nvSpPr>
        <p:spPr>
          <a:xfrm>
            <a:off x="560520" y="763560"/>
            <a:ext cx="885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7368120" y="455760"/>
            <a:ext cx="220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1407"/>
                </a:solidFill>
                <a:latin typeface="Arial"/>
              </a:rPr>
              <a:t>research for decision makers</a:t>
            </a:r>
            <a:r>
              <a:rPr b="0" lang="en-GB" sz="800" spc="-1" strike="noStrike" baseline="60000">
                <a:solidFill>
                  <a:srgbClr val="cc1407"/>
                </a:solidFill>
                <a:latin typeface="Arial"/>
              </a:rPr>
              <a:t>tm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Text Box 14"/>
          <p:cNvSpPr/>
          <p:nvPr/>
        </p:nvSpPr>
        <p:spPr>
          <a:xfrm>
            <a:off x="465840" y="6262560"/>
            <a:ext cx="104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© quadrangle 2008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Text Box 15"/>
          <p:cNvSpPr/>
          <p:nvPr/>
        </p:nvSpPr>
        <p:spPr>
          <a:xfrm>
            <a:off x="8758080" y="62625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page </a:t>
            </a:r>
            <a:fld id="{1E906309-8BBB-4AB9-A2E6-BC9776E54FEE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Line 16"/>
          <p:cNvSpPr/>
          <p:nvPr/>
        </p:nvSpPr>
        <p:spPr>
          <a:xfrm>
            <a:off x="560520" y="6237360"/>
            <a:ext cx="885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7368120" y="455760"/>
            <a:ext cx="220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1407"/>
                </a:solidFill>
                <a:latin typeface="Arial"/>
              </a:rPr>
              <a:t>research for decision makers</a:t>
            </a:r>
            <a:r>
              <a:rPr b="0" lang="en-GB" sz="800" spc="-1" strike="noStrike" baseline="60000">
                <a:solidFill>
                  <a:srgbClr val="cc1407"/>
                </a:solidFill>
                <a:latin typeface="Arial"/>
              </a:rPr>
              <a:t>tm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494280" y="6391440"/>
            <a:ext cx="104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© quadrangle 2008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560520" y="5589720"/>
            <a:ext cx="885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60520" y="763560"/>
            <a:ext cx="885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7905600" y="5603760"/>
            <a:ext cx="139536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The Butlers Wharf Building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36 Shad Thames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London SE1 2YE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+44 (0)20 7357 9919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f</a:t>
            </a: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+44 (0)20 7357 9773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www.quadrangle.com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9" name="Group 14"/>
          <p:cNvGrpSpPr/>
          <p:nvPr/>
        </p:nvGrpSpPr>
        <p:grpSpPr>
          <a:xfrm>
            <a:off x="483840" y="5661000"/>
            <a:ext cx="1197360" cy="540360"/>
            <a:chOff x="483840" y="5661000"/>
            <a:chExt cx="1197360" cy="540360"/>
          </a:xfrm>
        </p:grpSpPr>
        <p:grpSp>
          <p:nvGrpSpPr>
            <p:cNvPr id="50" name="Group 15"/>
            <p:cNvGrpSpPr/>
            <p:nvPr/>
          </p:nvGrpSpPr>
          <p:grpSpPr>
            <a:xfrm>
              <a:off x="560520" y="5661000"/>
              <a:ext cx="566640" cy="403920"/>
              <a:chOff x="560520" y="5661000"/>
              <a:chExt cx="566640" cy="403920"/>
            </a:xfrm>
          </p:grpSpPr>
          <p:pic>
            <p:nvPicPr>
              <p:cNvPr id="51" name="Picture 16" descr="quadrangle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684040"/>
                <a:ext cx="56664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Rectangle 17"/>
              <p:cNvSpPr/>
              <p:nvPr/>
            </p:nvSpPr>
            <p:spPr>
              <a:xfrm>
                <a:off x="560520" y="5661000"/>
                <a:ext cx="262080" cy="26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" name="Freeform 18"/>
              <p:cNvSpPr/>
              <p:nvPr/>
            </p:nvSpPr>
            <p:spPr>
              <a:xfrm>
                <a:off x="579600" y="5682960"/>
                <a:ext cx="217080" cy="219960"/>
              </a:xfrm>
              <a:prstGeom prst="pie">
                <a:avLst/>
              </a:prstGeom>
              <a:solidFill>
                <a:srgbClr val="49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4" name="Text Box 19"/>
            <p:cNvSpPr/>
            <p:nvPr/>
          </p:nvSpPr>
          <p:spPr>
            <a:xfrm>
              <a:off x="483840" y="6015960"/>
              <a:ext cx="1197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4d4d4d"/>
                  </a:solidFill>
                  <a:latin typeface="Arial"/>
                </a:rPr>
                <a:t>research for decision makers</a:t>
              </a:r>
              <a:r>
                <a:rPr b="0" lang="en-GB" sz="400" spc="-1" strike="noStrike" baseline="64000">
                  <a:solidFill>
                    <a:srgbClr val="4d4d4d"/>
                  </a:solidFill>
                  <a:latin typeface="Arial"/>
                </a:rPr>
                <a:t>tm</a:t>
              </a:r>
              <a:endParaRPr b="0" lang="en-US" sz="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e94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66200" y="1700280"/>
            <a:ext cx="8991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343080" indent="-343080">
              <a:spcBef>
                <a:spcPts val="1400"/>
              </a:spcBef>
              <a:buClr>
                <a:srgbClr val="cc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343080" indent="-343080">
              <a:spcBef>
                <a:spcPts val="1400"/>
              </a:spcBef>
              <a:buClr>
                <a:srgbClr val="4d4d4d"/>
              </a:buClr>
              <a:buFont typeface="Arial Narrow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3" marL="343080" indent="-343080">
              <a:spcBef>
                <a:spcPts val="1400"/>
              </a:spcBef>
              <a:buClr>
                <a:srgbClr val="4d4d4d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4" marL="343080" indent="-343080">
              <a:spcBef>
                <a:spcPts val="1400"/>
              </a:spcBef>
              <a:buClr>
                <a:srgbClr val="4d4d4d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5" marL="343080" indent="-343080">
              <a:spcBef>
                <a:spcPts val="1400"/>
              </a:spcBef>
              <a:buClr>
                <a:srgbClr val="4d4d4d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6" marL="343080" indent="-343080">
              <a:spcBef>
                <a:spcPts val="1400"/>
              </a:spcBef>
              <a:buClr>
                <a:srgbClr val="4d4d4d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tefka.samus@quadrangle.com" TargetMode="External"/><Relationship Id="rId2" Type="http://schemas.openxmlformats.org/officeDocument/2006/relationships/hyperlink" Target="mailto:alison.hand@quadrangle.com" TargetMode="External"/><Relationship Id="rId3" Type="http://schemas.openxmlformats.org/officeDocument/2006/relationships/hyperlink" Target="mailto:guy.masters@quadrangle.com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hyperlink" Target="http://www.fieldworks.co.uk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8520" y="335772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RAC Report on Motoring 2008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, </a:t>
            </a:r>
            <a:br>
              <a:rPr sz="2400"/>
            </a:b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port 2: technology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otorist survey – research presentation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September 2008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99800" y="5662440"/>
            <a:ext cx="4969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Prepared for: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RAC RoM Steering Group</a:t>
            </a:r>
            <a:endParaRPr b="0" lang="en-US" sz="8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Prepared by: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Stefka Samus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800" spc="-1" strike="noStrike" u="sng">
                <a:solidFill>
                  <a:srgbClr val="005e94"/>
                </a:solidFill>
                <a:uFillTx/>
                <a:latin typeface="Arial"/>
                <a:hlinkClick r:id="rId1"/>
              </a:rPr>
              <a:t>stefka.samus@quadrangle.com</a:t>
            </a:r>
            <a:endParaRPr b="0" lang="en-US" sz="8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Alison Hand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800" spc="-1" strike="noStrike" u="sng">
                <a:solidFill>
                  <a:srgbClr val="005e94"/>
                </a:solidFill>
                <a:uFillTx/>
                <a:latin typeface="Arial"/>
                <a:hlinkClick r:id="rId2"/>
              </a:rPr>
              <a:t>alison.hand@quadrangle.com</a:t>
            </a:r>
            <a:endParaRPr b="0" lang="en-US" sz="8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Guy Masters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800" spc="-1" strike="noStrike" u="sng">
                <a:solidFill>
                  <a:srgbClr val="005e94"/>
                </a:solidFill>
                <a:uFillTx/>
                <a:latin typeface="Arial"/>
                <a:hlinkClick r:id="rId3"/>
              </a:rPr>
              <a:t>guy.masters@quadrangle.com</a:t>
            </a:r>
            <a:endParaRPr b="0" lang="en-US" sz="8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02" name="Picture 12" descr="rac logo"/>
          <p:cNvPicPr/>
          <p:nvPr/>
        </p:nvPicPr>
        <p:blipFill>
          <a:blip r:embed="rId4"/>
          <a:stretch/>
        </p:blipFill>
        <p:spPr>
          <a:xfrm>
            <a:off x="4270320" y="2025720"/>
            <a:ext cx="3149640" cy="12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engine"/>
          <p:cNvPicPr/>
          <p:nvPr/>
        </p:nvPicPr>
        <p:blipFill>
          <a:blip r:embed="rId5"/>
          <a:stretch/>
        </p:blipFill>
        <p:spPr>
          <a:xfrm>
            <a:off x="2351160" y="2025720"/>
            <a:ext cx="1914480" cy="125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bugatti"/>
          <p:cNvPicPr/>
          <p:nvPr/>
        </p:nvPicPr>
        <p:blipFill>
          <a:blip r:embed="rId6"/>
          <a:stretch/>
        </p:blipFill>
        <p:spPr>
          <a:xfrm>
            <a:off x="560520" y="2023920"/>
            <a:ext cx="1795320" cy="126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dvd-car"/>
          <p:cNvPicPr/>
          <p:nvPr/>
        </p:nvPicPr>
        <p:blipFill>
          <a:blip r:embed="rId7"/>
          <a:stretch/>
        </p:blipFill>
        <p:spPr>
          <a:xfrm>
            <a:off x="7416720" y="2025720"/>
            <a:ext cx="2040120" cy="1258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240" y="5084640"/>
            <a:ext cx="48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his version supersedes all previous version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length of time driving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6465960" y="2133720"/>
          <a:ext cx="293040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5960" y="2133720"/>
                    <a:ext cx="293040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4"/>
          <p:cNvSpPr/>
          <p:nvPr/>
        </p:nvSpPr>
        <p:spPr>
          <a:xfrm>
            <a:off x="128520" y="5734080"/>
            <a:ext cx="6121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SQ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nd roughly in what year did you pass your driving test?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755040" y="206064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897520" y="237168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pre-196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897160" y="287352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960-6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897160" y="337500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970-7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5897160" y="387684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980-8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5897160" y="488160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2000-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70" name="Object 11"/>
          <p:cNvGraphicFramePr/>
          <p:nvPr/>
        </p:nvGraphicFramePr>
        <p:xfrm>
          <a:off x="1496880" y="1916280"/>
          <a:ext cx="293076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6880" y="1916280"/>
                    <a:ext cx="29307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12"/>
          <p:cNvSpPr/>
          <p:nvPr/>
        </p:nvSpPr>
        <p:spPr>
          <a:xfrm>
            <a:off x="3873600" y="227664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less than 20 year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704880" y="4076640"/>
            <a:ext cx="9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20 years or mo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2216880" y="3573360"/>
            <a:ext cx="5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56%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224880" y="3068640"/>
            <a:ext cx="5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44%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2855880" y="1666440"/>
            <a:ext cx="0" cy="1871640"/>
          </a:xfrm>
          <a:prstGeom prst="line">
            <a:avLst/>
          </a:prstGeom>
          <a:ln w="9360">
            <a:solidFill>
              <a:srgbClr val="005e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AutoShape 17"/>
          <p:cNvSpPr/>
          <p:nvPr/>
        </p:nvSpPr>
        <p:spPr>
          <a:xfrm>
            <a:off x="2936880" y="1700280"/>
            <a:ext cx="287280" cy="287280"/>
          </a:xfrm>
          <a:prstGeom prst="rightArrow">
            <a:avLst>
              <a:gd name="adj1" fmla="val 50278"/>
              <a:gd name="adj2" fmla="val 41435"/>
            </a:avLst>
          </a:prstGeom>
          <a:solidFill>
            <a:srgbClr val="dc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AutoShape 18"/>
          <p:cNvSpPr/>
          <p:nvPr/>
        </p:nvSpPr>
        <p:spPr>
          <a:xfrm rot="10800000">
            <a:off x="2505240" y="1700280"/>
            <a:ext cx="287280" cy="287280"/>
          </a:xfrm>
          <a:prstGeom prst="rightArrow">
            <a:avLst>
              <a:gd name="adj1" fmla="val 50278"/>
              <a:gd name="adj2" fmla="val 41435"/>
            </a:avLst>
          </a:prstGeom>
          <a:solidFill>
            <a:srgbClr val="c8b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3224160" y="16574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98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1928880" y="16574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98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5904720" y="537372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verage = 24 year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5897160" y="437832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990-9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type of car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1500120" y="1976400"/>
            <a:ext cx="1295640" cy="703440"/>
            <a:chOff x="1500120" y="1976400"/>
            <a:chExt cx="1295640" cy="703440"/>
          </a:xfrm>
        </p:grpSpPr>
        <p:sp>
          <p:nvSpPr>
            <p:cNvPr id="185" name="AutoShape 6"/>
            <p:cNvSpPr/>
            <p:nvPr/>
          </p:nvSpPr>
          <p:spPr>
            <a:xfrm>
              <a:off x="1500120" y="2457720"/>
              <a:ext cx="1295640" cy="73080"/>
            </a:xfrm>
            <a:prstGeom prst="roundRect">
              <a:avLst>
                <a:gd name="adj" fmla="val 50000"/>
              </a:avLst>
            </a:prstGeom>
            <a:solidFill>
              <a:srgbClr val="4d4d4d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" name="Freeform 7"/>
            <p:cNvSpPr/>
            <p:nvPr/>
          </p:nvSpPr>
          <p:spPr>
            <a:xfrm>
              <a:off x="1500120" y="1976400"/>
              <a:ext cx="1295640" cy="518040"/>
            </a:xfrm>
            <a:prstGeom prst="pie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87" name="Group 8"/>
            <p:cNvGrpSpPr/>
            <p:nvPr/>
          </p:nvGrpSpPr>
          <p:grpSpPr>
            <a:xfrm>
              <a:off x="2350800" y="2383560"/>
              <a:ext cx="295920" cy="296280"/>
              <a:chOff x="2350800" y="2383560"/>
              <a:chExt cx="295920" cy="296280"/>
            </a:xfrm>
          </p:grpSpPr>
          <p:sp>
            <p:nvSpPr>
              <p:cNvPr id="188" name="Oval 9"/>
              <p:cNvSpPr/>
              <p:nvPr/>
            </p:nvSpPr>
            <p:spPr>
              <a:xfrm>
                <a:off x="2350800" y="2383560"/>
                <a:ext cx="295920" cy="29628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9" name="Oval 10"/>
              <p:cNvSpPr/>
              <p:nvPr/>
            </p:nvSpPr>
            <p:spPr>
              <a:xfrm>
                <a:off x="2435400" y="2468880"/>
                <a:ext cx="126360" cy="12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1"/>
            <p:cNvGrpSpPr/>
            <p:nvPr/>
          </p:nvGrpSpPr>
          <p:grpSpPr>
            <a:xfrm>
              <a:off x="1611000" y="2383560"/>
              <a:ext cx="295920" cy="296280"/>
              <a:chOff x="1611000" y="2383560"/>
              <a:chExt cx="295920" cy="296280"/>
            </a:xfrm>
          </p:grpSpPr>
          <p:sp>
            <p:nvSpPr>
              <p:cNvPr id="191" name="Oval 12"/>
              <p:cNvSpPr/>
              <p:nvPr/>
            </p:nvSpPr>
            <p:spPr>
              <a:xfrm>
                <a:off x="1611000" y="2383560"/>
                <a:ext cx="295920" cy="29628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2" name="Oval 13"/>
              <p:cNvSpPr/>
              <p:nvPr/>
            </p:nvSpPr>
            <p:spPr>
              <a:xfrm>
                <a:off x="1695600" y="2468880"/>
                <a:ext cx="126360" cy="12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oup 14"/>
          <p:cNvGrpSpPr/>
          <p:nvPr/>
        </p:nvGrpSpPr>
        <p:grpSpPr>
          <a:xfrm>
            <a:off x="1066680" y="3368520"/>
            <a:ext cx="1728720" cy="763560"/>
            <a:chOff x="1066680" y="3368520"/>
            <a:chExt cx="1728720" cy="763560"/>
          </a:xfrm>
        </p:grpSpPr>
        <p:sp>
          <p:nvSpPr>
            <p:cNvPr id="194" name="AutoShape 15"/>
            <p:cNvSpPr/>
            <p:nvPr/>
          </p:nvSpPr>
          <p:spPr>
            <a:xfrm>
              <a:off x="1066680" y="3892320"/>
              <a:ext cx="1728720" cy="79560"/>
            </a:xfrm>
            <a:prstGeom prst="roundRect">
              <a:avLst>
                <a:gd name="adj" fmla="val 50000"/>
              </a:avLst>
            </a:prstGeom>
            <a:solidFill>
              <a:srgbClr val="4d4d4d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" name="Freeform 16"/>
            <p:cNvSpPr/>
            <p:nvPr/>
          </p:nvSpPr>
          <p:spPr>
            <a:xfrm>
              <a:off x="1066680" y="3368520"/>
              <a:ext cx="1716120" cy="563760"/>
            </a:xfrm>
            <a:prstGeom prst="pie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96" name="Group 17"/>
            <p:cNvGrpSpPr/>
            <p:nvPr/>
          </p:nvGrpSpPr>
          <p:grpSpPr>
            <a:xfrm>
              <a:off x="2219040" y="3813120"/>
              <a:ext cx="319320" cy="318960"/>
              <a:chOff x="2219040" y="3813120"/>
              <a:chExt cx="319320" cy="318960"/>
            </a:xfrm>
          </p:grpSpPr>
          <p:sp>
            <p:nvSpPr>
              <p:cNvPr id="197" name="Oval 18"/>
              <p:cNvSpPr/>
              <p:nvPr/>
            </p:nvSpPr>
            <p:spPr>
              <a:xfrm>
                <a:off x="2219040" y="3813120"/>
                <a:ext cx="319320" cy="31896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8" name="Oval 19"/>
              <p:cNvSpPr/>
              <p:nvPr/>
            </p:nvSpPr>
            <p:spPr>
              <a:xfrm>
                <a:off x="2310120" y="3905280"/>
                <a:ext cx="136440" cy="13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20"/>
            <p:cNvGrpSpPr/>
            <p:nvPr/>
          </p:nvGrpSpPr>
          <p:grpSpPr>
            <a:xfrm>
              <a:off x="1266840" y="3813120"/>
              <a:ext cx="318960" cy="318960"/>
              <a:chOff x="1266840" y="3813120"/>
              <a:chExt cx="318960" cy="318960"/>
            </a:xfrm>
          </p:grpSpPr>
          <p:sp>
            <p:nvSpPr>
              <p:cNvPr id="200" name="Oval 21"/>
              <p:cNvSpPr/>
              <p:nvPr/>
            </p:nvSpPr>
            <p:spPr>
              <a:xfrm>
                <a:off x="1266840" y="3813120"/>
                <a:ext cx="318960" cy="31896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1" name="Oval 22"/>
              <p:cNvSpPr/>
              <p:nvPr/>
            </p:nvSpPr>
            <p:spPr>
              <a:xfrm>
                <a:off x="1357920" y="3905280"/>
                <a:ext cx="136440" cy="13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23"/>
          <p:cNvGrpSpPr/>
          <p:nvPr/>
        </p:nvGrpSpPr>
        <p:grpSpPr>
          <a:xfrm>
            <a:off x="561960" y="4675320"/>
            <a:ext cx="2233800" cy="758520"/>
            <a:chOff x="561960" y="4675320"/>
            <a:chExt cx="2233800" cy="758520"/>
          </a:xfrm>
        </p:grpSpPr>
        <p:sp>
          <p:nvSpPr>
            <p:cNvPr id="203" name="AutoShape 24"/>
            <p:cNvSpPr/>
            <p:nvPr/>
          </p:nvSpPr>
          <p:spPr>
            <a:xfrm>
              <a:off x="604440" y="5181120"/>
              <a:ext cx="2037600" cy="83520"/>
            </a:xfrm>
            <a:prstGeom prst="roundRect">
              <a:avLst>
                <a:gd name="adj" fmla="val 50000"/>
              </a:avLst>
            </a:prstGeom>
            <a:solidFill>
              <a:srgbClr val="4d4d4d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4" name="Freeform 25"/>
            <p:cNvSpPr/>
            <p:nvPr/>
          </p:nvSpPr>
          <p:spPr>
            <a:xfrm>
              <a:off x="561960" y="4675320"/>
              <a:ext cx="2233800" cy="589680"/>
            </a:xfrm>
            <a:prstGeom prst="pie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05" name="Group 26"/>
            <p:cNvGrpSpPr/>
            <p:nvPr/>
          </p:nvGrpSpPr>
          <p:grpSpPr>
            <a:xfrm>
              <a:off x="2037600" y="5096880"/>
              <a:ext cx="336960" cy="336960"/>
              <a:chOff x="2037600" y="5096880"/>
              <a:chExt cx="336960" cy="336960"/>
            </a:xfrm>
          </p:grpSpPr>
          <p:sp>
            <p:nvSpPr>
              <p:cNvPr id="206" name="Oval 27"/>
              <p:cNvSpPr/>
              <p:nvPr/>
            </p:nvSpPr>
            <p:spPr>
              <a:xfrm>
                <a:off x="2037600" y="5096880"/>
                <a:ext cx="336960" cy="33696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7" name="Oval 28"/>
              <p:cNvSpPr/>
              <p:nvPr/>
            </p:nvSpPr>
            <p:spPr>
              <a:xfrm>
                <a:off x="2133720" y="5194080"/>
                <a:ext cx="144000" cy="144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29"/>
            <p:cNvGrpSpPr/>
            <p:nvPr/>
          </p:nvGrpSpPr>
          <p:grpSpPr>
            <a:xfrm>
              <a:off x="815400" y="5096880"/>
              <a:ext cx="337320" cy="336960"/>
              <a:chOff x="815400" y="5096880"/>
              <a:chExt cx="337320" cy="336960"/>
            </a:xfrm>
          </p:grpSpPr>
          <p:sp>
            <p:nvSpPr>
              <p:cNvPr id="209" name="Oval 30"/>
              <p:cNvSpPr/>
              <p:nvPr/>
            </p:nvSpPr>
            <p:spPr>
              <a:xfrm>
                <a:off x="815400" y="5096880"/>
                <a:ext cx="337320" cy="33696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0" name="Oval 31"/>
              <p:cNvSpPr/>
              <p:nvPr/>
            </p:nvSpPr>
            <p:spPr>
              <a:xfrm>
                <a:off x="911880" y="5194080"/>
                <a:ext cx="144360" cy="144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Group 32"/>
          <p:cNvGrpSpPr/>
          <p:nvPr/>
        </p:nvGrpSpPr>
        <p:grpSpPr>
          <a:xfrm>
            <a:off x="4089240" y="1844640"/>
            <a:ext cx="1295640" cy="647280"/>
            <a:chOff x="4089240" y="1844640"/>
            <a:chExt cx="1295640" cy="647280"/>
          </a:xfrm>
        </p:grpSpPr>
        <p:sp>
          <p:nvSpPr>
            <p:cNvPr id="212" name="Freeform 33"/>
            <p:cNvSpPr/>
            <p:nvPr/>
          </p:nvSpPr>
          <p:spPr>
            <a:xfrm>
              <a:off x="4089240" y="1844640"/>
              <a:ext cx="1295640" cy="526680"/>
            </a:xfrm>
            <a:prstGeom prst="pie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13" name="Group 34"/>
            <p:cNvGrpSpPr/>
            <p:nvPr/>
          </p:nvGrpSpPr>
          <p:grpSpPr>
            <a:xfrm>
              <a:off x="4979160" y="2271600"/>
              <a:ext cx="203400" cy="220320"/>
              <a:chOff x="4979160" y="2271600"/>
              <a:chExt cx="203400" cy="220320"/>
            </a:xfrm>
          </p:grpSpPr>
          <p:sp>
            <p:nvSpPr>
              <p:cNvPr id="214" name="Oval 35"/>
              <p:cNvSpPr/>
              <p:nvPr/>
            </p:nvSpPr>
            <p:spPr>
              <a:xfrm>
                <a:off x="4979160" y="2271600"/>
                <a:ext cx="203400" cy="22032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5" name="Oval 36"/>
              <p:cNvSpPr/>
              <p:nvPr/>
            </p:nvSpPr>
            <p:spPr>
              <a:xfrm>
                <a:off x="5037120" y="2334960"/>
                <a:ext cx="87120" cy="9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37"/>
            <p:cNvGrpSpPr/>
            <p:nvPr/>
          </p:nvGrpSpPr>
          <p:grpSpPr>
            <a:xfrm>
              <a:off x="4267440" y="2271600"/>
              <a:ext cx="203040" cy="220320"/>
              <a:chOff x="4267440" y="2271600"/>
              <a:chExt cx="203040" cy="220320"/>
            </a:xfrm>
          </p:grpSpPr>
          <p:sp>
            <p:nvSpPr>
              <p:cNvPr id="217" name="Oval 38"/>
              <p:cNvSpPr/>
              <p:nvPr/>
            </p:nvSpPr>
            <p:spPr>
              <a:xfrm>
                <a:off x="4267440" y="2271600"/>
                <a:ext cx="203040" cy="22032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8" name="Oval 39"/>
              <p:cNvSpPr/>
              <p:nvPr/>
            </p:nvSpPr>
            <p:spPr>
              <a:xfrm>
                <a:off x="4325400" y="2334960"/>
                <a:ext cx="86760" cy="9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40"/>
          <p:cNvGrpSpPr/>
          <p:nvPr/>
        </p:nvGrpSpPr>
        <p:grpSpPr>
          <a:xfrm>
            <a:off x="4089240" y="3789360"/>
            <a:ext cx="1440000" cy="720360"/>
            <a:chOff x="4089240" y="3789360"/>
            <a:chExt cx="1440000" cy="720360"/>
          </a:xfrm>
        </p:grpSpPr>
        <p:sp>
          <p:nvSpPr>
            <p:cNvPr id="220" name="Rectangle 41"/>
            <p:cNvSpPr/>
            <p:nvPr/>
          </p:nvSpPr>
          <p:spPr>
            <a:xfrm>
              <a:off x="4116240" y="4311720"/>
              <a:ext cx="1413000" cy="4932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" name="Freeform 42"/>
            <p:cNvSpPr/>
            <p:nvPr/>
          </p:nvSpPr>
          <p:spPr>
            <a:xfrm>
              <a:off x="4089240" y="3863520"/>
              <a:ext cx="1440000" cy="472680"/>
            </a:xfrm>
            <a:prstGeom prst="pie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" name="Rectangle 43"/>
            <p:cNvSpPr/>
            <p:nvPr/>
          </p:nvSpPr>
          <p:spPr>
            <a:xfrm>
              <a:off x="4196160" y="3814560"/>
              <a:ext cx="693000" cy="244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" name="Rectangle 44"/>
            <p:cNvSpPr/>
            <p:nvPr/>
          </p:nvSpPr>
          <p:spPr>
            <a:xfrm>
              <a:off x="4222440" y="3789360"/>
              <a:ext cx="26280" cy="12420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" name="Rectangle 45"/>
            <p:cNvSpPr/>
            <p:nvPr/>
          </p:nvSpPr>
          <p:spPr>
            <a:xfrm>
              <a:off x="4835520" y="3789360"/>
              <a:ext cx="26280" cy="12420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" name="Freeform 46"/>
            <p:cNvSpPr/>
            <p:nvPr/>
          </p:nvSpPr>
          <p:spPr>
            <a:xfrm>
              <a:off x="4142520" y="4336200"/>
              <a:ext cx="159840" cy="74160"/>
            </a:xfrm>
            <a:prstGeom prst="pie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26" name="Group 47"/>
            <p:cNvGrpSpPr/>
            <p:nvPr/>
          </p:nvGrpSpPr>
          <p:grpSpPr>
            <a:xfrm>
              <a:off x="4249080" y="4261680"/>
              <a:ext cx="266040" cy="248040"/>
              <a:chOff x="4249080" y="4261680"/>
              <a:chExt cx="266040" cy="248040"/>
            </a:xfrm>
          </p:grpSpPr>
          <p:sp>
            <p:nvSpPr>
              <p:cNvPr id="227" name="Oval 48"/>
              <p:cNvSpPr/>
              <p:nvPr/>
            </p:nvSpPr>
            <p:spPr>
              <a:xfrm>
                <a:off x="4249080" y="4261680"/>
                <a:ext cx="266040" cy="24804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8" name="Oval 49"/>
              <p:cNvSpPr/>
              <p:nvPr/>
            </p:nvSpPr>
            <p:spPr>
              <a:xfrm>
                <a:off x="4325040" y="4333320"/>
                <a:ext cx="113760" cy="10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29" name="Rectangle 50"/>
            <p:cNvSpPr/>
            <p:nvPr/>
          </p:nvSpPr>
          <p:spPr>
            <a:xfrm>
              <a:off x="4862520" y="4286520"/>
              <a:ext cx="26280" cy="12420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0" name="Rectangle 51"/>
            <p:cNvSpPr/>
            <p:nvPr/>
          </p:nvSpPr>
          <p:spPr>
            <a:xfrm>
              <a:off x="4996080" y="4286520"/>
              <a:ext cx="26280" cy="12420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1" name="Rectangle 52"/>
            <p:cNvSpPr/>
            <p:nvPr/>
          </p:nvSpPr>
          <p:spPr>
            <a:xfrm>
              <a:off x="4515840" y="4386240"/>
              <a:ext cx="986040" cy="244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2" name="Rectangle 53"/>
            <p:cNvSpPr/>
            <p:nvPr/>
          </p:nvSpPr>
          <p:spPr>
            <a:xfrm>
              <a:off x="4595760" y="4286520"/>
              <a:ext cx="26280" cy="12420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33" name="Group 54"/>
            <p:cNvGrpSpPr/>
            <p:nvPr/>
          </p:nvGrpSpPr>
          <p:grpSpPr>
            <a:xfrm>
              <a:off x="5076000" y="4261680"/>
              <a:ext cx="266040" cy="248040"/>
              <a:chOff x="5076000" y="4261680"/>
              <a:chExt cx="266040" cy="248040"/>
            </a:xfrm>
          </p:grpSpPr>
          <p:sp>
            <p:nvSpPr>
              <p:cNvPr id="234" name="Oval 55"/>
              <p:cNvSpPr/>
              <p:nvPr/>
            </p:nvSpPr>
            <p:spPr>
              <a:xfrm>
                <a:off x="5076000" y="4261680"/>
                <a:ext cx="266040" cy="24804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5" name="Oval 56"/>
              <p:cNvSpPr/>
              <p:nvPr/>
            </p:nvSpPr>
            <p:spPr>
              <a:xfrm>
                <a:off x="5151960" y="4333320"/>
                <a:ext cx="113760" cy="10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57"/>
          <p:cNvGrpSpPr/>
          <p:nvPr/>
        </p:nvGrpSpPr>
        <p:grpSpPr>
          <a:xfrm>
            <a:off x="4089240" y="4941720"/>
            <a:ext cx="1224000" cy="649080"/>
            <a:chOff x="4089240" y="4941720"/>
            <a:chExt cx="1224000" cy="649080"/>
          </a:xfrm>
        </p:grpSpPr>
        <p:sp>
          <p:nvSpPr>
            <p:cNvPr id="237" name="Freeform 58"/>
            <p:cNvSpPr/>
            <p:nvPr/>
          </p:nvSpPr>
          <p:spPr>
            <a:xfrm>
              <a:off x="4089240" y="4941720"/>
              <a:ext cx="1217520" cy="531720"/>
            </a:xfrm>
            <a:prstGeom prst="pie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" name="AutoShape 59"/>
            <p:cNvSpPr/>
            <p:nvPr/>
          </p:nvSpPr>
          <p:spPr>
            <a:xfrm>
              <a:off x="4089240" y="5443560"/>
              <a:ext cx="1224000" cy="59040"/>
            </a:xfrm>
            <a:prstGeom prst="roundRect">
              <a:avLst>
                <a:gd name="adj" fmla="val 50000"/>
              </a:avLst>
            </a:prstGeom>
            <a:solidFill>
              <a:srgbClr val="4d4d4d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39" name="Group 60"/>
            <p:cNvGrpSpPr/>
            <p:nvPr/>
          </p:nvGrpSpPr>
          <p:grpSpPr>
            <a:xfrm>
              <a:off x="4993560" y="5384160"/>
              <a:ext cx="185760" cy="206640"/>
              <a:chOff x="4993560" y="5384160"/>
              <a:chExt cx="185760" cy="206640"/>
            </a:xfrm>
          </p:grpSpPr>
          <p:sp>
            <p:nvSpPr>
              <p:cNvPr id="240" name="Oval 61"/>
              <p:cNvSpPr/>
              <p:nvPr/>
            </p:nvSpPr>
            <p:spPr>
              <a:xfrm>
                <a:off x="4993560" y="5384160"/>
                <a:ext cx="185760" cy="20664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1" name="Oval 62"/>
              <p:cNvSpPr/>
              <p:nvPr/>
            </p:nvSpPr>
            <p:spPr>
              <a:xfrm>
                <a:off x="5046480" y="5443560"/>
                <a:ext cx="79560" cy="88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63"/>
            <p:cNvGrpSpPr/>
            <p:nvPr/>
          </p:nvGrpSpPr>
          <p:grpSpPr>
            <a:xfrm>
              <a:off x="4195080" y="5384160"/>
              <a:ext cx="185760" cy="206640"/>
              <a:chOff x="4195080" y="5384160"/>
              <a:chExt cx="185760" cy="206640"/>
            </a:xfrm>
          </p:grpSpPr>
          <p:sp>
            <p:nvSpPr>
              <p:cNvPr id="243" name="Oval 64"/>
              <p:cNvSpPr/>
              <p:nvPr/>
            </p:nvSpPr>
            <p:spPr>
              <a:xfrm>
                <a:off x="4195080" y="5384160"/>
                <a:ext cx="185760" cy="20664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4" name="Oval 65"/>
              <p:cNvSpPr/>
              <p:nvPr/>
            </p:nvSpPr>
            <p:spPr>
              <a:xfrm>
                <a:off x="4248000" y="5443560"/>
                <a:ext cx="79560" cy="88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Group 66"/>
          <p:cNvGrpSpPr/>
          <p:nvPr/>
        </p:nvGrpSpPr>
        <p:grpSpPr>
          <a:xfrm>
            <a:off x="4089240" y="2852640"/>
            <a:ext cx="1511640" cy="550800"/>
            <a:chOff x="4089240" y="2852640"/>
            <a:chExt cx="1511640" cy="550800"/>
          </a:xfrm>
        </p:grpSpPr>
        <p:sp>
          <p:nvSpPr>
            <p:cNvPr id="246" name="Freeform 67"/>
            <p:cNvSpPr/>
            <p:nvPr/>
          </p:nvSpPr>
          <p:spPr>
            <a:xfrm>
              <a:off x="4089240" y="2852640"/>
              <a:ext cx="1511640" cy="438480"/>
            </a:xfrm>
            <a:prstGeom prst="pie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7" name="Oval 68"/>
            <p:cNvSpPr/>
            <p:nvPr/>
          </p:nvSpPr>
          <p:spPr>
            <a:xfrm>
              <a:off x="5125680" y="3081600"/>
              <a:ext cx="272520" cy="321840"/>
            </a:xfrm>
            <a:prstGeom prst="ellipse">
              <a:avLst/>
            </a:prstGeom>
            <a:solidFill>
              <a:srgbClr val="4d4d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8" name="Oval 69"/>
            <p:cNvSpPr/>
            <p:nvPr/>
          </p:nvSpPr>
          <p:spPr>
            <a:xfrm>
              <a:off x="5179680" y="3145320"/>
              <a:ext cx="164160" cy="194040"/>
            </a:xfrm>
            <a:prstGeom prst="ellipse">
              <a:avLst/>
            </a:prstGeom>
            <a:solidFill>
              <a:srgbClr val="4d4d4d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9" name="Oval 70"/>
            <p:cNvSpPr/>
            <p:nvPr/>
          </p:nvSpPr>
          <p:spPr>
            <a:xfrm>
              <a:off x="4258080" y="3081600"/>
              <a:ext cx="272520" cy="321840"/>
            </a:xfrm>
            <a:prstGeom prst="ellipse">
              <a:avLst/>
            </a:prstGeom>
            <a:solidFill>
              <a:srgbClr val="4d4d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0" name="Oval 71"/>
            <p:cNvSpPr/>
            <p:nvPr/>
          </p:nvSpPr>
          <p:spPr>
            <a:xfrm>
              <a:off x="4312080" y="3145320"/>
              <a:ext cx="164520" cy="194040"/>
            </a:xfrm>
            <a:prstGeom prst="ellipse">
              <a:avLst/>
            </a:prstGeom>
            <a:solidFill>
              <a:srgbClr val="4d4d4d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51" name="Text Box 72"/>
          <p:cNvSpPr/>
          <p:nvPr/>
        </p:nvSpPr>
        <p:spPr>
          <a:xfrm>
            <a:off x="1499040" y="272268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mini/ supermini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Text Box 73"/>
          <p:cNvSpPr/>
          <p:nvPr/>
        </p:nvSpPr>
        <p:spPr>
          <a:xfrm>
            <a:off x="1581840" y="41860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lower mediu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Text Box 74"/>
          <p:cNvSpPr/>
          <p:nvPr/>
        </p:nvSpPr>
        <p:spPr>
          <a:xfrm>
            <a:off x="4090320" y="453384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x4/ SUV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Text Box 75"/>
          <p:cNvSpPr/>
          <p:nvPr/>
        </p:nvSpPr>
        <p:spPr>
          <a:xfrm>
            <a:off x="4091040" y="5545080"/>
            <a:ext cx="4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va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Text Box 76"/>
          <p:cNvSpPr/>
          <p:nvPr/>
        </p:nvSpPr>
        <p:spPr>
          <a:xfrm>
            <a:off x="1555200" y="5492880"/>
            <a:ext cx="111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upper mediu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Text Box 77"/>
          <p:cNvSpPr/>
          <p:nvPr/>
        </p:nvSpPr>
        <p:spPr>
          <a:xfrm>
            <a:off x="4092480" y="340200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executive/ luxury saloon/ sports ca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Text Box 78"/>
          <p:cNvSpPr/>
          <p:nvPr/>
        </p:nvSpPr>
        <p:spPr>
          <a:xfrm>
            <a:off x="4091760" y="249228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MPV/ people carri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Text Box 79"/>
          <p:cNvSpPr/>
          <p:nvPr/>
        </p:nvSpPr>
        <p:spPr>
          <a:xfrm>
            <a:off x="1762200" y="204804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30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Text Box 80"/>
          <p:cNvSpPr/>
          <p:nvPr/>
        </p:nvSpPr>
        <p:spPr>
          <a:xfrm>
            <a:off x="1571760" y="341640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24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Text Box 81"/>
          <p:cNvSpPr/>
          <p:nvPr/>
        </p:nvSpPr>
        <p:spPr>
          <a:xfrm>
            <a:off x="1257120" y="478476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14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Text Box 82"/>
          <p:cNvSpPr/>
          <p:nvPr/>
        </p:nvSpPr>
        <p:spPr>
          <a:xfrm>
            <a:off x="4468680" y="286380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7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Text Box 83"/>
          <p:cNvSpPr/>
          <p:nvPr/>
        </p:nvSpPr>
        <p:spPr>
          <a:xfrm>
            <a:off x="4500720" y="49910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2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Text Box 84"/>
          <p:cNvSpPr/>
          <p:nvPr/>
        </p:nvSpPr>
        <p:spPr>
          <a:xfrm>
            <a:off x="4394160" y="191628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10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Text Box 85"/>
          <p:cNvSpPr/>
          <p:nvPr/>
        </p:nvSpPr>
        <p:spPr>
          <a:xfrm>
            <a:off x="4468680" y="393372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3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" name="AutoShape 86"/>
          <p:cNvSpPr/>
          <p:nvPr/>
        </p:nvSpPr>
        <p:spPr>
          <a:xfrm>
            <a:off x="2865600" y="1771560"/>
            <a:ext cx="288720" cy="4249800"/>
          </a:xfrm>
          <a:custGeom>
            <a:avLst/>
            <a:gdLst>
              <a:gd name="textAreaLeft" fmla="*/ 0 w 288720"/>
              <a:gd name="textAreaRight" fmla="*/ 104040 w 288720"/>
              <a:gd name="textAreaTop" fmla="*/ 43560 h 4249800"/>
              <a:gd name="textAreaBottom" fmla="*/ 420624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5"/>
                  <a:pt x="10800" y="710"/>
                </a:cubicBezTo>
                <a:lnTo>
                  <a:pt x="10800" y="10090"/>
                </a:lnTo>
                <a:cubicBezTo>
                  <a:pt x="10800" y="10445"/>
                  <a:pt x="16200" y="10800"/>
                  <a:pt x="21600" y="10800"/>
                </a:cubicBezTo>
                <a:cubicBezTo>
                  <a:pt x="16200" y="10800"/>
                  <a:pt x="10800" y="11155"/>
                  <a:pt x="10800" y="11510"/>
                </a:cubicBezTo>
                <a:lnTo>
                  <a:pt x="10800" y="20890"/>
                </a:lnTo>
                <a:cubicBezTo>
                  <a:pt x="10800" y="2124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Text Box 87"/>
          <p:cNvSpPr/>
          <p:nvPr/>
        </p:nvSpPr>
        <p:spPr>
          <a:xfrm>
            <a:off x="3152880" y="37162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67%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Rectangle 89"/>
          <p:cNvSpPr/>
          <p:nvPr/>
        </p:nvSpPr>
        <p:spPr>
          <a:xfrm>
            <a:off x="166680" y="1332000"/>
            <a:ext cx="495288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Q21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What is the make and model of your car?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Text Box 90"/>
          <p:cNvSpPr/>
          <p:nvPr/>
        </p:nvSpPr>
        <p:spPr>
          <a:xfrm>
            <a:off x="6593040" y="1332000"/>
            <a:ext cx="303984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Q24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What type of fuel does your car use?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69" name="Object 91"/>
          <p:cNvGraphicFramePr/>
          <p:nvPr/>
        </p:nvGraphicFramePr>
        <p:xfrm>
          <a:off x="7184880" y="2558880"/>
          <a:ext cx="219240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9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84880" y="2558880"/>
                    <a:ext cx="21924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92"/>
          <p:cNvSpPr/>
          <p:nvPr/>
        </p:nvSpPr>
        <p:spPr>
          <a:xfrm>
            <a:off x="8553600" y="45752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petro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Text Box 93"/>
          <p:cNvSpPr/>
          <p:nvPr/>
        </p:nvSpPr>
        <p:spPr>
          <a:xfrm>
            <a:off x="6969240" y="29192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ies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Text Box 94"/>
          <p:cNvSpPr/>
          <p:nvPr/>
        </p:nvSpPr>
        <p:spPr>
          <a:xfrm>
            <a:off x="7861320" y="1989000"/>
            <a:ext cx="144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LPG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*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hybrid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*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electric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*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Text Box 95"/>
          <p:cNvSpPr/>
          <p:nvPr/>
        </p:nvSpPr>
        <p:spPr>
          <a:xfrm>
            <a:off x="8267040" y="40021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74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Text Box 96"/>
          <p:cNvSpPr/>
          <p:nvPr/>
        </p:nvSpPr>
        <p:spPr>
          <a:xfrm>
            <a:off x="7546320" y="33526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Line 97"/>
          <p:cNvSpPr/>
          <p:nvPr/>
        </p:nvSpPr>
        <p:spPr>
          <a:xfrm>
            <a:off x="8159760" y="2703600"/>
            <a:ext cx="0" cy="287280"/>
          </a:xfrm>
          <a:prstGeom prst="line">
            <a:avLst/>
          </a:prstGeom>
          <a:ln w="9360">
            <a:solidFill>
              <a:srgbClr val="005e9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" name="Text Box 98"/>
          <p:cNvSpPr/>
          <p:nvPr/>
        </p:nvSpPr>
        <p:spPr>
          <a:xfrm>
            <a:off x="363600" y="595008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 Narrow"/>
              </a:rPr>
              <a:t>*  less than 0.5%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Text Box 99"/>
          <p:cNvSpPr/>
          <p:nvPr/>
        </p:nvSpPr>
        <p:spPr>
          <a:xfrm>
            <a:off x="4091760" y="5900760"/>
            <a:ext cx="145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unspecified      </a:t>
            </a: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10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age and purchasing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graphicFrame>
        <p:nvGraphicFramePr>
          <p:cNvPr id="280" name="Object 5"/>
          <p:cNvGraphicFramePr/>
          <p:nvPr/>
        </p:nvGraphicFramePr>
        <p:xfrm>
          <a:off x="2075040" y="2368440"/>
          <a:ext cx="3004920" cy="32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5040" y="2368440"/>
                    <a:ext cx="300492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6"/>
          <p:cNvSpPr/>
          <p:nvPr/>
        </p:nvSpPr>
        <p:spPr>
          <a:xfrm>
            <a:off x="560520" y="261144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up to 1 year ol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560520" y="311472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 to 2 years ol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560520" y="361800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-3 years ol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560520" y="412128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-4 years ol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560520" y="46245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5-10 years ol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2075040" y="227664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Text Box 17"/>
          <p:cNvSpPr/>
          <p:nvPr/>
        </p:nvSpPr>
        <p:spPr>
          <a:xfrm>
            <a:off x="109440" y="1484280"/>
            <a:ext cx="33130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Q22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pproximately how old is this car?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Text Box 18"/>
          <p:cNvSpPr/>
          <p:nvPr/>
        </p:nvSpPr>
        <p:spPr>
          <a:xfrm>
            <a:off x="560520" y="512928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over 10 years ol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90" name="Object 28"/>
          <p:cNvGraphicFramePr/>
          <p:nvPr/>
        </p:nvGraphicFramePr>
        <p:xfrm>
          <a:off x="6613560" y="2484360"/>
          <a:ext cx="2905200" cy="15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13560" y="2484360"/>
                    <a:ext cx="29052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Text Box 29"/>
          <p:cNvSpPr/>
          <p:nvPr/>
        </p:nvSpPr>
        <p:spPr>
          <a:xfrm>
            <a:off x="5097600" y="267480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on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5097600" y="313200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tw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Text Box 31"/>
          <p:cNvSpPr/>
          <p:nvPr/>
        </p:nvSpPr>
        <p:spPr>
          <a:xfrm>
            <a:off x="5097600" y="359100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three or mo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Text Box 32"/>
          <p:cNvSpPr/>
          <p:nvPr/>
        </p:nvSpPr>
        <p:spPr>
          <a:xfrm>
            <a:off x="6612120" y="239544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4648320" y="1484280"/>
            <a:ext cx="376056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Q20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How many cars are there in your household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?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Text Box 34"/>
          <p:cNvSpPr/>
          <p:nvPr/>
        </p:nvSpPr>
        <p:spPr>
          <a:xfrm>
            <a:off x="344520" y="56610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verage age 5.2 years ol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Object 2"/>
          <p:cNvGraphicFramePr/>
          <p:nvPr/>
        </p:nvGraphicFramePr>
        <p:xfrm>
          <a:off x="3081240" y="1442880"/>
          <a:ext cx="454356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1240" y="1442880"/>
                    <a:ext cx="454356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annual mileage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222200" y="167796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less than 3,000 mile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103320" y="5661000"/>
            <a:ext cx="6649920" cy="5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25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pproximately how many miles do you drive in a year, on average?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3159000" y="136836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Text Box 48"/>
          <p:cNvSpPr/>
          <p:nvPr/>
        </p:nvSpPr>
        <p:spPr>
          <a:xfrm>
            <a:off x="1222200" y="205740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,001-6,00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Text Box 49"/>
          <p:cNvSpPr/>
          <p:nvPr/>
        </p:nvSpPr>
        <p:spPr>
          <a:xfrm>
            <a:off x="1222200" y="243684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6,001-9,00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Text Box 50"/>
          <p:cNvSpPr/>
          <p:nvPr/>
        </p:nvSpPr>
        <p:spPr>
          <a:xfrm>
            <a:off x="1222200" y="28177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9,001-12,00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Text Box 51"/>
          <p:cNvSpPr/>
          <p:nvPr/>
        </p:nvSpPr>
        <p:spPr>
          <a:xfrm>
            <a:off x="1222200" y="319716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2,001-15,00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Text Box 52"/>
          <p:cNvSpPr/>
          <p:nvPr/>
        </p:nvSpPr>
        <p:spPr>
          <a:xfrm>
            <a:off x="1222200" y="357840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5,001-24,00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Text Box 53"/>
          <p:cNvSpPr/>
          <p:nvPr/>
        </p:nvSpPr>
        <p:spPr>
          <a:xfrm>
            <a:off x="1222200" y="395748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over 24,00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Text Box 54"/>
          <p:cNvSpPr/>
          <p:nvPr/>
        </p:nvSpPr>
        <p:spPr>
          <a:xfrm>
            <a:off x="1224720" y="474984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nnual average: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Text Box 55"/>
          <p:cNvSpPr/>
          <p:nvPr/>
        </p:nvSpPr>
        <p:spPr>
          <a:xfrm>
            <a:off x="3157560" y="4749840"/>
            <a:ext cx="417204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r" pos="2514600"/>
                <a:tab algn="r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ll motorists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8,410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9,01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r" pos="2514600"/>
                <a:tab algn="r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ll company car drivers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8,190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7,1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r" pos="2514600"/>
                <a:tab algn="r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ll private motorists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7,920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8,50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Text Box 56"/>
          <p:cNvSpPr/>
          <p:nvPr/>
        </p:nvSpPr>
        <p:spPr>
          <a:xfrm>
            <a:off x="1220760" y="129708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no of miles p.a.: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Text Box 57"/>
          <p:cNvSpPr/>
          <p:nvPr/>
        </p:nvSpPr>
        <p:spPr>
          <a:xfrm>
            <a:off x="1217520" y="43387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on’t kno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Text Box 58"/>
          <p:cNvSpPr/>
          <p:nvPr/>
        </p:nvSpPr>
        <p:spPr>
          <a:xfrm>
            <a:off x="6384240" y="4264200"/>
            <a:ext cx="721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MS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n=1,116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Object 2"/>
          <p:cNvGraphicFramePr/>
          <p:nvPr/>
        </p:nvGraphicFramePr>
        <p:xfrm>
          <a:off x="3328920" y="3286080"/>
          <a:ext cx="263844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8920" y="3286080"/>
                    <a:ext cx="263844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effect on driving behaviour – since increase in the cost of fuel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181080" y="2265480"/>
            <a:ext cx="6572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Q28b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In what ways has your driving behaviour changed since the increase in the cost of fuel, for the follow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Base: all where driving behaviour has changed (n=667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538440" y="2708280"/>
            <a:ext cx="7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total increas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1-2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8434440" y="270828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total decreas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4-5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21" name="Object 7"/>
          <p:cNvGraphicFramePr/>
          <p:nvPr/>
        </p:nvGraphicFramePr>
        <p:xfrm>
          <a:off x="6272280" y="3295800"/>
          <a:ext cx="2636640" cy="28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2280" y="3295800"/>
                    <a:ext cx="263664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 Box 9"/>
          <p:cNvSpPr/>
          <p:nvPr/>
        </p:nvSpPr>
        <p:spPr>
          <a:xfrm>
            <a:off x="8676000" y="33750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6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522360" y="3389400"/>
            <a:ext cx="25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Short/ local journe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Line 12"/>
          <p:cNvSpPr/>
          <p:nvPr/>
        </p:nvSpPr>
        <p:spPr>
          <a:xfrm>
            <a:off x="6335640" y="3389400"/>
            <a:ext cx="0" cy="2647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522360" y="3728880"/>
            <a:ext cx="233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Longer journey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22360" y="4038480"/>
            <a:ext cx="233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Better driving to conserve fue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522360" y="5400720"/>
            <a:ext cx="29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Use of a lower consumption car in my househol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522360" y="5068800"/>
            <a:ext cx="26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Sharing car transpo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522360" y="4400640"/>
            <a:ext cx="283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Walk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Line 18"/>
          <p:cNvSpPr/>
          <p:nvPr/>
        </p:nvSpPr>
        <p:spPr>
          <a:xfrm>
            <a:off x="5902200" y="3389400"/>
            <a:ext cx="0" cy="2647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8676000" y="36990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4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8757000" y="53704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8757000" y="402444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8757000" y="503856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8757000" y="437040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5711760" y="270828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no </a:t>
            </a:r>
            <a:br>
              <a:rPr sz="1200"/>
            </a:b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chang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3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Text Box 30"/>
          <p:cNvSpPr/>
          <p:nvPr/>
        </p:nvSpPr>
        <p:spPr>
          <a:xfrm>
            <a:off x="6478560" y="2708280"/>
            <a:ext cx="947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do less </a:t>
            </a:r>
            <a:br>
              <a:rPr sz="1200"/>
            </a:b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than used t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4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7415280" y="270828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have stopp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5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4861080" y="2708280"/>
            <a:ext cx="98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do more </a:t>
            </a:r>
            <a:br>
              <a:rPr sz="1200"/>
            </a:b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than used t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2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Text Box 33"/>
          <p:cNvSpPr/>
          <p:nvPr/>
        </p:nvSpPr>
        <p:spPr>
          <a:xfrm>
            <a:off x="4259160" y="270828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have begun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1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5964480" y="337356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3" name="Text Box 35"/>
          <p:cNvSpPr/>
          <p:nvPr/>
        </p:nvSpPr>
        <p:spPr>
          <a:xfrm>
            <a:off x="5964480" y="36990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4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4" name="Text Box 36"/>
          <p:cNvSpPr/>
          <p:nvPr/>
        </p:nvSpPr>
        <p:spPr>
          <a:xfrm>
            <a:off x="5964480" y="403236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2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5964480" y="43704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3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6" name="Text Box 38"/>
          <p:cNvSpPr/>
          <p:nvPr/>
        </p:nvSpPr>
        <p:spPr>
          <a:xfrm>
            <a:off x="5964480" y="4702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6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5964480" y="503856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7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8" name="Text Box 40"/>
          <p:cNvSpPr/>
          <p:nvPr/>
        </p:nvSpPr>
        <p:spPr>
          <a:xfrm>
            <a:off x="3845160" y="337356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3845160" y="369900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0" name="Text Box 42"/>
          <p:cNvSpPr/>
          <p:nvPr/>
        </p:nvSpPr>
        <p:spPr>
          <a:xfrm>
            <a:off x="3764160" y="537048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1" name="Text Box 43"/>
          <p:cNvSpPr/>
          <p:nvPr/>
        </p:nvSpPr>
        <p:spPr>
          <a:xfrm>
            <a:off x="3764160" y="402444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7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2" name="Text Box 44"/>
          <p:cNvSpPr/>
          <p:nvPr/>
        </p:nvSpPr>
        <p:spPr>
          <a:xfrm>
            <a:off x="3764160" y="503856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2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3" name="Text Box 45"/>
          <p:cNvSpPr/>
          <p:nvPr/>
        </p:nvSpPr>
        <p:spPr>
          <a:xfrm>
            <a:off x="3764160" y="43704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6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4" name="Text Box 46"/>
          <p:cNvSpPr/>
          <p:nvPr/>
        </p:nvSpPr>
        <p:spPr>
          <a:xfrm>
            <a:off x="5969160" y="537048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7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Text Box 47"/>
          <p:cNvSpPr/>
          <p:nvPr/>
        </p:nvSpPr>
        <p:spPr>
          <a:xfrm>
            <a:off x="5973840" y="57024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77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Text Box 48"/>
          <p:cNvSpPr/>
          <p:nvPr/>
        </p:nvSpPr>
        <p:spPr>
          <a:xfrm>
            <a:off x="3764160" y="57024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Text Box 49"/>
          <p:cNvSpPr/>
          <p:nvPr/>
        </p:nvSpPr>
        <p:spPr>
          <a:xfrm>
            <a:off x="3764160" y="4702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3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8" name="Text Box 50"/>
          <p:cNvSpPr/>
          <p:nvPr/>
        </p:nvSpPr>
        <p:spPr>
          <a:xfrm>
            <a:off x="8757000" y="570240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Text Box 51"/>
          <p:cNvSpPr/>
          <p:nvPr/>
        </p:nvSpPr>
        <p:spPr>
          <a:xfrm>
            <a:off x="8757000" y="4702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Text Box 54"/>
          <p:cNvSpPr/>
          <p:nvPr/>
        </p:nvSpPr>
        <p:spPr>
          <a:xfrm>
            <a:off x="522360" y="5732640"/>
            <a:ext cx="283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Cycl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Text Box 55"/>
          <p:cNvSpPr/>
          <p:nvPr/>
        </p:nvSpPr>
        <p:spPr>
          <a:xfrm>
            <a:off x="522360" y="4702320"/>
            <a:ext cx="283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Using public transpo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2" name="Rectangle 56"/>
          <p:cNvSpPr/>
          <p:nvPr/>
        </p:nvSpPr>
        <p:spPr>
          <a:xfrm>
            <a:off x="181080" y="1268280"/>
            <a:ext cx="65721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Q28a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Has the increase in the cost of fuel changed your driving behaviour in any way?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63" name="Object 57"/>
          <p:cNvGraphicFramePr/>
          <p:nvPr/>
        </p:nvGraphicFramePr>
        <p:xfrm>
          <a:off x="3368520" y="1447920"/>
          <a:ext cx="2428920" cy="93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4" name="Object 5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68520" y="1447920"/>
                    <a:ext cx="24289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Text Box 58"/>
          <p:cNvSpPr/>
          <p:nvPr/>
        </p:nvSpPr>
        <p:spPr>
          <a:xfrm>
            <a:off x="3009600" y="161460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Ye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6" name="Text Box 59"/>
          <p:cNvSpPr/>
          <p:nvPr/>
        </p:nvSpPr>
        <p:spPr>
          <a:xfrm>
            <a:off x="3009960" y="1890720"/>
            <a:ext cx="3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N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6200" y="3428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2. availability and usage of in-car technolog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Object 2"/>
          <p:cNvGraphicFramePr/>
          <p:nvPr/>
        </p:nvGraphicFramePr>
        <p:xfrm>
          <a:off x="3081240" y="1484280"/>
          <a:ext cx="333216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1240" y="1484280"/>
                    <a:ext cx="333216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in-car technology in current car #1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566640" y="325764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B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03320" y="5661000"/>
            <a:ext cx="5641920" cy="5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1a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Do you have of the following technology in your current car?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151080" y="1386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566640" y="1798560"/>
            <a:ext cx="8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irbags: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1281240" y="17985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river and front passeng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Text Box 16"/>
          <p:cNvSpPr/>
          <p:nvPr/>
        </p:nvSpPr>
        <p:spPr>
          <a:xfrm>
            <a:off x="566640" y="522144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Brake assis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Text Box 17"/>
          <p:cNvSpPr/>
          <p:nvPr/>
        </p:nvSpPr>
        <p:spPr>
          <a:xfrm>
            <a:off x="1281240" y="2268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front side impac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Text Box 18"/>
          <p:cNvSpPr/>
          <p:nvPr/>
        </p:nvSpPr>
        <p:spPr>
          <a:xfrm>
            <a:off x="1281240" y="276372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rea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6176880" y="2708280"/>
            <a:ext cx="2952720" cy="3016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Electronic stability control/ ESP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9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daptive front light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7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LED rear light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5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EBD: electronic brake distributio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3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Parking sensor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3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Whiplash protectio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2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daptive cruise control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1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Tyre pressure monitoring system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Blind spot sensors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Intelligent speed adaptio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ollision warn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Lane departure warn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Text Box 22"/>
          <p:cNvSpPr/>
          <p:nvPr/>
        </p:nvSpPr>
        <p:spPr>
          <a:xfrm>
            <a:off x="566640" y="423864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Hazard warning lights – automati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Text Box 23"/>
          <p:cNvSpPr/>
          <p:nvPr/>
        </p:nvSpPr>
        <p:spPr>
          <a:xfrm>
            <a:off x="566640" y="47293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ntelligent protection syste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Text Box 28"/>
          <p:cNvSpPr/>
          <p:nvPr/>
        </p:nvSpPr>
        <p:spPr>
          <a:xfrm>
            <a:off x="566640" y="374796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Seatbelts –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with sound/ warning symbol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Text Box 32"/>
          <p:cNvSpPr/>
          <p:nvPr/>
        </p:nvSpPr>
        <p:spPr>
          <a:xfrm>
            <a:off x="8769240" y="23320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3152880" y="1440000"/>
          <a:ext cx="333216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2880" y="1440000"/>
                    <a:ext cx="333216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in-car technology in current car #2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103320" y="5734080"/>
            <a:ext cx="6649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1b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nd do you have of the following technology in your current car?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466560" y="430524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ir conditioning- manual contro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466560" y="497520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limate contro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2073240" y="16272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radi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2073240" y="19605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D play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2073240" y="229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VD play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3" name="Text Box 10"/>
          <p:cNvSpPr/>
          <p:nvPr/>
        </p:nvSpPr>
        <p:spPr>
          <a:xfrm>
            <a:off x="466560" y="26305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entral locking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466560" y="1627200"/>
            <a:ext cx="17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n-car entertainment: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466560" y="362916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Electric windows: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466560" y="464040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mmobilis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2122560" y="36352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fron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2144880" y="39704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rea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466560" y="531036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Satellite navigatio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0" name="Text Box 17"/>
          <p:cNvSpPr/>
          <p:nvPr/>
        </p:nvSpPr>
        <p:spPr>
          <a:xfrm>
            <a:off x="466560" y="297180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Steering: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1136520" y="296532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power assiste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3151080" y="1341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6321600" y="3068640"/>
            <a:ext cx="2952720" cy="275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utomatic windscreen wipers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Hands free mobile phone – voice controlled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utomatic headlamps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Bluetooth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Key free system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Solar reflective windscreen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Capless re-fuelling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ower/ engine start button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daptive variable suspension (AVS)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utomatic brakes in ‘stop-start’ traffic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Voice command controls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1136520" y="33004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EPS: electronic power steering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8913960" y="27082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Object 2"/>
          <p:cNvGraphicFramePr/>
          <p:nvPr/>
        </p:nvGraphicFramePr>
        <p:xfrm>
          <a:off x="3081240" y="1484280"/>
          <a:ext cx="333216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1240" y="1484280"/>
                    <a:ext cx="333216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in-car technology in current car – Don’t know #1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566640" y="325764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B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103320" y="5661000"/>
            <a:ext cx="5641920" cy="5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1a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Do you have of the following technology in your current car?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3151080" y="1386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566640" y="1798560"/>
            <a:ext cx="8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irbags: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1281240" y="17985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river and front passeng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566640" y="522144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Brake assis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1281240" y="2268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front side impac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1281240" y="276372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rea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7" name="Text Box 21"/>
          <p:cNvSpPr/>
          <p:nvPr/>
        </p:nvSpPr>
        <p:spPr>
          <a:xfrm>
            <a:off x="6176880" y="2708280"/>
            <a:ext cx="3562560" cy="3016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Electronic stability control/ ESP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9%YOF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daptive front light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4%F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LED rear light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5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20%F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EBD: electronic brake distributio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28%F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Parking sensor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3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Whiplash protectio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2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23%Y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daptive cruise control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1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Tyre pressure monitoring system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1%YF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Blind spot sensors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Intelligent speed adaptio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ollision warn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Lane departure warn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566640" y="423864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Hazard warning lights – automati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566640" y="47293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ntelligent protection syste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566640" y="374796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Seatbelts –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with sound/ warning symbol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1" name="TextBox 15"/>
          <p:cNvSpPr/>
          <p:nvPr/>
        </p:nvSpPr>
        <p:spPr>
          <a:xfrm>
            <a:off x="7596360" y="785880"/>
            <a:ext cx="2143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(Don’t know &gt;10%)total sampl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Significantly higher for: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Y = 17-24; O = 65+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M = male; F = femal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TextBox 16"/>
          <p:cNvSpPr/>
          <p:nvPr/>
        </p:nvSpPr>
        <p:spPr>
          <a:xfrm>
            <a:off x="3170880" y="32958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(12%YF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3" name="TextBox 17"/>
          <p:cNvSpPr/>
          <p:nvPr/>
        </p:nvSpPr>
        <p:spPr>
          <a:xfrm>
            <a:off x="3170880" y="2286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(12%YF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4" name="TextBox 18"/>
          <p:cNvSpPr/>
          <p:nvPr/>
        </p:nvSpPr>
        <p:spPr>
          <a:xfrm>
            <a:off x="3170160" y="278604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(15%F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TextBox 19"/>
          <p:cNvSpPr/>
          <p:nvPr/>
        </p:nvSpPr>
        <p:spPr>
          <a:xfrm>
            <a:off x="3171240" y="522432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(25%OF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8734320" y="24098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TextBox 23"/>
          <p:cNvSpPr/>
          <p:nvPr/>
        </p:nvSpPr>
        <p:spPr>
          <a:xfrm>
            <a:off x="3170880" y="422424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(12%YF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8" name="TextBox 24"/>
          <p:cNvSpPr/>
          <p:nvPr/>
        </p:nvSpPr>
        <p:spPr>
          <a:xfrm>
            <a:off x="3170160" y="472428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(28%F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Object 2"/>
          <p:cNvGraphicFramePr/>
          <p:nvPr/>
        </p:nvGraphicFramePr>
        <p:xfrm>
          <a:off x="3152880" y="1440000"/>
          <a:ext cx="333216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2880" y="1440000"/>
                    <a:ext cx="333216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in-car technology in current car – Don’t know #2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03320" y="5734080"/>
            <a:ext cx="6649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1b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nd do you have of the following technology in your current car?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466560" y="430524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ir conditioning – manual contro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466560" y="497520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limate contro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2073240" y="16272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radi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2073240" y="19605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D play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2073240" y="229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VD play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466560" y="26305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entral locking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466560" y="1627200"/>
            <a:ext cx="17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n-car entertainment: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466560" y="362916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Electric windows: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Text Box 13"/>
          <p:cNvSpPr/>
          <p:nvPr/>
        </p:nvSpPr>
        <p:spPr>
          <a:xfrm>
            <a:off x="466560" y="464040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mmobilis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2122560" y="36352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fron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2144880" y="39704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rea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Text Box 16"/>
          <p:cNvSpPr/>
          <p:nvPr/>
        </p:nvSpPr>
        <p:spPr>
          <a:xfrm>
            <a:off x="466560" y="531036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Satellite navigatio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Text Box 17"/>
          <p:cNvSpPr/>
          <p:nvPr/>
        </p:nvSpPr>
        <p:spPr>
          <a:xfrm>
            <a:off x="466560" y="297180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Steering: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Text Box 18"/>
          <p:cNvSpPr/>
          <p:nvPr/>
        </p:nvSpPr>
        <p:spPr>
          <a:xfrm>
            <a:off x="1136520" y="296532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power assiste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Text Box 19"/>
          <p:cNvSpPr/>
          <p:nvPr/>
        </p:nvSpPr>
        <p:spPr>
          <a:xfrm>
            <a:off x="3151080" y="1341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Text Box 20"/>
          <p:cNvSpPr/>
          <p:nvPr/>
        </p:nvSpPr>
        <p:spPr>
          <a:xfrm>
            <a:off x="6238800" y="3068640"/>
            <a:ext cx="3584520" cy="275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utomatic windscreen wipers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Hands free mobile phone                                      – voice controlled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utomatic headlamps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Bluetooth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Key free system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Solar reflective windscreen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10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(13%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Capless re-fuelling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ower/ engine start button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daptive variable suspension (AVS)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5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(21%OF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utomatic brakes in ‘stop-start’ traffic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Voice command controls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Text Box 21"/>
          <p:cNvSpPr/>
          <p:nvPr/>
        </p:nvSpPr>
        <p:spPr>
          <a:xfrm>
            <a:off x="1136520" y="33004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EPS: electronic power steering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TextBox 21"/>
          <p:cNvSpPr/>
          <p:nvPr/>
        </p:nvSpPr>
        <p:spPr>
          <a:xfrm>
            <a:off x="7596360" y="785880"/>
            <a:ext cx="2143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(Don’t know &gt;10%)total sampl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Significantly higher for: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Y = 17-24; O = 65+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M = male; F = femal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Text Box 19"/>
          <p:cNvSpPr/>
          <p:nvPr/>
        </p:nvSpPr>
        <p:spPr>
          <a:xfrm>
            <a:off x="8877240" y="28386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TextBox 24"/>
          <p:cNvSpPr/>
          <p:nvPr/>
        </p:nvSpPr>
        <p:spPr>
          <a:xfrm>
            <a:off x="3171240" y="335772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(20%OF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1676160"/>
            <a:ext cx="8991720" cy="463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e 2008 RAC Report on Motoring will focus on twenty years of motoring, broken into three separate Reports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84200" indent="-304920">
              <a:spcBef>
                <a:spcPts val="499"/>
              </a:spcBef>
              <a:buClr>
                <a:srgbClr val="4d4d4d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Report 1: 20 years of motoring – for publication in June 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84200" indent="-304920">
              <a:spcBef>
                <a:spcPts val="499"/>
              </a:spcBef>
              <a:buClr>
                <a:srgbClr val="4d4d4d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Report 2: technology – for publication in September 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84200" indent="-304920">
              <a:spcBef>
                <a:spcPts val="499"/>
              </a:spcBef>
              <a:buClr>
                <a:srgbClr val="4d4d4d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Report 3: environment – for publication in November 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Reports will draw on five principal sources of information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84200" indent="-304920">
              <a:spcBef>
                <a:spcPts val="499"/>
              </a:spcBef>
              <a:buClr>
                <a:srgbClr val="4d4d4d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e new research carried out in 2008 – Motorist Surveys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84200" indent="-304920">
              <a:spcBef>
                <a:spcPts val="499"/>
              </a:spcBef>
              <a:buClr>
                <a:srgbClr val="4d4d4d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nalysis of 20 years of LEX/RAC Reports on Motoring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84200" indent="-304920">
              <a:spcBef>
                <a:spcPts val="499"/>
              </a:spcBef>
              <a:buClr>
                <a:srgbClr val="4d4d4d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desk research: DfT, Cost of Motoring, other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84200" indent="-304920">
              <a:spcBef>
                <a:spcPts val="499"/>
              </a:spcBef>
              <a:buClr>
                <a:srgbClr val="4d4d4d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dvisory panel members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84200" indent="-304920">
              <a:spcBef>
                <a:spcPts val="499"/>
              </a:spcBef>
              <a:buClr>
                <a:srgbClr val="4d4d4d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human interest stories: members, patrols [other?]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is presentation details the source information for Report 2 from the Motorist Surveys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84200" indent="-30492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Motoring Survey 2 (MS2) - Technology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84200" indent="-30492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Motoring Survey 1 (MS2) – 20 Years of Motoring (technology specific data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84200" indent="-30492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LEX Report on Motoring 1989 (comparable data from 1988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1"/>
          <p:cNvSpPr/>
          <p:nvPr/>
        </p:nvSpPr>
        <p:spPr>
          <a:xfrm>
            <a:off x="560520" y="3036960"/>
            <a:ext cx="7993080" cy="23472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Rectangle 12"/>
          <p:cNvSpPr/>
          <p:nvPr/>
        </p:nvSpPr>
        <p:spPr>
          <a:xfrm>
            <a:off x="560520" y="3475080"/>
            <a:ext cx="7993080" cy="23508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Rectangle 13"/>
          <p:cNvSpPr/>
          <p:nvPr/>
        </p:nvSpPr>
        <p:spPr>
          <a:xfrm>
            <a:off x="560520" y="3913200"/>
            <a:ext cx="7993080" cy="23508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560520" y="4351320"/>
            <a:ext cx="7993080" cy="23508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Rectangle 15"/>
          <p:cNvSpPr/>
          <p:nvPr/>
        </p:nvSpPr>
        <p:spPr>
          <a:xfrm>
            <a:off x="560520" y="4789440"/>
            <a:ext cx="7993080" cy="23508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Rectangle 16"/>
          <p:cNvSpPr/>
          <p:nvPr/>
        </p:nvSpPr>
        <p:spPr>
          <a:xfrm>
            <a:off x="560520" y="5227560"/>
            <a:ext cx="7993080" cy="23508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Rectangle 17"/>
          <p:cNvSpPr/>
          <p:nvPr/>
        </p:nvSpPr>
        <p:spPr>
          <a:xfrm>
            <a:off x="560520" y="5665680"/>
            <a:ext cx="7993080" cy="23508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>
            <a:off x="560520" y="2598840"/>
            <a:ext cx="7993080" cy="23472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Rectangle 9"/>
          <p:cNvSpPr/>
          <p:nvPr/>
        </p:nvSpPr>
        <p:spPr>
          <a:xfrm>
            <a:off x="560520" y="1700280"/>
            <a:ext cx="7993080" cy="69192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usage of in-car technology #1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8600" y="1700280"/>
            <a:ext cx="8991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irbags: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driver and front passenger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75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953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front side impact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70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2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451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rear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211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B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2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744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Seatbelts – with sound and warning system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0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7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712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Hazard warning lights - automatic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367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Intelligent protection system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0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298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Brake assist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0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241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Electronic stability control/ ESP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218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LED rear light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6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59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Parking sensor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75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46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EBD: electronic brake distributio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42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Whiplash protectio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5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21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daptive cruise control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5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5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4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19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daptive front light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4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19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Tyre pressure monitoring system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4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03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Intelligent speed adaptio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4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4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2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43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Blind spot sensors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2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41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ollision warn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5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33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Lane departure warn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54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22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3906360" y="1303200"/>
            <a:ext cx="107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not at all/never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5215680" y="115092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occasionally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sometime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6551640" y="1150920"/>
            <a:ext cx="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frequently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alway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8127720" y="1303200"/>
            <a:ext cx="46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bas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(n)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Line 8"/>
          <p:cNvSpPr/>
          <p:nvPr/>
        </p:nvSpPr>
        <p:spPr>
          <a:xfrm>
            <a:off x="560520" y="1700280"/>
            <a:ext cx="799308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103320" y="6215040"/>
            <a:ext cx="6649920" cy="5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2a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How often do you use the in-car technology that you have in your current car?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with item in current car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Rectangle 60"/>
          <p:cNvSpPr/>
          <p:nvPr/>
        </p:nvSpPr>
        <p:spPr>
          <a:xfrm>
            <a:off x="6738840" y="1643040"/>
            <a:ext cx="432000" cy="92880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Rectangle 60"/>
          <p:cNvSpPr/>
          <p:nvPr/>
        </p:nvSpPr>
        <p:spPr>
          <a:xfrm>
            <a:off x="6738840" y="3071880"/>
            <a:ext cx="432000" cy="85716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TextBox 22"/>
          <p:cNvSpPr/>
          <p:nvPr/>
        </p:nvSpPr>
        <p:spPr>
          <a:xfrm>
            <a:off x="2673000" y="6429240"/>
            <a:ext cx="7215480" cy="3070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Do motorists really understand what this equipment does/ how to use all this technology?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Rectangle 60"/>
          <p:cNvSpPr/>
          <p:nvPr/>
        </p:nvSpPr>
        <p:spPr>
          <a:xfrm>
            <a:off x="6738840" y="4143240"/>
            <a:ext cx="432000" cy="42876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Rectangle 60"/>
          <p:cNvSpPr/>
          <p:nvPr/>
        </p:nvSpPr>
        <p:spPr>
          <a:xfrm>
            <a:off x="6738840" y="4786200"/>
            <a:ext cx="432000" cy="128592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1"/>
          <p:cNvSpPr/>
          <p:nvPr/>
        </p:nvSpPr>
        <p:spPr>
          <a:xfrm>
            <a:off x="560520" y="3481560"/>
            <a:ext cx="7993080" cy="18252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Rectangle 22"/>
          <p:cNvSpPr/>
          <p:nvPr/>
        </p:nvSpPr>
        <p:spPr>
          <a:xfrm>
            <a:off x="560520" y="3865680"/>
            <a:ext cx="7993080" cy="18252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7" name="Rectangle 23"/>
          <p:cNvSpPr/>
          <p:nvPr/>
        </p:nvSpPr>
        <p:spPr>
          <a:xfrm>
            <a:off x="560520" y="4249800"/>
            <a:ext cx="7993080" cy="18252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8" name="Rectangle 24"/>
          <p:cNvSpPr/>
          <p:nvPr/>
        </p:nvSpPr>
        <p:spPr>
          <a:xfrm>
            <a:off x="560520" y="4633920"/>
            <a:ext cx="7993080" cy="18252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9" name="Rectangle 25"/>
          <p:cNvSpPr/>
          <p:nvPr/>
        </p:nvSpPr>
        <p:spPr>
          <a:xfrm>
            <a:off x="560520" y="5018040"/>
            <a:ext cx="7993080" cy="18252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Rectangle 26"/>
          <p:cNvSpPr/>
          <p:nvPr/>
        </p:nvSpPr>
        <p:spPr>
          <a:xfrm>
            <a:off x="560520" y="5411880"/>
            <a:ext cx="7993080" cy="18252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1" name="Rectangle 27"/>
          <p:cNvSpPr/>
          <p:nvPr/>
        </p:nvSpPr>
        <p:spPr>
          <a:xfrm>
            <a:off x="560520" y="5786280"/>
            <a:ext cx="7993080" cy="18288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560520" y="2511360"/>
            <a:ext cx="7993080" cy="77328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Rectangle 19"/>
          <p:cNvSpPr/>
          <p:nvPr/>
        </p:nvSpPr>
        <p:spPr>
          <a:xfrm>
            <a:off x="560520" y="1700280"/>
            <a:ext cx="7993080" cy="62388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usage of in-car technology #2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98240" y="1700280"/>
            <a:ext cx="83422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In-car entertainment: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radio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7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,000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D player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2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5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846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DVD player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5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6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75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entral lock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5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9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933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Steering: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power assisted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8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904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EPS – Electronic Power Steer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7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91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Electronic windows: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front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8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896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rear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5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5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437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ir condition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56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721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Immobiliser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8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711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limate control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0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56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244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Satellite navigatio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5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0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227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utomatic windscreen wiper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7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97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Hands-free mobile phone – voice controlled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5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5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52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utomatic headlamp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0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7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50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Bluetooth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54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38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Key free system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11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Solar reflective windscree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5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05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apless re-fuell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0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72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87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Power/engine start butto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2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76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87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daptive Variable Suspension (AVS)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4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0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5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52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Voice command control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4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46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utomatic brakes in ‘stop-start’ traffic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0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45)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3906360" y="1303200"/>
            <a:ext cx="107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not at all/never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Text Box 14"/>
          <p:cNvSpPr/>
          <p:nvPr/>
        </p:nvSpPr>
        <p:spPr>
          <a:xfrm>
            <a:off x="5215680" y="115092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occasionally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sometime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Text Box 15"/>
          <p:cNvSpPr/>
          <p:nvPr/>
        </p:nvSpPr>
        <p:spPr>
          <a:xfrm>
            <a:off x="6551640" y="1150920"/>
            <a:ext cx="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frequently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alway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8127720" y="1303200"/>
            <a:ext cx="46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bas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(n)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Line 17"/>
          <p:cNvSpPr/>
          <p:nvPr/>
        </p:nvSpPr>
        <p:spPr>
          <a:xfrm>
            <a:off x="560520" y="1700280"/>
            <a:ext cx="799308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103320" y="6232680"/>
            <a:ext cx="6649920" cy="5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2b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How often do you use the in-car technology that you have in your current car?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with item in current car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Rectangle 60"/>
          <p:cNvSpPr/>
          <p:nvPr/>
        </p:nvSpPr>
        <p:spPr>
          <a:xfrm>
            <a:off x="6738840" y="1714680"/>
            <a:ext cx="432000" cy="21420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Rectangle 60"/>
          <p:cNvSpPr/>
          <p:nvPr/>
        </p:nvSpPr>
        <p:spPr>
          <a:xfrm>
            <a:off x="6738840" y="2286000"/>
            <a:ext cx="432000" cy="78588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Rectangle 60"/>
          <p:cNvSpPr/>
          <p:nvPr/>
        </p:nvSpPr>
        <p:spPr>
          <a:xfrm>
            <a:off x="6738840" y="3429000"/>
            <a:ext cx="432000" cy="28584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Rectangle 60"/>
          <p:cNvSpPr/>
          <p:nvPr/>
        </p:nvSpPr>
        <p:spPr>
          <a:xfrm>
            <a:off x="6738840" y="4000680"/>
            <a:ext cx="432000" cy="28548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Rectangle 60"/>
          <p:cNvSpPr/>
          <p:nvPr/>
        </p:nvSpPr>
        <p:spPr>
          <a:xfrm>
            <a:off x="6738840" y="4429080"/>
            <a:ext cx="432000" cy="21420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Rectangle 60"/>
          <p:cNvSpPr/>
          <p:nvPr/>
        </p:nvSpPr>
        <p:spPr>
          <a:xfrm>
            <a:off x="6738840" y="5214960"/>
            <a:ext cx="432000" cy="35712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560520" y="3036960"/>
            <a:ext cx="7993080" cy="23472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560520" y="3475080"/>
            <a:ext cx="7993080" cy="23508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560520" y="3913200"/>
            <a:ext cx="7993080" cy="23508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560520" y="4351320"/>
            <a:ext cx="7993080" cy="23508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560520" y="4789440"/>
            <a:ext cx="7993080" cy="23508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560520" y="5227560"/>
            <a:ext cx="7993080" cy="23508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560520" y="5665680"/>
            <a:ext cx="7993080" cy="23508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560520" y="2598840"/>
            <a:ext cx="7993080" cy="23472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560520" y="1700280"/>
            <a:ext cx="7993080" cy="69192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in-car technology in next car #1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8600" y="1700280"/>
            <a:ext cx="8991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irbags: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driver and front passenger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9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front side impact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8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5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rear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82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2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B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8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Tyre pressure monitoring system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74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8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Brake assist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7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6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2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Whiplash protectio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7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6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1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Parking sensor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7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4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5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Seatbelts – with sound and warning system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Intelligent protection system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5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Blind spot sensors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2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Electronic stability control/ ESP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4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6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Hazard warning lights - automatic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EBD: electronic brake distributio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0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2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8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daptive front light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5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0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2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ollision warn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55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8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7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LED rear light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52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6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2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daptive cruise control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52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1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Intelligent speed adaptio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5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2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3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Lane departure warn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5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4</a:t>
            </a: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4025880" y="1150920"/>
            <a:ext cx="85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would like to hav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5097600" y="1150920"/>
            <a:ext cx="12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would be happy to do without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Text Box 15"/>
          <p:cNvSpPr/>
          <p:nvPr/>
        </p:nvSpPr>
        <p:spPr>
          <a:xfrm>
            <a:off x="6321600" y="1150920"/>
            <a:ext cx="127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don’t know enough about it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2" name="Line 17"/>
          <p:cNvSpPr/>
          <p:nvPr/>
        </p:nvSpPr>
        <p:spPr>
          <a:xfrm>
            <a:off x="560520" y="1700280"/>
            <a:ext cx="799308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103320" y="6232680"/>
            <a:ext cx="6649920" cy="5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3a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Thinking of your next car, which of the following …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with item in current car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4" name="Rectangle 60"/>
          <p:cNvSpPr/>
          <p:nvPr/>
        </p:nvSpPr>
        <p:spPr>
          <a:xfrm>
            <a:off x="4238640" y="1643040"/>
            <a:ext cx="431640" cy="250020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Line 22"/>
          <p:cNvSpPr/>
          <p:nvPr/>
        </p:nvSpPr>
        <p:spPr>
          <a:xfrm>
            <a:off x="560520" y="6165720"/>
            <a:ext cx="799308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6" name="Rectangle 23"/>
          <p:cNvSpPr/>
          <p:nvPr/>
        </p:nvSpPr>
        <p:spPr>
          <a:xfrm>
            <a:off x="560520" y="2637000"/>
            <a:ext cx="7993080" cy="33480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Rectangle 24"/>
          <p:cNvSpPr/>
          <p:nvPr/>
        </p:nvSpPr>
        <p:spPr>
          <a:xfrm>
            <a:off x="560520" y="3151080"/>
            <a:ext cx="7993080" cy="1778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Rectangle 25"/>
          <p:cNvSpPr/>
          <p:nvPr/>
        </p:nvSpPr>
        <p:spPr>
          <a:xfrm>
            <a:off x="560520" y="3510000"/>
            <a:ext cx="7993080" cy="1778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Rectangle 26"/>
          <p:cNvSpPr/>
          <p:nvPr/>
        </p:nvSpPr>
        <p:spPr>
          <a:xfrm>
            <a:off x="560520" y="3868560"/>
            <a:ext cx="7993080" cy="1778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Rectangle 27"/>
          <p:cNvSpPr/>
          <p:nvPr/>
        </p:nvSpPr>
        <p:spPr>
          <a:xfrm>
            <a:off x="560520" y="4227480"/>
            <a:ext cx="7993080" cy="1778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Rectangle 28"/>
          <p:cNvSpPr/>
          <p:nvPr/>
        </p:nvSpPr>
        <p:spPr>
          <a:xfrm>
            <a:off x="560520" y="4586400"/>
            <a:ext cx="7993080" cy="1778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Rectangle 29"/>
          <p:cNvSpPr/>
          <p:nvPr/>
        </p:nvSpPr>
        <p:spPr>
          <a:xfrm>
            <a:off x="560520" y="4935600"/>
            <a:ext cx="7993080" cy="1778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Rectangle 30"/>
          <p:cNvSpPr/>
          <p:nvPr/>
        </p:nvSpPr>
        <p:spPr>
          <a:xfrm>
            <a:off x="560520" y="5284800"/>
            <a:ext cx="7993080" cy="1778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Rectangle 31"/>
          <p:cNvSpPr/>
          <p:nvPr/>
        </p:nvSpPr>
        <p:spPr>
          <a:xfrm>
            <a:off x="560520" y="5634000"/>
            <a:ext cx="7993080" cy="1778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Rectangle 32"/>
          <p:cNvSpPr/>
          <p:nvPr/>
        </p:nvSpPr>
        <p:spPr>
          <a:xfrm>
            <a:off x="560520" y="5983200"/>
            <a:ext cx="7993080" cy="1778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560520" y="1700280"/>
            <a:ext cx="7993080" cy="57636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in-car technology in next car #2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98600" y="1700280"/>
            <a:ext cx="7767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In-car entertainment: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radio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91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7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3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CD player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89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9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2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DVD player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36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59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3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Steering: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power assisted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91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5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EPS – Electronic Power Steering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64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24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13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Electronic windows: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front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 90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7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3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rear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74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23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3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Immobiliser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87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8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5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Air conditioning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74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23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3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Solar reflective windscreen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67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25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8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Automatic windscreen wipers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64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32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Climate control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63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32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5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Satellite navigation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63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34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3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Automatic headlamps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63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32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5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Adaptive Variable Suspension (AVS)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53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30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17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Central locking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51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38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10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Hands-free mobile phone – voice controlled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48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47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Key free system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46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47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8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Bluetooth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45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50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5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Capless re-fuelling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45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50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5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Automatic brakes in ‘stop-start’ traffic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43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39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17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Power/engine start button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41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51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7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Voice command controls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28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63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10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Individual locking – rather than central locking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4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89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7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62"/>
              </a:spcBef>
              <a:buNone/>
              <a:tabLst>
                <a:tab algn="l" pos="0"/>
                <a:tab algn="l" pos="1257480"/>
                <a:tab algn="r" pos="3943440"/>
                <a:tab algn="r" pos="5200560"/>
                <a:tab algn="r" pos="6458040"/>
                <a:tab algn="r" pos="789624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Non-electronic windows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4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87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100" spc="-1" strike="noStrike">
                <a:solidFill>
                  <a:srgbClr val="4d4d4d"/>
                </a:solidFill>
                <a:latin typeface="Arial Narrow"/>
              </a:rPr>
              <a:t>9</a:t>
            </a:r>
            <a:endParaRPr b="0" lang="en-US" sz="11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560520" y="1700280"/>
            <a:ext cx="799308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103320" y="6232680"/>
            <a:ext cx="8881920" cy="5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2b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How often do you use the in-car technology that you have in your current car?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with item in current car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Text Box 19"/>
          <p:cNvSpPr/>
          <p:nvPr/>
        </p:nvSpPr>
        <p:spPr>
          <a:xfrm>
            <a:off x="4025880" y="1150920"/>
            <a:ext cx="85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would like to hav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Text Box 20"/>
          <p:cNvSpPr/>
          <p:nvPr/>
        </p:nvSpPr>
        <p:spPr>
          <a:xfrm>
            <a:off x="5097600" y="1150920"/>
            <a:ext cx="12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would be happy to do without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Text Box 21"/>
          <p:cNvSpPr/>
          <p:nvPr/>
        </p:nvSpPr>
        <p:spPr>
          <a:xfrm>
            <a:off x="6321600" y="1150920"/>
            <a:ext cx="127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don’t know enough about it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4" name="Rectangle 60"/>
          <p:cNvSpPr/>
          <p:nvPr/>
        </p:nvSpPr>
        <p:spPr>
          <a:xfrm>
            <a:off x="4238640" y="1714680"/>
            <a:ext cx="431640" cy="250020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e94"/>
                </a:solidFill>
                <a:latin typeface="Arial"/>
              </a:rPr>
              <a:t>Summary 2.1 – current safety technolog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90583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Whilst there is an extensive range of sophisticated in-car technology available in cars today, the majority of motorists do not have (or do not claim to have) many safety features over and above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ir bags (92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BS (70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seatbelts with sound/ warning symbols (68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Given the average age of cars owned (5.2 years), and circa 2 million new car sales per year, it will take 10-15 years before the majority of motorists can take advantage of advanced safety features such as brake assist, ESP, blind spot sensors, collision warning, lane departure warning.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e94"/>
                </a:solidFill>
                <a:latin typeface="Arial"/>
              </a:rPr>
              <a:t>Summary 2.2 – current safety technolog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90583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Many of today’s in-car safety technologies are as yet unfamiliar to motorists – as evidenced by the high number of features that 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re not known whether they are in the current car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re not fully used – where available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re not known about sufficiently – to be on the next car’s ‘wish list’ of features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is knowledge gap is particularly evident amongst younger motorists (17-24 years old) and amongst females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Summary 2.3 – current convenience and security technolog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90583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e following in-car convenience features are now the norm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ar radio (97%); CD player (80%) – but not as yet DVD player (7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entral locking (90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power assisted steering (87%) –  but not as yet EPS electronic power steering (17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front electric windows (86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ir conditioning: manually controlled (69%) or automatic climate control (22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lbeit that the majority of drivers have immobilisers (68%), there is still some way to go before they are universally standard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Furthermore, features such as SAT NAV (22%) and hands free mobile phone (14%) – whilst popularly referenced in everyday life these days, are actually only present in the minority of cars on the roads today.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Summary 2.4 – safety features for the next car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90583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416160" indent="-24948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Motorists are very receptive to having the latest in-car technology – and do not want to return to former low level technologies such as: non-electronic windows (4%); individual door locking (4%).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16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16160" indent="-24948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Most popularly desired safety features are those that motorists are currently most familiar with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52760" indent="-15336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more airbags – all round: front (93%), side (89%) and rear (82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52760" indent="-15336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BS (88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52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16160" indent="-24948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Of the newer technologies the most popular features are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52760" indent="-15336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yre pressure monitors (74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52760" indent="-15336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whiplash protection system (73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52760" indent="-15336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brake assist (73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52760" indent="-15336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parking sensors (71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52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16160" indent="-24948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It is the older age group (45 years +) that are most keen to have in-car technology safety features – whilst the younger age group (17-24 years old) and females are more likely not  know enough to decide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52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52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16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16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Summary 2.5 – convenience and security technology for the next car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90583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389520" indent="-23364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Most motorists would like to maintain the popular features on today’s cars – in their next car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04160" indent="-1436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ar radio (91%); CD player (89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04160" indent="-1436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entral locking (90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04160" indent="-1436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power assisted steering (91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04160" indent="-1436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front electric windows (90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04160" indent="-1436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immobiliser (87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04160" indent="-1436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ir conditioning: manually controlled (74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041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lvl="1" marL="389520" indent="-23364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onvenience features which motorists would most like to up-grade to are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04160" indent="-1436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rear electric windows (74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04160" indent="-1436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electronic power steering (64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04160" indent="-1436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limate control (63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04160" indent="-1436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utomatic headlamps (63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04160" indent="-1436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utomatic windscreen wipers (63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04160" indent="-1436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SAT NAV (63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04160" indent="-1436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utomatic headlights (63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38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38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04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04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38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38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Summary 2.6 – technology for the next car: male vs female differences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90583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Men tend to want in-car technology more than do women. 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Most noticeably </a:t>
            </a:r>
            <a:r>
              <a:rPr b="0" i="1" lang="en-GB" sz="1600" spc="-1" strike="noStrike">
                <a:solidFill>
                  <a:srgbClr val="4d4d4d"/>
                </a:solidFill>
                <a:latin typeface="Arial Narrow"/>
              </a:rPr>
              <a:t>more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 men than women would like to have– and </a:t>
            </a:r>
            <a:r>
              <a:rPr b="0" i="1" lang="en-GB" sz="1600" spc="-1" strike="noStrike">
                <a:solidFill>
                  <a:srgbClr val="4d4d4d"/>
                </a:solidFill>
                <a:latin typeface="Arial Narrow"/>
              </a:rPr>
              <a:t>more women 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an men would be happier without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SAT NAV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daptive cruise contro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limate contro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Bluetooth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power engine start button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onversely </a:t>
            </a:r>
            <a:r>
              <a:rPr b="0" i="1" lang="en-GB" sz="1600" spc="-1" strike="noStrike">
                <a:solidFill>
                  <a:srgbClr val="4d4d4d"/>
                </a:solidFill>
                <a:latin typeface="Arial Narrow"/>
              </a:rPr>
              <a:t>more women 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an men would like to have– and </a:t>
            </a:r>
            <a:r>
              <a:rPr b="0" i="1" lang="en-GB" sz="1600" spc="-1" strike="noStrike">
                <a:solidFill>
                  <a:srgbClr val="4d4d4d"/>
                </a:solidFill>
                <a:latin typeface="Arial Narrow"/>
              </a:rPr>
              <a:t>more men 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an women would be happier without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utomatic headlamps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presentation order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362268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Motorist Survey 2 (MS2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95320" indent="-25092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methodology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95320" indent="-25092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sample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key findings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95320" indent="-25092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from MS2 – technology survey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95320" indent="-25092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supplemented with technology data from MS1 – 20 years of motoring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95320" indent="-25092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 historic perspective where comparable 1988 data is available from LEX Report on Motoring 1989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881600" y="2565360"/>
            <a:ext cx="3743280" cy="302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Arial Narrow"/>
              <a:buAutoNum type="arabicPeriod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bout the motoris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Arial Narrow"/>
              <a:buAutoNum type="arabicPeriod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vailability and usage of in-car technolog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Arial Narrow"/>
              <a:buAutoNum type="arabicPeriod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Impact of in-car technology on motoris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Arial Narrow"/>
              <a:buAutoNum type="arabicPeriod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raffic management technolog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Arial Narrow"/>
              <a:buAutoNum type="arabicPeriod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ar servicing and basic check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Arial Narrow"/>
              <a:buAutoNum type="arabicPeriod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ar crime and securit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Arial Narrow"/>
              <a:buAutoNum type="arabicPeriod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 historic perspectiv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Arial Narrow"/>
              <a:buAutoNum type="arabicPeriod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e futu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2073240" y="2637000"/>
            <a:ext cx="2664000" cy="215640"/>
          </a:xfrm>
          <a:prstGeom prst="rightArrow">
            <a:avLst>
              <a:gd name="adj1" fmla="val 50000"/>
              <a:gd name="adj2" fmla="val 84647"/>
            </a:avLst>
          </a:prstGeom>
          <a:solidFill>
            <a:srgbClr val="49b5ff"/>
          </a:solidFill>
          <a:ln w="936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6200" y="3428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3. impact of in-car technology on motorists and understanding how to use it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Object 2"/>
          <p:cNvGraphicFramePr/>
          <p:nvPr/>
        </p:nvGraphicFramePr>
        <p:xfrm>
          <a:off x="2486160" y="2631960"/>
          <a:ext cx="302868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6160" y="2631960"/>
                    <a:ext cx="302868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reliance on technolog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graphicFrame>
        <p:nvGraphicFramePr>
          <p:cNvPr id="551" name="Object 4"/>
          <p:cNvGraphicFramePr/>
          <p:nvPr/>
        </p:nvGraphicFramePr>
        <p:xfrm>
          <a:off x="5810400" y="2641680"/>
          <a:ext cx="2636640" cy="23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0400" y="2641680"/>
                    <a:ext cx="263664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Text Box 5"/>
          <p:cNvSpPr/>
          <p:nvPr/>
        </p:nvSpPr>
        <p:spPr>
          <a:xfrm>
            <a:off x="8945280" y="1660680"/>
            <a:ext cx="55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mean</a:t>
            </a:r>
            <a:br>
              <a:rPr sz="1200"/>
            </a:b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score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-5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9019080" y="279072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.4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533520" y="2708280"/>
            <a:ext cx="269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we have become too reliant on in-car technolog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>
            <a:off x="5875200" y="2655720"/>
            <a:ext cx="0" cy="7020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5446800" y="279072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8265960" y="279072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57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3224160" y="279072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3081240" y="1660680"/>
            <a:ext cx="7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total disagre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-2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8048520" y="1843200"/>
            <a:ext cx="83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total agre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4-5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5313240" y="166068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neither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3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6032520" y="166068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agree slightl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4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6897600" y="166068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agree strongl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5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4594320" y="1660680"/>
            <a:ext cx="83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disagree slightl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2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6" name="Text Box 23"/>
          <p:cNvSpPr/>
          <p:nvPr/>
        </p:nvSpPr>
        <p:spPr>
          <a:xfrm>
            <a:off x="3800520" y="166068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disagree strongl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Rectangle 24"/>
          <p:cNvSpPr/>
          <p:nvPr/>
        </p:nvSpPr>
        <p:spPr>
          <a:xfrm>
            <a:off x="100080" y="5599080"/>
            <a:ext cx="891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2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How strongly do you agree or disagree with the following statements?</a:t>
            </a: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Base: all respondents (n= 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Line 25"/>
          <p:cNvSpPr/>
          <p:nvPr/>
        </p:nvSpPr>
        <p:spPr>
          <a:xfrm>
            <a:off x="5448240" y="2655720"/>
            <a:ext cx="0" cy="7020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9" name="Rectangle 60"/>
          <p:cNvSpPr/>
          <p:nvPr/>
        </p:nvSpPr>
        <p:spPr>
          <a:xfrm>
            <a:off x="8238960" y="2786040"/>
            <a:ext cx="428760" cy="35712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impact of in-car technolog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0" y="5445000"/>
            <a:ext cx="88408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5a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ars today are a lot more technologically sophisticated than they were even a few years ago. To what extent do you agree or disagree with the following statements?</a:t>
            </a: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8945280" y="1371600"/>
            <a:ext cx="55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mean</a:t>
            </a:r>
            <a:br>
              <a:rPr sz="1200"/>
            </a:b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score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-5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9019080" y="443700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.1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533520" y="2492280"/>
            <a:ext cx="26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too much reliance on in-car technology makes people LESS safe driver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Text Box 16"/>
          <p:cNvSpPr/>
          <p:nvPr/>
        </p:nvSpPr>
        <p:spPr>
          <a:xfrm>
            <a:off x="533520" y="3357720"/>
            <a:ext cx="261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because in-car technology such as ABS, ESP etc. helps prevent accidents, people these days take more risks when driv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Text Box 17"/>
          <p:cNvSpPr/>
          <p:nvPr/>
        </p:nvSpPr>
        <p:spPr>
          <a:xfrm>
            <a:off x="533520" y="4365720"/>
            <a:ext cx="269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in-car technology has had a positive effect on making people MORE safe driver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Text Box 20"/>
          <p:cNvSpPr/>
          <p:nvPr/>
        </p:nvSpPr>
        <p:spPr>
          <a:xfrm>
            <a:off x="9019080" y="254628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.6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8" name="Text Box 22"/>
          <p:cNvSpPr/>
          <p:nvPr/>
        </p:nvSpPr>
        <p:spPr>
          <a:xfrm>
            <a:off x="9019080" y="350028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.4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Text Box 28"/>
          <p:cNvSpPr/>
          <p:nvPr/>
        </p:nvSpPr>
        <p:spPr>
          <a:xfrm>
            <a:off x="5662440" y="4437000"/>
            <a:ext cx="3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7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Text Box 30"/>
          <p:cNvSpPr/>
          <p:nvPr/>
        </p:nvSpPr>
        <p:spPr>
          <a:xfrm>
            <a:off x="5686560" y="254628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1" name="Text Box 32"/>
          <p:cNvSpPr/>
          <p:nvPr/>
        </p:nvSpPr>
        <p:spPr>
          <a:xfrm>
            <a:off x="5662440" y="3500280"/>
            <a:ext cx="3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2" name="Text Box 36"/>
          <p:cNvSpPr/>
          <p:nvPr/>
        </p:nvSpPr>
        <p:spPr>
          <a:xfrm>
            <a:off x="8193240" y="44370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7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Text Box 38"/>
          <p:cNvSpPr/>
          <p:nvPr/>
        </p:nvSpPr>
        <p:spPr>
          <a:xfrm>
            <a:off x="8217000" y="254628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5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Text Box 40"/>
          <p:cNvSpPr/>
          <p:nvPr/>
        </p:nvSpPr>
        <p:spPr>
          <a:xfrm>
            <a:off x="8193240" y="350028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Text Box 49"/>
          <p:cNvSpPr/>
          <p:nvPr/>
        </p:nvSpPr>
        <p:spPr>
          <a:xfrm>
            <a:off x="3224160" y="44388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6" name="Text Box 51"/>
          <p:cNvSpPr/>
          <p:nvPr/>
        </p:nvSpPr>
        <p:spPr>
          <a:xfrm>
            <a:off x="3248280" y="254808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Text Box 53"/>
          <p:cNvSpPr/>
          <p:nvPr/>
        </p:nvSpPr>
        <p:spPr>
          <a:xfrm>
            <a:off x="3224160" y="350208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Text Box 55"/>
          <p:cNvSpPr/>
          <p:nvPr/>
        </p:nvSpPr>
        <p:spPr>
          <a:xfrm>
            <a:off x="3081240" y="1371600"/>
            <a:ext cx="7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total disagre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-2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9" name="Text Box 56"/>
          <p:cNvSpPr/>
          <p:nvPr/>
        </p:nvSpPr>
        <p:spPr>
          <a:xfrm>
            <a:off x="7977240" y="1554120"/>
            <a:ext cx="83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total agre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4-5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Text Box 57"/>
          <p:cNvSpPr/>
          <p:nvPr/>
        </p:nvSpPr>
        <p:spPr>
          <a:xfrm>
            <a:off x="5457960" y="1371600"/>
            <a:ext cx="83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neither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3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Text Box 58"/>
          <p:cNvSpPr/>
          <p:nvPr/>
        </p:nvSpPr>
        <p:spPr>
          <a:xfrm>
            <a:off x="6032520" y="1554120"/>
            <a:ext cx="83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agre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4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Text Box 59"/>
          <p:cNvSpPr/>
          <p:nvPr/>
        </p:nvSpPr>
        <p:spPr>
          <a:xfrm>
            <a:off x="6897600" y="137160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agree completel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5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3" name="Text Box 60"/>
          <p:cNvSpPr/>
          <p:nvPr/>
        </p:nvSpPr>
        <p:spPr>
          <a:xfrm>
            <a:off x="4808520" y="1554120"/>
            <a:ext cx="83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disagre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2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4" name="Text Box 61"/>
          <p:cNvSpPr/>
          <p:nvPr/>
        </p:nvSpPr>
        <p:spPr>
          <a:xfrm>
            <a:off x="3944880" y="137160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disagree completel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595" name="Object 64"/>
          <p:cNvGraphicFramePr/>
          <p:nvPr/>
        </p:nvGraphicFramePr>
        <p:xfrm>
          <a:off x="2695680" y="2162160"/>
          <a:ext cx="30384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6" name="Object 6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5680" y="2162160"/>
                    <a:ext cx="30384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65"/>
          <p:cNvGraphicFramePr/>
          <p:nvPr/>
        </p:nvGraphicFramePr>
        <p:xfrm>
          <a:off x="6031080" y="2143080"/>
          <a:ext cx="2638080" cy="29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8" name="Object 6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31080" y="2143080"/>
                    <a:ext cx="26380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Line 66"/>
          <p:cNvSpPr/>
          <p:nvPr/>
        </p:nvSpPr>
        <p:spPr>
          <a:xfrm>
            <a:off x="6089760" y="2328840"/>
            <a:ext cx="0" cy="261288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0" name="Line 67"/>
          <p:cNvSpPr/>
          <p:nvPr/>
        </p:nvSpPr>
        <p:spPr>
          <a:xfrm>
            <a:off x="5659560" y="2316240"/>
            <a:ext cx="0" cy="262548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1" name="Rectangle 60"/>
          <p:cNvSpPr/>
          <p:nvPr/>
        </p:nvSpPr>
        <p:spPr>
          <a:xfrm>
            <a:off x="8167680" y="2500200"/>
            <a:ext cx="428760" cy="42876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56"/>
          <p:cNvSpPr/>
          <p:nvPr/>
        </p:nvSpPr>
        <p:spPr>
          <a:xfrm>
            <a:off x="488880" y="4292640"/>
            <a:ext cx="3672000" cy="144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distractions whilst driving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graphicFrame>
        <p:nvGraphicFramePr>
          <p:cNvPr id="604" name="Object 4"/>
          <p:cNvGraphicFramePr/>
          <p:nvPr/>
        </p:nvGraphicFramePr>
        <p:xfrm>
          <a:off x="2147760" y="2781360"/>
          <a:ext cx="2600280" cy="16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7760" y="2781360"/>
                    <a:ext cx="26002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Text Box 5"/>
          <p:cNvSpPr/>
          <p:nvPr/>
        </p:nvSpPr>
        <p:spPr>
          <a:xfrm>
            <a:off x="466560" y="29797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not at all/ nev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466560" y="341964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occasionally/ sometime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466560" y="388944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frequently/ alway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2146680" y="270828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109440" y="1557360"/>
            <a:ext cx="45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Q4a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How often do you do the following …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Text Box 18"/>
          <p:cNvSpPr/>
          <p:nvPr/>
        </p:nvSpPr>
        <p:spPr>
          <a:xfrm>
            <a:off x="5106960" y="1557360"/>
            <a:ext cx="42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Q4b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Which of the following in-car instruments and equipment cause you to become seriously distracted when driving?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612" name="Object 27"/>
          <p:cNvGraphicFramePr/>
          <p:nvPr/>
        </p:nvGraphicFramePr>
        <p:xfrm>
          <a:off x="7267680" y="2295360"/>
          <a:ext cx="1581120" cy="285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3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67680" y="2295360"/>
                    <a:ext cx="158112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Text Box 33"/>
          <p:cNvSpPr/>
          <p:nvPr/>
        </p:nvSpPr>
        <p:spPr>
          <a:xfrm>
            <a:off x="7259760" y="219852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5" name="Text Box 43"/>
          <p:cNvSpPr/>
          <p:nvPr/>
        </p:nvSpPr>
        <p:spPr>
          <a:xfrm>
            <a:off x="466560" y="5877000"/>
            <a:ext cx="25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6" name="Text Box 44"/>
          <p:cNvSpPr/>
          <p:nvPr/>
        </p:nvSpPr>
        <p:spPr>
          <a:xfrm>
            <a:off x="466560" y="1916280"/>
            <a:ext cx="362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Become seriously distracted whilst driving – by using in-car instruments and equipmen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7" name="AutoShape 45"/>
          <p:cNvSpPr/>
          <p:nvPr/>
        </p:nvSpPr>
        <p:spPr>
          <a:xfrm>
            <a:off x="3943440" y="3429000"/>
            <a:ext cx="142920" cy="792000"/>
          </a:xfrm>
          <a:custGeom>
            <a:avLst/>
            <a:gdLst>
              <a:gd name="textAreaLeft" fmla="*/ 0 w 142920"/>
              <a:gd name="textAreaRight" fmla="*/ 514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5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Text Box 47"/>
          <p:cNvSpPr/>
          <p:nvPr/>
        </p:nvSpPr>
        <p:spPr>
          <a:xfrm>
            <a:off x="5457960" y="35733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SAT NAV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9" name="Text Box 48"/>
          <p:cNvSpPr/>
          <p:nvPr/>
        </p:nvSpPr>
        <p:spPr>
          <a:xfrm>
            <a:off x="5457960" y="25113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radio/ CD/ DV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0" name="Text Box 49"/>
          <p:cNvSpPr/>
          <p:nvPr/>
        </p:nvSpPr>
        <p:spPr>
          <a:xfrm>
            <a:off x="5457960" y="304020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heating/ AC control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1" name="Text Box 50"/>
          <p:cNvSpPr/>
          <p:nvPr/>
        </p:nvSpPr>
        <p:spPr>
          <a:xfrm>
            <a:off x="5457960" y="40989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mobile phone – in-us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Text Box 51"/>
          <p:cNvSpPr/>
          <p:nvPr/>
        </p:nvSpPr>
        <p:spPr>
          <a:xfrm>
            <a:off x="5457960" y="4497480"/>
            <a:ext cx="215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n-car information symbols and warning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3" name="Text Box 52"/>
          <p:cNvSpPr/>
          <p:nvPr/>
        </p:nvSpPr>
        <p:spPr>
          <a:xfrm>
            <a:off x="5457960" y="587700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being distracted (n=476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4" name="Text Box 53"/>
          <p:cNvSpPr/>
          <p:nvPr/>
        </p:nvSpPr>
        <p:spPr>
          <a:xfrm>
            <a:off x="4093200" y="3683160"/>
            <a:ext cx="4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6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5" name="Text Box 55"/>
          <p:cNvSpPr/>
          <p:nvPr/>
        </p:nvSpPr>
        <p:spPr>
          <a:xfrm>
            <a:off x="466560" y="4930920"/>
            <a:ext cx="369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514600"/>
                <a:tab algn="r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not at all/ never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8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6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514600"/>
                <a:tab algn="r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514600"/>
                <a:tab algn="r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occasionally/ sometimes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51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Line 57"/>
          <p:cNvSpPr/>
          <p:nvPr/>
        </p:nvSpPr>
        <p:spPr>
          <a:xfrm>
            <a:off x="560520" y="4869000"/>
            <a:ext cx="352872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7" name="Text Box 58"/>
          <p:cNvSpPr/>
          <p:nvPr/>
        </p:nvSpPr>
        <p:spPr>
          <a:xfrm>
            <a:off x="2721960" y="4363920"/>
            <a:ext cx="61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17-4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n=525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8" name="Text Box 59"/>
          <p:cNvSpPr/>
          <p:nvPr/>
        </p:nvSpPr>
        <p:spPr>
          <a:xfrm>
            <a:off x="3369600" y="4363920"/>
            <a:ext cx="61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45+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n=509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9" name="Rectangle 60"/>
          <p:cNvSpPr/>
          <p:nvPr/>
        </p:nvSpPr>
        <p:spPr>
          <a:xfrm>
            <a:off x="3475080" y="4903920"/>
            <a:ext cx="431640" cy="35856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Rectangle 61"/>
          <p:cNvSpPr/>
          <p:nvPr/>
        </p:nvSpPr>
        <p:spPr>
          <a:xfrm>
            <a:off x="2754360" y="5327640"/>
            <a:ext cx="431640" cy="35892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1" name="Text Box 62"/>
          <p:cNvSpPr/>
          <p:nvPr/>
        </p:nvSpPr>
        <p:spPr>
          <a:xfrm>
            <a:off x="8664840" y="357012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(17-24 = 40%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2" name="Text Box 63"/>
          <p:cNvSpPr/>
          <p:nvPr/>
        </p:nvSpPr>
        <p:spPr>
          <a:xfrm>
            <a:off x="8664840" y="409572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(17-24 = 41%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Text Box 64"/>
          <p:cNvSpPr/>
          <p:nvPr/>
        </p:nvSpPr>
        <p:spPr>
          <a:xfrm>
            <a:off x="8790120" y="461016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(65+ = 27%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understanding in-car technolog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0" y="5518080"/>
            <a:ext cx="8840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5a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ars today are a lot more technologically sophisticated than they were even a few years ago. To what extent do you agree or disagree with the following statements?</a:t>
            </a: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466560" y="3322800"/>
            <a:ext cx="2619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the complexity of cars today means people need to be shown how to use in-car technology properl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7" name="Text Box 10"/>
          <p:cNvSpPr/>
          <p:nvPr/>
        </p:nvSpPr>
        <p:spPr>
          <a:xfrm>
            <a:off x="466560" y="4365720"/>
            <a:ext cx="276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driver training should include teaching people how to use the latest in-car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466560" y="2349360"/>
            <a:ext cx="276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ar manufacturers need to improve the clarity of information on car technology, including making manuals more user friendly</a:t>
            </a:r>
            <a:r>
              <a:rPr b="0" lang="en-GB" sz="1200" spc="-1" strike="noStrike" baseline="30000">
                <a:solidFill>
                  <a:srgbClr val="4d4d4d"/>
                </a:solidFill>
                <a:latin typeface="Arial Narrow"/>
              </a:rPr>
              <a:t>†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639" name="Object 88"/>
          <p:cNvGraphicFramePr/>
          <p:nvPr/>
        </p:nvGraphicFramePr>
        <p:xfrm>
          <a:off x="2903400" y="2162160"/>
          <a:ext cx="30387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3400" y="2162160"/>
                    <a:ext cx="30387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Object 89"/>
          <p:cNvGraphicFramePr/>
          <p:nvPr/>
        </p:nvGraphicFramePr>
        <p:xfrm>
          <a:off x="6238800" y="2143080"/>
          <a:ext cx="2638440" cy="29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2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38800" y="2143080"/>
                    <a:ext cx="263844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Text Box 90"/>
          <p:cNvSpPr/>
          <p:nvPr/>
        </p:nvSpPr>
        <p:spPr>
          <a:xfrm>
            <a:off x="9178920" y="1587600"/>
            <a:ext cx="51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mean</a:t>
            </a:r>
            <a:br>
              <a:rPr sz="1200"/>
            </a:b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sco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-5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4" name="Line 93"/>
          <p:cNvSpPr/>
          <p:nvPr/>
        </p:nvSpPr>
        <p:spPr>
          <a:xfrm>
            <a:off x="6297480" y="2328840"/>
            <a:ext cx="0" cy="261288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5" name="Text Box 94"/>
          <p:cNvSpPr/>
          <p:nvPr/>
        </p:nvSpPr>
        <p:spPr>
          <a:xfrm>
            <a:off x="9235080" y="350028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.0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6" name="Text Box 96"/>
          <p:cNvSpPr/>
          <p:nvPr/>
        </p:nvSpPr>
        <p:spPr>
          <a:xfrm>
            <a:off x="9239760" y="443700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.7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7" name="Text Box 99"/>
          <p:cNvSpPr/>
          <p:nvPr/>
        </p:nvSpPr>
        <p:spPr>
          <a:xfrm>
            <a:off x="5902560" y="350028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8" name="Text Box 101"/>
          <p:cNvSpPr/>
          <p:nvPr/>
        </p:nvSpPr>
        <p:spPr>
          <a:xfrm>
            <a:off x="5907240" y="253044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Text Box 103"/>
          <p:cNvSpPr/>
          <p:nvPr/>
        </p:nvSpPr>
        <p:spPr>
          <a:xfrm>
            <a:off x="5907240" y="44370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0" name="Line 104"/>
          <p:cNvSpPr/>
          <p:nvPr/>
        </p:nvSpPr>
        <p:spPr>
          <a:xfrm>
            <a:off x="5867280" y="2316240"/>
            <a:ext cx="0" cy="262548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1" name="Text Box 107"/>
          <p:cNvSpPr/>
          <p:nvPr/>
        </p:nvSpPr>
        <p:spPr>
          <a:xfrm>
            <a:off x="8433000" y="350028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85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2" name="Text Box 109"/>
          <p:cNvSpPr/>
          <p:nvPr/>
        </p:nvSpPr>
        <p:spPr>
          <a:xfrm>
            <a:off x="8437680" y="253044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85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Text Box 111"/>
          <p:cNvSpPr/>
          <p:nvPr/>
        </p:nvSpPr>
        <p:spPr>
          <a:xfrm>
            <a:off x="8437680" y="44370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6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4" name="Text Box 112"/>
          <p:cNvSpPr/>
          <p:nvPr/>
        </p:nvSpPr>
        <p:spPr>
          <a:xfrm>
            <a:off x="9239760" y="253044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.1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5" name="Text Box 114"/>
          <p:cNvSpPr/>
          <p:nvPr/>
        </p:nvSpPr>
        <p:spPr>
          <a:xfrm>
            <a:off x="3545280" y="3502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6" name="Text Box 116"/>
          <p:cNvSpPr/>
          <p:nvPr/>
        </p:nvSpPr>
        <p:spPr>
          <a:xfrm>
            <a:off x="3549960" y="253224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7" name="Text Box 118"/>
          <p:cNvSpPr/>
          <p:nvPr/>
        </p:nvSpPr>
        <p:spPr>
          <a:xfrm>
            <a:off x="3468960" y="44388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8" name="Text Box 119"/>
          <p:cNvSpPr/>
          <p:nvPr/>
        </p:nvSpPr>
        <p:spPr>
          <a:xfrm>
            <a:off x="3297240" y="1587600"/>
            <a:ext cx="78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total disagre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-2)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9" name="Text Box 120"/>
          <p:cNvSpPr/>
          <p:nvPr/>
        </p:nvSpPr>
        <p:spPr>
          <a:xfrm>
            <a:off x="8193240" y="1770120"/>
            <a:ext cx="83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total agre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4-5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0" name="Text Box 121"/>
          <p:cNvSpPr/>
          <p:nvPr/>
        </p:nvSpPr>
        <p:spPr>
          <a:xfrm>
            <a:off x="5673600" y="158760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neither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3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1" name="Text Box 122"/>
          <p:cNvSpPr/>
          <p:nvPr/>
        </p:nvSpPr>
        <p:spPr>
          <a:xfrm>
            <a:off x="6248520" y="1770120"/>
            <a:ext cx="83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agre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4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2" name="Text Box 123"/>
          <p:cNvSpPr/>
          <p:nvPr/>
        </p:nvSpPr>
        <p:spPr>
          <a:xfrm>
            <a:off x="7113600" y="158760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agree completel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5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3" name="Text Box 124"/>
          <p:cNvSpPr/>
          <p:nvPr/>
        </p:nvSpPr>
        <p:spPr>
          <a:xfrm>
            <a:off x="5024520" y="1770120"/>
            <a:ext cx="83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disagre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2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4" name="Text Box 125"/>
          <p:cNvSpPr/>
          <p:nvPr/>
        </p:nvSpPr>
        <p:spPr>
          <a:xfrm>
            <a:off x="4160880" y="158760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disagree completel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5" name="Text Box 127"/>
          <p:cNvSpPr/>
          <p:nvPr/>
        </p:nvSpPr>
        <p:spPr>
          <a:xfrm>
            <a:off x="5602320" y="259884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6" name="Text Box 128"/>
          <p:cNvSpPr/>
          <p:nvPr/>
        </p:nvSpPr>
        <p:spPr>
          <a:xfrm>
            <a:off x="302760" y="5259240"/>
            <a:ext cx="105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*   less than 1%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7" name="Text Box 129"/>
          <p:cNvSpPr/>
          <p:nvPr/>
        </p:nvSpPr>
        <p:spPr>
          <a:xfrm>
            <a:off x="308520" y="4941720"/>
            <a:ext cx="3669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4d4d4d"/>
                </a:solidFill>
                <a:latin typeface="Arial Narrow"/>
              </a:rPr>
              <a:t>†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 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no significant differences between new and used car owner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confidence in using in-car technolog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466560" y="3321000"/>
            <a:ext cx="27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B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670" name="Object 5"/>
          <p:cNvGraphicFramePr/>
          <p:nvPr/>
        </p:nvGraphicFramePr>
        <p:xfrm>
          <a:off x="4257720" y="1424160"/>
          <a:ext cx="368604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1424160"/>
                    <a:ext cx="368604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Text Box 6"/>
          <p:cNvSpPr/>
          <p:nvPr/>
        </p:nvSpPr>
        <p:spPr>
          <a:xfrm>
            <a:off x="9178920" y="1341360"/>
            <a:ext cx="51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mean</a:t>
            </a:r>
            <a:br>
              <a:rPr sz="1200"/>
            </a:b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sco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-5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3" name="Text Box 8"/>
          <p:cNvSpPr/>
          <p:nvPr/>
        </p:nvSpPr>
        <p:spPr>
          <a:xfrm>
            <a:off x="8436960" y="333216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65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4" name="Text Box 9"/>
          <p:cNvSpPr/>
          <p:nvPr/>
        </p:nvSpPr>
        <p:spPr>
          <a:xfrm>
            <a:off x="9203400" y="333216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.9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5" name="Text Box 10"/>
          <p:cNvSpPr/>
          <p:nvPr/>
        </p:nvSpPr>
        <p:spPr>
          <a:xfrm>
            <a:off x="3468960" y="33210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5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6" name="Text Box 11"/>
          <p:cNvSpPr/>
          <p:nvPr/>
        </p:nvSpPr>
        <p:spPr>
          <a:xfrm>
            <a:off x="3297240" y="1341360"/>
            <a:ext cx="78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not confiden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-2)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7" name="Text Box 12"/>
          <p:cNvSpPr/>
          <p:nvPr/>
        </p:nvSpPr>
        <p:spPr>
          <a:xfrm>
            <a:off x="8193240" y="1341360"/>
            <a:ext cx="93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all  confiden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3-5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8" name="Text Box 13"/>
          <p:cNvSpPr/>
          <p:nvPr/>
        </p:nvSpPr>
        <p:spPr>
          <a:xfrm>
            <a:off x="5673600" y="134136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fairly confiden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3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9" name="Text Box 14"/>
          <p:cNvSpPr/>
          <p:nvPr/>
        </p:nvSpPr>
        <p:spPr>
          <a:xfrm>
            <a:off x="6345360" y="1341360"/>
            <a:ext cx="83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very confiden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4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0" name="Text Box 15"/>
          <p:cNvSpPr/>
          <p:nvPr/>
        </p:nvSpPr>
        <p:spPr>
          <a:xfrm>
            <a:off x="7137360" y="134136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completely confiden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5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1" name="Text Box 16"/>
          <p:cNvSpPr/>
          <p:nvPr/>
        </p:nvSpPr>
        <p:spPr>
          <a:xfrm>
            <a:off x="4952880" y="134136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not very confiden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2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2" name="Text Box 17"/>
          <p:cNvSpPr/>
          <p:nvPr/>
        </p:nvSpPr>
        <p:spPr>
          <a:xfrm>
            <a:off x="4160880" y="134136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not at all confiden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3" name="Text Box 18"/>
          <p:cNvSpPr/>
          <p:nvPr/>
        </p:nvSpPr>
        <p:spPr>
          <a:xfrm>
            <a:off x="468360" y="3838680"/>
            <a:ext cx="27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Brake assis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4" name="Text Box 19"/>
          <p:cNvSpPr/>
          <p:nvPr/>
        </p:nvSpPr>
        <p:spPr>
          <a:xfrm>
            <a:off x="8438400" y="383544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5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5" name="Text Box 20"/>
          <p:cNvSpPr/>
          <p:nvPr/>
        </p:nvSpPr>
        <p:spPr>
          <a:xfrm>
            <a:off x="9203040" y="383544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.4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6" name="Text Box 21"/>
          <p:cNvSpPr/>
          <p:nvPr/>
        </p:nvSpPr>
        <p:spPr>
          <a:xfrm>
            <a:off x="3470400" y="382428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55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7" name="Text Box 22"/>
          <p:cNvSpPr/>
          <p:nvPr/>
        </p:nvSpPr>
        <p:spPr>
          <a:xfrm>
            <a:off x="469800" y="2233440"/>
            <a:ext cx="27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Satellite navigatio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8" name="Text Box 23"/>
          <p:cNvSpPr/>
          <p:nvPr/>
        </p:nvSpPr>
        <p:spPr>
          <a:xfrm>
            <a:off x="8440200" y="22525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7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9204840" y="225252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.4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3472200" y="22194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1" name="Text Box 26"/>
          <p:cNvSpPr/>
          <p:nvPr/>
        </p:nvSpPr>
        <p:spPr>
          <a:xfrm>
            <a:off x="471600" y="2779560"/>
            <a:ext cx="27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ruise contro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2" name="Text Box 27"/>
          <p:cNvSpPr/>
          <p:nvPr/>
        </p:nvSpPr>
        <p:spPr>
          <a:xfrm>
            <a:off x="8441640" y="277668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6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3" name="Text Box 28"/>
          <p:cNvSpPr/>
          <p:nvPr/>
        </p:nvSpPr>
        <p:spPr>
          <a:xfrm>
            <a:off x="9206280" y="277668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.0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4" name="Text Box 29"/>
          <p:cNvSpPr/>
          <p:nvPr/>
        </p:nvSpPr>
        <p:spPr>
          <a:xfrm>
            <a:off x="3473640" y="27655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5" name="Rectangle 30"/>
          <p:cNvSpPr/>
          <p:nvPr/>
        </p:nvSpPr>
        <p:spPr>
          <a:xfrm>
            <a:off x="115920" y="5495760"/>
            <a:ext cx="8840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5c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How confident are you that you know (or would know) how to use the following properly?</a:t>
            </a: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6" name="Rectangle 43"/>
          <p:cNvSpPr/>
          <p:nvPr/>
        </p:nvSpPr>
        <p:spPr>
          <a:xfrm>
            <a:off x="466560" y="1484280"/>
            <a:ext cx="2233800" cy="57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Men are more confident than women – for all of the following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awareness of how to use ABS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698" name="Rectangle 29"/>
          <p:cNvSpPr/>
          <p:nvPr/>
        </p:nvSpPr>
        <p:spPr>
          <a:xfrm>
            <a:off x="115920" y="5661000"/>
            <a:ext cx="5197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5b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Were you are that you have to use a different braking technique for ABS?</a:t>
            </a: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699" name="Object 30"/>
          <p:cNvGraphicFramePr/>
          <p:nvPr/>
        </p:nvGraphicFramePr>
        <p:xfrm>
          <a:off x="1733400" y="2076480"/>
          <a:ext cx="260064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2076480"/>
                    <a:ext cx="260064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1" name="Text Box 31"/>
          <p:cNvSpPr/>
          <p:nvPr/>
        </p:nvSpPr>
        <p:spPr>
          <a:xfrm>
            <a:off x="1737000" y="206064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2" name="Text Box 32"/>
          <p:cNvSpPr/>
          <p:nvPr/>
        </p:nvSpPr>
        <p:spPr>
          <a:xfrm>
            <a:off x="909360" y="24922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ye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3" name="Text Box 33"/>
          <p:cNvSpPr/>
          <p:nvPr/>
        </p:nvSpPr>
        <p:spPr>
          <a:xfrm>
            <a:off x="909720" y="330984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n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4" name="Rectangle 34"/>
          <p:cNvSpPr/>
          <p:nvPr/>
        </p:nvSpPr>
        <p:spPr>
          <a:xfrm>
            <a:off x="5889600" y="2143080"/>
            <a:ext cx="2160720" cy="1647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5" name="Text Box 35"/>
          <p:cNvSpPr/>
          <p:nvPr/>
        </p:nvSpPr>
        <p:spPr>
          <a:xfrm>
            <a:off x="5867280" y="2987640"/>
            <a:ext cx="2038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990720"/>
                <a:tab algn="r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yes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52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7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990720"/>
                <a:tab algn="r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990720"/>
                <a:tab algn="r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no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8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6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6" name="Line 36"/>
          <p:cNvSpPr/>
          <p:nvPr/>
        </p:nvSpPr>
        <p:spPr>
          <a:xfrm>
            <a:off x="5961240" y="2857680"/>
            <a:ext cx="19443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7" name="Text Box 37"/>
          <p:cNvSpPr/>
          <p:nvPr/>
        </p:nvSpPr>
        <p:spPr>
          <a:xfrm>
            <a:off x="6540840" y="2214720"/>
            <a:ext cx="61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ma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n=529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8" name="Text Box 38"/>
          <p:cNvSpPr/>
          <p:nvPr/>
        </p:nvSpPr>
        <p:spPr>
          <a:xfrm>
            <a:off x="7333200" y="2214720"/>
            <a:ext cx="61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fema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n=505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9" name="Rectangle 39"/>
          <p:cNvSpPr/>
          <p:nvPr/>
        </p:nvSpPr>
        <p:spPr>
          <a:xfrm>
            <a:off x="6647040" y="2960640"/>
            <a:ext cx="431640" cy="35892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0" name="Rectangle 40"/>
          <p:cNvSpPr/>
          <p:nvPr/>
        </p:nvSpPr>
        <p:spPr>
          <a:xfrm>
            <a:off x="7439040" y="3384720"/>
            <a:ext cx="431640" cy="35856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1" name="Rectangle 39"/>
          <p:cNvSpPr/>
          <p:nvPr/>
        </p:nvSpPr>
        <p:spPr>
          <a:xfrm>
            <a:off x="3524400" y="3284640"/>
            <a:ext cx="431640" cy="35856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knowing what in-car warning lights refer to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713" name="Rectangle 40"/>
          <p:cNvSpPr/>
          <p:nvPr/>
        </p:nvSpPr>
        <p:spPr>
          <a:xfrm>
            <a:off x="100080" y="5518080"/>
            <a:ext cx="8840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5d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odern cars are increasingly sophisticated and have a lot of warning lights to alert you to any problems. Do you what the following warning lights refer to in your car?</a:t>
            </a: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714" name="Object 43"/>
          <p:cNvGraphicFramePr/>
          <p:nvPr/>
        </p:nvGraphicFramePr>
        <p:xfrm>
          <a:off x="560520" y="1916280"/>
          <a:ext cx="82548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1916280"/>
                    <a:ext cx="8254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44"/>
          <p:cNvGraphicFramePr/>
          <p:nvPr/>
        </p:nvGraphicFramePr>
        <p:xfrm>
          <a:off x="560520" y="3087720"/>
          <a:ext cx="8316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7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520" y="3087720"/>
                    <a:ext cx="8316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Object 45"/>
          <p:cNvGraphicFramePr/>
          <p:nvPr/>
        </p:nvGraphicFramePr>
        <p:xfrm>
          <a:off x="560520" y="4241880"/>
          <a:ext cx="83160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9" name="Object 4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520" y="4241880"/>
                    <a:ext cx="8316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Object 46"/>
          <p:cNvGraphicFramePr/>
          <p:nvPr/>
        </p:nvGraphicFramePr>
        <p:xfrm>
          <a:off x="4665600" y="1916280"/>
          <a:ext cx="825480" cy="57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1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5600" y="1916280"/>
                    <a:ext cx="8254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Object 48"/>
          <p:cNvGraphicFramePr/>
          <p:nvPr/>
        </p:nvGraphicFramePr>
        <p:xfrm>
          <a:off x="4665600" y="3087720"/>
          <a:ext cx="81288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3" name="Object 4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65600" y="3087720"/>
                    <a:ext cx="8128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Object 49"/>
          <p:cNvGraphicFramePr/>
          <p:nvPr/>
        </p:nvGraphicFramePr>
        <p:xfrm>
          <a:off x="4665600" y="4241880"/>
          <a:ext cx="80640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5" name="Object 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65600" y="4241880"/>
                    <a:ext cx="8064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6" name="Text Box 50"/>
          <p:cNvSpPr/>
          <p:nvPr/>
        </p:nvSpPr>
        <p:spPr>
          <a:xfrm>
            <a:off x="490320" y="15541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Brake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7" name="Text Box 51"/>
          <p:cNvSpPr/>
          <p:nvPr/>
        </p:nvSpPr>
        <p:spPr>
          <a:xfrm>
            <a:off x="491400" y="278136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Battery charg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Text Box 52"/>
          <p:cNvSpPr/>
          <p:nvPr/>
        </p:nvSpPr>
        <p:spPr>
          <a:xfrm>
            <a:off x="490320" y="395280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Oil pressu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9" name="Text Box 53"/>
          <p:cNvSpPr/>
          <p:nvPr/>
        </p:nvSpPr>
        <p:spPr>
          <a:xfrm>
            <a:off x="4597560" y="155412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Coolant temperatu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0" name="Text Box 54"/>
          <p:cNvSpPr/>
          <p:nvPr/>
        </p:nvSpPr>
        <p:spPr>
          <a:xfrm>
            <a:off x="4596480" y="278136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Air bag proble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1" name="Text Box 55"/>
          <p:cNvSpPr/>
          <p:nvPr/>
        </p:nvSpPr>
        <p:spPr>
          <a:xfrm>
            <a:off x="4596840" y="39528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Engine managemen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2" name="Text Box 56"/>
          <p:cNvSpPr/>
          <p:nvPr/>
        </p:nvSpPr>
        <p:spPr>
          <a:xfrm>
            <a:off x="2278080" y="126828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% correc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3" name="AutoShape 58"/>
          <p:cNvSpPr/>
          <p:nvPr/>
        </p:nvSpPr>
        <p:spPr>
          <a:xfrm rot="10800000">
            <a:off x="1496880" y="1988640"/>
            <a:ext cx="1440000" cy="3589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1" y="0"/>
                </a:lnTo>
                <a:lnTo>
                  <a:pt x="21600" y="10800"/>
                </a:lnTo>
                <a:lnTo>
                  <a:pt x="180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59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4" name="AutoShape 59"/>
          <p:cNvSpPr/>
          <p:nvPr/>
        </p:nvSpPr>
        <p:spPr>
          <a:xfrm rot="10800000">
            <a:off x="1496880" y="3160800"/>
            <a:ext cx="1440000" cy="35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8051" y="0"/>
                </a:lnTo>
                <a:lnTo>
                  <a:pt x="21600" y="10800"/>
                </a:lnTo>
                <a:lnTo>
                  <a:pt x="180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25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5" name="AutoShape 60"/>
          <p:cNvSpPr/>
          <p:nvPr/>
        </p:nvSpPr>
        <p:spPr>
          <a:xfrm rot="10800000">
            <a:off x="1496880" y="4385880"/>
            <a:ext cx="1440000" cy="3589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1" y="0"/>
                </a:lnTo>
                <a:lnTo>
                  <a:pt x="21600" y="10800"/>
                </a:lnTo>
                <a:lnTo>
                  <a:pt x="180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7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6" name="AutoShape 61"/>
          <p:cNvSpPr/>
          <p:nvPr/>
        </p:nvSpPr>
        <p:spPr>
          <a:xfrm rot="10800000">
            <a:off x="5817960" y="1988640"/>
            <a:ext cx="1439640" cy="35892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1" y="0"/>
                </a:lnTo>
                <a:lnTo>
                  <a:pt x="21600" y="10800"/>
                </a:lnTo>
                <a:lnTo>
                  <a:pt x="180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2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7" name="AutoShape 62"/>
          <p:cNvSpPr/>
          <p:nvPr/>
        </p:nvSpPr>
        <p:spPr>
          <a:xfrm rot="10800000">
            <a:off x="5817960" y="3160800"/>
            <a:ext cx="1439640" cy="35856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1" y="0"/>
                </a:lnTo>
                <a:lnTo>
                  <a:pt x="21600" y="10800"/>
                </a:lnTo>
                <a:lnTo>
                  <a:pt x="180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5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8" name="AutoShape 63"/>
          <p:cNvSpPr/>
          <p:nvPr/>
        </p:nvSpPr>
        <p:spPr>
          <a:xfrm rot="10800000">
            <a:off x="5817960" y="4385880"/>
            <a:ext cx="1439640" cy="35892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1" y="0"/>
                </a:lnTo>
                <a:lnTo>
                  <a:pt x="21600" y="10800"/>
                </a:lnTo>
                <a:lnTo>
                  <a:pt x="180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1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9" name="Text Box 64"/>
          <p:cNvSpPr/>
          <p:nvPr/>
        </p:nvSpPr>
        <p:spPr>
          <a:xfrm>
            <a:off x="6600600" y="126828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% correc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0" name="Text Box 65"/>
          <p:cNvSpPr/>
          <p:nvPr/>
        </p:nvSpPr>
        <p:spPr>
          <a:xfrm>
            <a:off x="8052480" y="2008080"/>
            <a:ext cx="4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12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1" name="Text Box 66"/>
          <p:cNvSpPr/>
          <p:nvPr/>
        </p:nvSpPr>
        <p:spPr>
          <a:xfrm>
            <a:off x="7906680" y="1268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don’t know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2" name="Text Box 67"/>
          <p:cNvSpPr/>
          <p:nvPr/>
        </p:nvSpPr>
        <p:spPr>
          <a:xfrm>
            <a:off x="8052480" y="3179880"/>
            <a:ext cx="4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41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3" name="Text Box 68"/>
          <p:cNvSpPr/>
          <p:nvPr/>
        </p:nvSpPr>
        <p:spPr>
          <a:xfrm>
            <a:off x="8052480" y="4405320"/>
            <a:ext cx="4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69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4" name="Text Box 69"/>
          <p:cNvSpPr/>
          <p:nvPr/>
        </p:nvSpPr>
        <p:spPr>
          <a:xfrm>
            <a:off x="3443760" y="2008080"/>
            <a:ext cx="4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22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Text Box 70"/>
          <p:cNvSpPr/>
          <p:nvPr/>
        </p:nvSpPr>
        <p:spPr>
          <a:xfrm>
            <a:off x="3298320" y="1268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don’t know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6" name="Text Box 71"/>
          <p:cNvSpPr/>
          <p:nvPr/>
        </p:nvSpPr>
        <p:spPr>
          <a:xfrm>
            <a:off x="3524760" y="317988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3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7" name="Text Box 72"/>
          <p:cNvSpPr/>
          <p:nvPr/>
        </p:nvSpPr>
        <p:spPr>
          <a:xfrm>
            <a:off x="3524760" y="44053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2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8" name="Text Box 74"/>
          <p:cNvSpPr/>
          <p:nvPr/>
        </p:nvSpPr>
        <p:spPr>
          <a:xfrm>
            <a:off x="1376640" y="350352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(Battery – other  69%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9" name="Text Box 75"/>
          <p:cNvSpPr/>
          <p:nvPr/>
        </p:nvSpPr>
        <p:spPr>
          <a:xfrm>
            <a:off x="1663200" y="4738680"/>
            <a:ext cx="13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(Oil – other  87%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0" name="Text Box 76"/>
          <p:cNvSpPr/>
          <p:nvPr/>
        </p:nvSpPr>
        <p:spPr>
          <a:xfrm>
            <a:off x="6292080" y="242100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(Other  84%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1" name="Text Box 77"/>
          <p:cNvSpPr/>
          <p:nvPr/>
        </p:nvSpPr>
        <p:spPr>
          <a:xfrm>
            <a:off x="5740920" y="350352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(Airbag – other  45%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2" name="Text Box 78"/>
          <p:cNvSpPr/>
          <p:nvPr/>
        </p:nvSpPr>
        <p:spPr>
          <a:xfrm>
            <a:off x="6292080" y="473868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(Other  37%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3" name="Rectangle 79"/>
          <p:cNvSpPr/>
          <p:nvPr/>
        </p:nvSpPr>
        <p:spPr>
          <a:xfrm>
            <a:off x="2216160" y="5084640"/>
            <a:ext cx="4105440" cy="36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Men more knowledgeable than women – for all the abov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4" name="Rectangle 80"/>
          <p:cNvSpPr/>
          <p:nvPr/>
        </p:nvSpPr>
        <p:spPr>
          <a:xfrm>
            <a:off x="2432160" y="1989000"/>
            <a:ext cx="431640" cy="358920"/>
          </a:xfrm>
          <a:prstGeom prst="rect">
            <a:avLst/>
          </a:prstGeom>
          <a:noFill/>
          <a:ln w="19080">
            <a:solidFill>
              <a:srgbClr val="005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5" name="Rectangle 81"/>
          <p:cNvSpPr/>
          <p:nvPr/>
        </p:nvSpPr>
        <p:spPr>
          <a:xfrm>
            <a:off x="8050320" y="4365720"/>
            <a:ext cx="431640" cy="358560"/>
          </a:xfrm>
          <a:prstGeom prst="rect">
            <a:avLst/>
          </a:prstGeom>
          <a:noFill/>
          <a:ln w="19080">
            <a:solidFill>
              <a:srgbClr val="005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6" name="Text Box 76"/>
          <p:cNvSpPr/>
          <p:nvPr/>
        </p:nvSpPr>
        <p:spPr>
          <a:xfrm>
            <a:off x="1859760" y="242100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(Other  18%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Summary 3.1 – reliance on and impact of in-car technolog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90583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We have become too reliant on in-car technology (59% agree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nd too much reliance on in-car technology makes motorists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less safe drivers (59% agree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ake more risks when driving (48% agree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lmost 1 in 2 motorists become seriously distracted by in-car technology, when driving (46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young drivers (17-24 years) are particularly vulnerable (51% distracted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older drivers (45 years +) being less vulnerable (39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In-car entertainment is the most distracting for all motorists (54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but younger drivers (17-14 years) are more distracted than older drivers by SAT NAV (40%) and by mobile phone use (41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Summary 3.2 – understanding in-car technolog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90583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429840" indent="-2577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ere is a strong desire for clarity of information and training on how to use today’s sophisticated in-car technology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77240" indent="-15840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manufacturers need to make manuals more user friendly (85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77240" indent="-15840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people need to be shown how to use in-car technology properly (85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77240" indent="-15840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driver training should include teaching people how to use the latest in-car technology (69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77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lvl="1" marL="429840" indent="-2577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Motorists readily admit to not being confident in knowing how to use certain technologies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77240" indent="-15840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brake assist: 55% not confident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77240" indent="-15840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BS: 35% not confident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77240" indent="-15840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ruise control 34% not confident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77240" indent="-15840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SAT NAV: 22% not confident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77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lvl="1" marL="429840" indent="-2577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ypically, women tend to be less confident than men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29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 Narrow"/>
            </a:endParaRPr>
          </a:p>
          <a:p>
            <a:pPr lvl="1" marL="429840" indent="-2577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Most motorists cannot accurately identify common in-car warning light symbols  - albeit that men are more knowledgeable than women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777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6200" y="3428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motorist survey 2 - technolog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6560" y="400536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Methodology</a:t>
            </a:r>
            <a:endParaRPr b="0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Sample details</a:t>
            </a:r>
            <a:endParaRPr b="0" lang="en-US" sz="14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15" name="Picture 10" descr="car-outline"/>
          <p:cNvPicPr/>
          <p:nvPr/>
        </p:nvPicPr>
        <p:blipFill>
          <a:blip r:embed="rId1"/>
          <a:stretch/>
        </p:blipFill>
        <p:spPr>
          <a:xfrm>
            <a:off x="560520" y="2133720"/>
            <a:ext cx="2496960" cy="126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dvd-car"/>
          <p:cNvPicPr/>
          <p:nvPr/>
        </p:nvPicPr>
        <p:blipFill>
          <a:blip r:embed="rId2"/>
          <a:stretch/>
        </p:blipFill>
        <p:spPr>
          <a:xfrm>
            <a:off x="3081240" y="2133720"/>
            <a:ext cx="20401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66200" y="3428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4. traffic management technolog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effect of technology on traffic management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3081240" y="15001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negativ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4" name="Text Box 10"/>
          <p:cNvSpPr/>
          <p:nvPr/>
        </p:nvSpPr>
        <p:spPr>
          <a:xfrm>
            <a:off x="2360520" y="1557360"/>
            <a:ext cx="1011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most negativ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1-3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765" name="Object 12"/>
          <p:cNvGraphicFramePr/>
          <p:nvPr/>
        </p:nvGraphicFramePr>
        <p:xfrm>
          <a:off x="5257800" y="2163600"/>
          <a:ext cx="258120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163600"/>
                    <a:ext cx="258120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Text Box 13"/>
          <p:cNvSpPr/>
          <p:nvPr/>
        </p:nvSpPr>
        <p:spPr>
          <a:xfrm>
            <a:off x="9050040" y="1557360"/>
            <a:ext cx="55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mean</a:t>
            </a:r>
            <a:br>
              <a:rPr sz="1200"/>
            </a:b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score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1-5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768" name="Object 14"/>
          <p:cNvGraphicFramePr/>
          <p:nvPr/>
        </p:nvGraphicFramePr>
        <p:xfrm>
          <a:off x="2419200" y="2162160"/>
          <a:ext cx="3095640" cy="37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9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9200" y="2162160"/>
                    <a:ext cx="309564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Line 15"/>
          <p:cNvSpPr/>
          <p:nvPr/>
        </p:nvSpPr>
        <p:spPr>
          <a:xfrm>
            <a:off x="5384880" y="1716120"/>
            <a:ext cx="0" cy="39607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1" name="Rectangle 16"/>
          <p:cNvSpPr/>
          <p:nvPr/>
        </p:nvSpPr>
        <p:spPr>
          <a:xfrm>
            <a:off x="114480" y="6093000"/>
            <a:ext cx="88707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Q8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To what extent has the following technology had a positive or negative effect on traffic management these days?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2" name="Text Box 17"/>
          <p:cNvSpPr/>
          <p:nvPr/>
        </p:nvSpPr>
        <p:spPr>
          <a:xfrm>
            <a:off x="533520" y="5421240"/>
            <a:ext cx="182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toll road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3" name="Text Box 22"/>
          <p:cNvSpPr/>
          <p:nvPr/>
        </p:nvSpPr>
        <p:spPr>
          <a:xfrm>
            <a:off x="2781000" y="23400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4" name="Text Box 23"/>
          <p:cNvSpPr/>
          <p:nvPr/>
        </p:nvSpPr>
        <p:spPr>
          <a:xfrm>
            <a:off x="5213160" y="14130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5" name="Text Box 38"/>
          <p:cNvSpPr/>
          <p:nvPr/>
        </p:nvSpPr>
        <p:spPr>
          <a:xfrm>
            <a:off x="8516880" y="234324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6" name="Text Box 43"/>
          <p:cNvSpPr/>
          <p:nvPr/>
        </p:nvSpPr>
        <p:spPr>
          <a:xfrm>
            <a:off x="9133920" y="234324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7.7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7" name="Rectangle 48"/>
          <p:cNvSpPr/>
          <p:nvPr/>
        </p:nvSpPr>
        <p:spPr>
          <a:xfrm>
            <a:off x="3224160" y="1787400"/>
            <a:ext cx="2176560" cy="360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cdc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8" name="Rectangle 49"/>
          <p:cNvSpPr/>
          <p:nvPr/>
        </p:nvSpPr>
        <p:spPr>
          <a:xfrm>
            <a:off x="5384880" y="1787400"/>
            <a:ext cx="2160360" cy="360360"/>
          </a:xfrm>
          <a:prstGeom prst="rect">
            <a:avLst/>
          </a:prstGeom>
          <a:gradFill rotWithShape="0">
            <a:gsLst>
              <a:gs pos="0">
                <a:srgbClr val="dcdc00"/>
              </a:gs>
              <a:gs pos="100000">
                <a:srgbClr val="6caf51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4952880" y="1787400"/>
            <a:ext cx="43200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0" name="Text Box 60"/>
          <p:cNvSpPr/>
          <p:nvPr/>
        </p:nvSpPr>
        <p:spPr>
          <a:xfrm>
            <a:off x="3298320" y="17874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1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1" name="Text Box 61"/>
          <p:cNvSpPr/>
          <p:nvPr/>
        </p:nvSpPr>
        <p:spPr>
          <a:xfrm>
            <a:off x="3733560" y="17874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2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2" name="Text Box 62"/>
          <p:cNvSpPr/>
          <p:nvPr/>
        </p:nvSpPr>
        <p:spPr>
          <a:xfrm>
            <a:off x="4168440" y="17874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3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3" name="Text Box 63"/>
          <p:cNvSpPr/>
          <p:nvPr/>
        </p:nvSpPr>
        <p:spPr>
          <a:xfrm>
            <a:off x="4603320" y="17874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4" name="Text Box 64"/>
          <p:cNvSpPr/>
          <p:nvPr/>
        </p:nvSpPr>
        <p:spPr>
          <a:xfrm>
            <a:off x="5038200" y="17874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5" name="Text Box 65"/>
          <p:cNvSpPr/>
          <p:nvPr/>
        </p:nvSpPr>
        <p:spPr>
          <a:xfrm>
            <a:off x="5459040" y="17874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6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6" name="Text Box 66"/>
          <p:cNvSpPr/>
          <p:nvPr/>
        </p:nvSpPr>
        <p:spPr>
          <a:xfrm>
            <a:off x="5876640" y="17874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7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7" name="Text Box 67"/>
          <p:cNvSpPr/>
          <p:nvPr/>
        </p:nvSpPr>
        <p:spPr>
          <a:xfrm>
            <a:off x="6295680" y="17874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8" name="Text Box 68"/>
          <p:cNvSpPr/>
          <p:nvPr/>
        </p:nvSpPr>
        <p:spPr>
          <a:xfrm>
            <a:off x="6714720" y="17874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9" name="Text Box 69"/>
          <p:cNvSpPr/>
          <p:nvPr/>
        </p:nvSpPr>
        <p:spPr>
          <a:xfrm>
            <a:off x="7133400" y="1787400"/>
            <a:ext cx="3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1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0" name="Rectangle 70"/>
          <p:cNvSpPr/>
          <p:nvPr/>
        </p:nvSpPr>
        <p:spPr>
          <a:xfrm>
            <a:off x="4521240" y="1787400"/>
            <a:ext cx="43164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1" name="Rectangle 71"/>
          <p:cNvSpPr/>
          <p:nvPr/>
        </p:nvSpPr>
        <p:spPr>
          <a:xfrm>
            <a:off x="4089240" y="1787400"/>
            <a:ext cx="43200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2" name="Rectangle 72"/>
          <p:cNvSpPr/>
          <p:nvPr/>
        </p:nvSpPr>
        <p:spPr>
          <a:xfrm>
            <a:off x="3657600" y="1787400"/>
            <a:ext cx="43164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3" name="Rectangle 73"/>
          <p:cNvSpPr/>
          <p:nvPr/>
        </p:nvSpPr>
        <p:spPr>
          <a:xfrm>
            <a:off x="3225960" y="1787400"/>
            <a:ext cx="43164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4" name="Text Box 74"/>
          <p:cNvSpPr/>
          <p:nvPr/>
        </p:nvSpPr>
        <p:spPr>
          <a:xfrm>
            <a:off x="6753240" y="15001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positiv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5" name="Rectangle 75"/>
          <p:cNvSpPr/>
          <p:nvPr/>
        </p:nvSpPr>
        <p:spPr>
          <a:xfrm>
            <a:off x="7112160" y="1787400"/>
            <a:ext cx="43164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6" name="Rectangle 76"/>
          <p:cNvSpPr/>
          <p:nvPr/>
        </p:nvSpPr>
        <p:spPr>
          <a:xfrm>
            <a:off x="6680160" y="1787400"/>
            <a:ext cx="43200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7" name="Rectangle 77"/>
          <p:cNvSpPr/>
          <p:nvPr/>
        </p:nvSpPr>
        <p:spPr>
          <a:xfrm>
            <a:off x="6248520" y="1787400"/>
            <a:ext cx="43164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8" name="Rectangle 78"/>
          <p:cNvSpPr/>
          <p:nvPr/>
        </p:nvSpPr>
        <p:spPr>
          <a:xfrm>
            <a:off x="5816520" y="1787400"/>
            <a:ext cx="43200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9" name="Rectangle 79"/>
          <p:cNvSpPr/>
          <p:nvPr/>
        </p:nvSpPr>
        <p:spPr>
          <a:xfrm>
            <a:off x="5384880" y="1787400"/>
            <a:ext cx="43164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0" name="Text Box 80"/>
          <p:cNvSpPr/>
          <p:nvPr/>
        </p:nvSpPr>
        <p:spPr>
          <a:xfrm>
            <a:off x="7473960" y="1557360"/>
            <a:ext cx="8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most positiv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8-10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1" name="Text Box 81"/>
          <p:cNvSpPr/>
          <p:nvPr/>
        </p:nvSpPr>
        <p:spPr>
          <a:xfrm>
            <a:off x="7732440" y="234324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65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2" name="Text Box 86"/>
          <p:cNvSpPr/>
          <p:nvPr/>
        </p:nvSpPr>
        <p:spPr>
          <a:xfrm>
            <a:off x="8346600" y="1557360"/>
            <a:ext cx="50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don’t</a:t>
            </a:r>
            <a:br>
              <a:rPr sz="1200"/>
            </a:b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know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3" name="Text Box 87"/>
          <p:cNvSpPr/>
          <p:nvPr/>
        </p:nvSpPr>
        <p:spPr>
          <a:xfrm>
            <a:off x="533520" y="5010120"/>
            <a:ext cx="182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speed camera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4" name="Text Box 88"/>
          <p:cNvSpPr/>
          <p:nvPr/>
        </p:nvSpPr>
        <p:spPr>
          <a:xfrm>
            <a:off x="2781000" y="279072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5" name="Text Box 89"/>
          <p:cNvSpPr/>
          <p:nvPr/>
        </p:nvSpPr>
        <p:spPr>
          <a:xfrm>
            <a:off x="8516880" y="279396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6" name="Text Box 90"/>
          <p:cNvSpPr/>
          <p:nvPr/>
        </p:nvSpPr>
        <p:spPr>
          <a:xfrm>
            <a:off x="9133920" y="279396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7.0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7" name="Text Box 91"/>
          <p:cNvSpPr/>
          <p:nvPr/>
        </p:nvSpPr>
        <p:spPr>
          <a:xfrm>
            <a:off x="7732440" y="279396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47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8" name="Text Box 92"/>
          <p:cNvSpPr/>
          <p:nvPr/>
        </p:nvSpPr>
        <p:spPr>
          <a:xfrm>
            <a:off x="533520" y="4098960"/>
            <a:ext cx="182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average speed camera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9" name="Text Box 93"/>
          <p:cNvSpPr/>
          <p:nvPr/>
        </p:nvSpPr>
        <p:spPr>
          <a:xfrm>
            <a:off x="2781000" y="323676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Text Box 94"/>
          <p:cNvSpPr/>
          <p:nvPr/>
        </p:nvSpPr>
        <p:spPr>
          <a:xfrm>
            <a:off x="8447040" y="324000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11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1" name="Text Box 95"/>
          <p:cNvSpPr/>
          <p:nvPr/>
        </p:nvSpPr>
        <p:spPr>
          <a:xfrm>
            <a:off x="9133920" y="32400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6.13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2" name="Text Box 96"/>
          <p:cNvSpPr/>
          <p:nvPr/>
        </p:nvSpPr>
        <p:spPr>
          <a:xfrm>
            <a:off x="7732440" y="324000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33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3" name="Text Box 97"/>
          <p:cNvSpPr/>
          <p:nvPr/>
        </p:nvSpPr>
        <p:spPr>
          <a:xfrm>
            <a:off x="533520" y="2790720"/>
            <a:ext cx="182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speed awareness sign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4" name="Text Box 98"/>
          <p:cNvSpPr/>
          <p:nvPr/>
        </p:nvSpPr>
        <p:spPr>
          <a:xfrm>
            <a:off x="2781000" y="365904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5" name="Text Box 99"/>
          <p:cNvSpPr/>
          <p:nvPr/>
        </p:nvSpPr>
        <p:spPr>
          <a:xfrm>
            <a:off x="8447040" y="366228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15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6" name="Text Box 100"/>
          <p:cNvSpPr/>
          <p:nvPr/>
        </p:nvSpPr>
        <p:spPr>
          <a:xfrm>
            <a:off x="9133920" y="366228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5.87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7" name="Text Box 101"/>
          <p:cNvSpPr/>
          <p:nvPr/>
        </p:nvSpPr>
        <p:spPr>
          <a:xfrm>
            <a:off x="7732440" y="366228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31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8" name="Text Box 102"/>
          <p:cNvSpPr/>
          <p:nvPr/>
        </p:nvSpPr>
        <p:spPr>
          <a:xfrm>
            <a:off x="533520" y="4556160"/>
            <a:ext cx="182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ATM/ hard shoulder run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9" name="Text Box 103"/>
          <p:cNvSpPr/>
          <p:nvPr/>
        </p:nvSpPr>
        <p:spPr>
          <a:xfrm>
            <a:off x="2711160" y="409896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20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0" name="Text Box 104"/>
          <p:cNvSpPr/>
          <p:nvPr/>
        </p:nvSpPr>
        <p:spPr>
          <a:xfrm>
            <a:off x="8516880" y="41022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3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1" name="Text Box 105"/>
          <p:cNvSpPr/>
          <p:nvPr/>
        </p:nvSpPr>
        <p:spPr>
          <a:xfrm>
            <a:off x="9133920" y="41022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5.67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2" name="Text Box 106"/>
          <p:cNvSpPr/>
          <p:nvPr/>
        </p:nvSpPr>
        <p:spPr>
          <a:xfrm>
            <a:off x="7731720" y="410220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28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3" name="Text Box 107"/>
          <p:cNvSpPr/>
          <p:nvPr/>
        </p:nvSpPr>
        <p:spPr>
          <a:xfrm>
            <a:off x="533520" y="3236760"/>
            <a:ext cx="182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traffic light phas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4" name="Text Box 108"/>
          <p:cNvSpPr/>
          <p:nvPr/>
        </p:nvSpPr>
        <p:spPr>
          <a:xfrm>
            <a:off x="2781000" y="455616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5" name="Text Box 109"/>
          <p:cNvSpPr/>
          <p:nvPr/>
        </p:nvSpPr>
        <p:spPr>
          <a:xfrm>
            <a:off x="8447040" y="455940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2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6" name="Text Box 110"/>
          <p:cNvSpPr/>
          <p:nvPr/>
        </p:nvSpPr>
        <p:spPr>
          <a:xfrm>
            <a:off x="9133920" y="45594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5.18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7" name="Text Box 111"/>
          <p:cNvSpPr/>
          <p:nvPr/>
        </p:nvSpPr>
        <p:spPr>
          <a:xfrm>
            <a:off x="7732440" y="455940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22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8" name="Text Box 112"/>
          <p:cNvSpPr/>
          <p:nvPr/>
        </p:nvSpPr>
        <p:spPr>
          <a:xfrm>
            <a:off x="533520" y="2251080"/>
            <a:ext cx="18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advanced warning signs on motorway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9" name="Text Box 113"/>
          <p:cNvSpPr/>
          <p:nvPr/>
        </p:nvSpPr>
        <p:spPr>
          <a:xfrm>
            <a:off x="2711160" y="501012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33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0" name="Text Box 114"/>
          <p:cNvSpPr/>
          <p:nvPr/>
        </p:nvSpPr>
        <p:spPr>
          <a:xfrm>
            <a:off x="8516880" y="501336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1" name="Text Box 115"/>
          <p:cNvSpPr/>
          <p:nvPr/>
        </p:nvSpPr>
        <p:spPr>
          <a:xfrm>
            <a:off x="9133920" y="501336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5.08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2" name="Text Box 116"/>
          <p:cNvSpPr/>
          <p:nvPr/>
        </p:nvSpPr>
        <p:spPr>
          <a:xfrm>
            <a:off x="7732440" y="501336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25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3" name="Text Box 117"/>
          <p:cNvSpPr/>
          <p:nvPr/>
        </p:nvSpPr>
        <p:spPr>
          <a:xfrm>
            <a:off x="533520" y="3557520"/>
            <a:ext cx="18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phased filter lights on motorway slip road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4" name="Text Box 118"/>
          <p:cNvSpPr/>
          <p:nvPr/>
        </p:nvSpPr>
        <p:spPr>
          <a:xfrm>
            <a:off x="2711160" y="542124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30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5" name="Text Box 119"/>
          <p:cNvSpPr/>
          <p:nvPr/>
        </p:nvSpPr>
        <p:spPr>
          <a:xfrm>
            <a:off x="8516880" y="542448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7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6" name="Text Box 120"/>
          <p:cNvSpPr/>
          <p:nvPr/>
        </p:nvSpPr>
        <p:spPr>
          <a:xfrm>
            <a:off x="9133920" y="542448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4.49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7" name="Text Box 121"/>
          <p:cNvSpPr/>
          <p:nvPr/>
        </p:nvSpPr>
        <p:spPr>
          <a:xfrm>
            <a:off x="7732440" y="542448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13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8" name="Text Box 123"/>
          <p:cNvSpPr/>
          <p:nvPr/>
        </p:nvSpPr>
        <p:spPr>
          <a:xfrm>
            <a:off x="4883040" y="238284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9" name="Text Box 124"/>
          <p:cNvSpPr/>
          <p:nvPr/>
        </p:nvSpPr>
        <p:spPr>
          <a:xfrm>
            <a:off x="353880" y="585324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*  less than 0.5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0" name="Rectangle 60"/>
          <p:cNvSpPr/>
          <p:nvPr/>
        </p:nvSpPr>
        <p:spPr>
          <a:xfrm>
            <a:off x="2649600" y="4941720"/>
            <a:ext cx="428400" cy="35748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1" name="Rectangle 60"/>
          <p:cNvSpPr/>
          <p:nvPr/>
        </p:nvSpPr>
        <p:spPr>
          <a:xfrm>
            <a:off x="2649600" y="5373720"/>
            <a:ext cx="428400" cy="35712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2" name="Rectangle 60"/>
          <p:cNvSpPr/>
          <p:nvPr/>
        </p:nvSpPr>
        <p:spPr>
          <a:xfrm>
            <a:off x="7689960" y="2708280"/>
            <a:ext cx="428400" cy="35712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689960" y="2276640"/>
            <a:ext cx="428400" cy="35712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4" name="Object 2"/>
          <p:cNvGraphicFramePr/>
          <p:nvPr/>
        </p:nvGraphicFramePr>
        <p:xfrm>
          <a:off x="2486160" y="2343240"/>
          <a:ext cx="3028680" cy="29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6160" y="2343240"/>
                    <a:ext cx="3028680" cy="29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attitudes to technology and traffic management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graphicFrame>
        <p:nvGraphicFramePr>
          <p:cNvPr id="847" name="Object 4"/>
          <p:cNvGraphicFramePr/>
          <p:nvPr/>
        </p:nvGraphicFramePr>
        <p:xfrm>
          <a:off x="5810400" y="2352600"/>
          <a:ext cx="2636640" cy="29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0400" y="2352600"/>
                    <a:ext cx="263664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Text Box 5"/>
          <p:cNvSpPr/>
          <p:nvPr/>
        </p:nvSpPr>
        <p:spPr>
          <a:xfrm>
            <a:off x="8945280" y="1371600"/>
            <a:ext cx="55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mean</a:t>
            </a:r>
            <a:br>
              <a:rPr sz="1200"/>
            </a:b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score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-5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6560" y="4214880"/>
            <a:ext cx="2691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 agree with the principle of road pricing in order to reduce traffic – but it is for motorists in any given area to decide where to support the schem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1" name="Text Box 7"/>
          <p:cNvSpPr/>
          <p:nvPr/>
        </p:nvSpPr>
        <p:spPr>
          <a:xfrm>
            <a:off x="9019080" y="350820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.6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2" name="Text Box 8"/>
          <p:cNvSpPr/>
          <p:nvPr/>
        </p:nvSpPr>
        <p:spPr>
          <a:xfrm>
            <a:off x="466560" y="3276720"/>
            <a:ext cx="269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 oppose any technology that allows anyone to monitor the movement of my vehic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5875200" y="2367000"/>
            <a:ext cx="0" cy="25747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4" name="Text Box 10"/>
          <p:cNvSpPr/>
          <p:nvPr/>
        </p:nvSpPr>
        <p:spPr>
          <a:xfrm>
            <a:off x="9019080" y="457200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.7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5" name="Text Box 11"/>
          <p:cNvSpPr/>
          <p:nvPr/>
        </p:nvSpPr>
        <p:spPr>
          <a:xfrm>
            <a:off x="5446800" y="35082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6" name="Text Box 12"/>
          <p:cNvSpPr/>
          <p:nvPr/>
        </p:nvSpPr>
        <p:spPr>
          <a:xfrm>
            <a:off x="5470560" y="45720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5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8265960" y="35082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5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8" name="Text Box 14"/>
          <p:cNvSpPr/>
          <p:nvPr/>
        </p:nvSpPr>
        <p:spPr>
          <a:xfrm>
            <a:off x="8290080" y="45720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9" name="Text Box 15"/>
          <p:cNvSpPr/>
          <p:nvPr/>
        </p:nvSpPr>
        <p:spPr>
          <a:xfrm>
            <a:off x="3224160" y="35082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0" name="Text Box 16"/>
          <p:cNvSpPr/>
          <p:nvPr/>
        </p:nvSpPr>
        <p:spPr>
          <a:xfrm>
            <a:off x="3248280" y="45720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1" name="Text Box 17"/>
          <p:cNvSpPr/>
          <p:nvPr/>
        </p:nvSpPr>
        <p:spPr>
          <a:xfrm>
            <a:off x="3081240" y="1371600"/>
            <a:ext cx="7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total disagre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-2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2" name="Text Box 18"/>
          <p:cNvSpPr/>
          <p:nvPr/>
        </p:nvSpPr>
        <p:spPr>
          <a:xfrm>
            <a:off x="8048520" y="1554120"/>
            <a:ext cx="83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total agre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4-5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3" name="Text Box 19"/>
          <p:cNvSpPr/>
          <p:nvPr/>
        </p:nvSpPr>
        <p:spPr>
          <a:xfrm>
            <a:off x="5313240" y="137160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neither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3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4" name="Text Box 20"/>
          <p:cNvSpPr/>
          <p:nvPr/>
        </p:nvSpPr>
        <p:spPr>
          <a:xfrm>
            <a:off x="6032520" y="137160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agree slightl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4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5" name="Text Box 21"/>
          <p:cNvSpPr/>
          <p:nvPr/>
        </p:nvSpPr>
        <p:spPr>
          <a:xfrm>
            <a:off x="6897600" y="137160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agree strongl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5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6" name="Text Box 22"/>
          <p:cNvSpPr/>
          <p:nvPr/>
        </p:nvSpPr>
        <p:spPr>
          <a:xfrm>
            <a:off x="4594320" y="1371600"/>
            <a:ext cx="83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disagree slightl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2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7" name="Text Box 23"/>
          <p:cNvSpPr/>
          <p:nvPr/>
        </p:nvSpPr>
        <p:spPr>
          <a:xfrm>
            <a:off x="3800520" y="137160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disagree strongl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8" name="Rectangle 24"/>
          <p:cNvSpPr/>
          <p:nvPr/>
        </p:nvSpPr>
        <p:spPr>
          <a:xfrm>
            <a:off x="100080" y="5599080"/>
            <a:ext cx="891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2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How strongly do you agree or disagree with the following statements?</a:t>
            </a: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9" name="Line 25"/>
          <p:cNvSpPr/>
          <p:nvPr/>
        </p:nvSpPr>
        <p:spPr>
          <a:xfrm>
            <a:off x="5448240" y="2367000"/>
            <a:ext cx="0" cy="25747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0" name="Text Box 30"/>
          <p:cNvSpPr/>
          <p:nvPr/>
        </p:nvSpPr>
        <p:spPr>
          <a:xfrm>
            <a:off x="9023760" y="242100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.9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1" name="Text Box 31"/>
          <p:cNvSpPr/>
          <p:nvPr/>
        </p:nvSpPr>
        <p:spPr>
          <a:xfrm>
            <a:off x="5475600" y="24210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2" name="Text Box 32"/>
          <p:cNvSpPr/>
          <p:nvPr/>
        </p:nvSpPr>
        <p:spPr>
          <a:xfrm>
            <a:off x="8294760" y="24210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7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3" name="Text Box 33"/>
          <p:cNvSpPr/>
          <p:nvPr/>
        </p:nvSpPr>
        <p:spPr>
          <a:xfrm>
            <a:off x="3252960" y="24210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4" name="Text Box 34"/>
          <p:cNvSpPr/>
          <p:nvPr/>
        </p:nvSpPr>
        <p:spPr>
          <a:xfrm>
            <a:off x="466560" y="2171880"/>
            <a:ext cx="262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Speed cameras are more about raising money than improving road safet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5" name="Rectangle 60"/>
          <p:cNvSpPr/>
          <p:nvPr/>
        </p:nvSpPr>
        <p:spPr>
          <a:xfrm>
            <a:off x="8238960" y="2428920"/>
            <a:ext cx="428760" cy="35712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6" name="Rectangle 60"/>
          <p:cNvSpPr/>
          <p:nvPr/>
        </p:nvSpPr>
        <p:spPr>
          <a:xfrm>
            <a:off x="8238960" y="3500280"/>
            <a:ext cx="428760" cy="35748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7" name="Rectangle 60"/>
          <p:cNvSpPr/>
          <p:nvPr/>
        </p:nvSpPr>
        <p:spPr>
          <a:xfrm>
            <a:off x="3238560" y="4572000"/>
            <a:ext cx="428400" cy="35712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confidence in driving properly through Active Traffic Management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graphicFrame>
        <p:nvGraphicFramePr>
          <p:cNvPr id="879" name="Object 3"/>
          <p:cNvGraphicFramePr/>
          <p:nvPr/>
        </p:nvGraphicFramePr>
        <p:xfrm>
          <a:off x="2724120" y="1771560"/>
          <a:ext cx="260028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4120" y="1771560"/>
                    <a:ext cx="260028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1" name="Text Box 4"/>
          <p:cNvSpPr/>
          <p:nvPr/>
        </p:nvSpPr>
        <p:spPr>
          <a:xfrm>
            <a:off x="466560" y="200988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ompletely confident (5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2" name="Text Box 7"/>
          <p:cNvSpPr/>
          <p:nvPr/>
        </p:nvSpPr>
        <p:spPr>
          <a:xfrm>
            <a:off x="2722680" y="155736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3" name="Rectangle 22"/>
          <p:cNvSpPr/>
          <p:nvPr/>
        </p:nvSpPr>
        <p:spPr>
          <a:xfrm>
            <a:off x="100080" y="5302080"/>
            <a:ext cx="8840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7a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ctive Traffic Management (ATM)/ hard shoulder running directs the driver to use the hard shoulder during times of peak congestion using electronic signs above each lane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How confident are you that you know (or would know) how to drive properly through Active Traffic Management/ hard shoulder running?</a:t>
            </a: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4" name="Text Box 23"/>
          <p:cNvSpPr/>
          <p:nvPr/>
        </p:nvSpPr>
        <p:spPr>
          <a:xfrm>
            <a:off x="466560" y="254016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very confident (4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5" name="Text Box 24"/>
          <p:cNvSpPr/>
          <p:nvPr/>
        </p:nvSpPr>
        <p:spPr>
          <a:xfrm>
            <a:off x="466560" y="307980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fairly confident (3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6" name="Text Box 25"/>
          <p:cNvSpPr/>
          <p:nvPr/>
        </p:nvSpPr>
        <p:spPr>
          <a:xfrm>
            <a:off x="466560" y="361944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not very confident (2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7" name="Text Box 26"/>
          <p:cNvSpPr/>
          <p:nvPr/>
        </p:nvSpPr>
        <p:spPr>
          <a:xfrm>
            <a:off x="466560" y="415908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not at all confident (1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8" name="Text Box 27"/>
          <p:cNvSpPr/>
          <p:nvPr/>
        </p:nvSpPr>
        <p:spPr>
          <a:xfrm>
            <a:off x="466560" y="458136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mean score (5-1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9" name="Text Box 28"/>
          <p:cNvSpPr/>
          <p:nvPr/>
        </p:nvSpPr>
        <p:spPr>
          <a:xfrm>
            <a:off x="2794680" y="458136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.75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0" name="AutoShape 29"/>
          <p:cNvSpPr/>
          <p:nvPr/>
        </p:nvSpPr>
        <p:spPr>
          <a:xfrm>
            <a:off x="4808520" y="1989000"/>
            <a:ext cx="216000" cy="1440000"/>
          </a:xfrm>
          <a:custGeom>
            <a:avLst/>
            <a:gdLst>
              <a:gd name="textAreaLeft" fmla="*/ 0 w 216000"/>
              <a:gd name="textAreaRight" fmla="*/ 7812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5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1" name="AutoShape 30"/>
          <p:cNvSpPr/>
          <p:nvPr/>
        </p:nvSpPr>
        <p:spPr>
          <a:xfrm>
            <a:off x="4808520" y="3573360"/>
            <a:ext cx="216000" cy="935280"/>
          </a:xfrm>
          <a:custGeom>
            <a:avLst/>
            <a:gdLst>
              <a:gd name="textAreaLeft" fmla="*/ 0 w 216000"/>
              <a:gd name="textAreaRight" fmla="*/ 7812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5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2" name="Text Box 31"/>
          <p:cNvSpPr/>
          <p:nvPr/>
        </p:nvSpPr>
        <p:spPr>
          <a:xfrm>
            <a:off x="5027040" y="255600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58%  confiden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3" name="Text Box 32"/>
          <p:cNvSpPr/>
          <p:nvPr/>
        </p:nvSpPr>
        <p:spPr>
          <a:xfrm>
            <a:off x="5027400" y="390672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2%  not confiden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4" name="Rectangle 33"/>
          <p:cNvSpPr/>
          <p:nvPr/>
        </p:nvSpPr>
        <p:spPr>
          <a:xfrm>
            <a:off x="7040520" y="2205000"/>
            <a:ext cx="1727280" cy="100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more confiden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men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68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5+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62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5" name="Rectangle 34"/>
          <p:cNvSpPr/>
          <p:nvPr/>
        </p:nvSpPr>
        <p:spPr>
          <a:xfrm>
            <a:off x="7040520" y="3573360"/>
            <a:ext cx="1727280" cy="100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less confiden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female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55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7-24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56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driver training should include information on ATM/ hard shoulder running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graphicFrame>
        <p:nvGraphicFramePr>
          <p:cNvPr id="897" name="Object 3"/>
          <p:cNvGraphicFramePr/>
          <p:nvPr/>
        </p:nvGraphicFramePr>
        <p:xfrm>
          <a:off x="2724120" y="1486080"/>
          <a:ext cx="2600280" cy="34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4120" y="1486080"/>
                    <a:ext cx="260028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Text Box 4"/>
          <p:cNvSpPr/>
          <p:nvPr/>
        </p:nvSpPr>
        <p:spPr>
          <a:xfrm>
            <a:off x="466560" y="167148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gree completely (5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0" name="Text Box 5"/>
          <p:cNvSpPr/>
          <p:nvPr/>
        </p:nvSpPr>
        <p:spPr>
          <a:xfrm>
            <a:off x="2722680" y="141300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1" name="Rectangle 6"/>
          <p:cNvSpPr/>
          <p:nvPr/>
        </p:nvSpPr>
        <p:spPr>
          <a:xfrm>
            <a:off x="100080" y="5302080"/>
            <a:ext cx="8840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7b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To what extent do you agree or disagree with the following statement: </a:t>
            </a: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Driver training should include information on ATM/ hard shoulder running and the importance of signage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?</a:t>
            </a: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2" name="Text Box 7"/>
          <p:cNvSpPr/>
          <p:nvPr/>
        </p:nvSpPr>
        <p:spPr>
          <a:xfrm>
            <a:off x="466560" y="212400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gree (4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3" name="Text Box 8"/>
          <p:cNvSpPr/>
          <p:nvPr/>
        </p:nvSpPr>
        <p:spPr>
          <a:xfrm>
            <a:off x="466560" y="25765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neither agree nor disagree (3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4" name="Text Box 9"/>
          <p:cNvSpPr/>
          <p:nvPr/>
        </p:nvSpPr>
        <p:spPr>
          <a:xfrm>
            <a:off x="466560" y="302904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isagree (2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5" name="Text Box 10"/>
          <p:cNvSpPr/>
          <p:nvPr/>
        </p:nvSpPr>
        <p:spPr>
          <a:xfrm>
            <a:off x="466560" y="348156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isagree completely (1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6" name="Text Box 11"/>
          <p:cNvSpPr/>
          <p:nvPr/>
        </p:nvSpPr>
        <p:spPr>
          <a:xfrm>
            <a:off x="466560" y="43927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on’t kno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7" name="Text Box 12"/>
          <p:cNvSpPr/>
          <p:nvPr/>
        </p:nvSpPr>
        <p:spPr>
          <a:xfrm>
            <a:off x="466560" y="482436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mean score (5-1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2724840" y="481644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.2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9" name="AutoShape 14"/>
          <p:cNvSpPr/>
          <p:nvPr/>
        </p:nvSpPr>
        <p:spPr>
          <a:xfrm>
            <a:off x="5241960" y="1700280"/>
            <a:ext cx="216000" cy="86508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5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0" name="AutoShape 15"/>
          <p:cNvSpPr/>
          <p:nvPr/>
        </p:nvSpPr>
        <p:spPr>
          <a:xfrm>
            <a:off x="5241960" y="3068640"/>
            <a:ext cx="216000" cy="792000"/>
          </a:xfrm>
          <a:custGeom>
            <a:avLst/>
            <a:gdLst>
              <a:gd name="textAreaLeft" fmla="*/ 0 w 216000"/>
              <a:gd name="textAreaRight" fmla="*/ 7812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5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1" name="Text Box 16"/>
          <p:cNvSpPr/>
          <p:nvPr/>
        </p:nvSpPr>
        <p:spPr>
          <a:xfrm>
            <a:off x="5460840" y="19890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84%  agre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2" name="Text Box 17"/>
          <p:cNvSpPr/>
          <p:nvPr/>
        </p:nvSpPr>
        <p:spPr>
          <a:xfrm>
            <a:off x="5460480" y="328464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%  disagre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e94"/>
                </a:solidFill>
                <a:latin typeface="Arial"/>
              </a:rPr>
              <a:t>Summary 4.1 – traffic management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90583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Driver information is judged to have the most positive effect in managing traffic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advanced warning signs on motorways (65% most positive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speed awareness signs (47% most positive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In comparison, speed cameras (33% most negative) and toll roads (30% most negative) are seen as having the greatest negative effect on managing traffic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speed cameras are seen to be more about raising money that improving road safety (73% 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Furthermore, motorists are not in favour of traffic control via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vehicle monitoring technology (56% disagree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road pricing (41% disagree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Summary 4.2 – active traffic management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90583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e virtues of Active Traffic Management (ATM) are not widely appreciated – only 22% think it has had a most positive effect on traffic management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is may well change as drivers become more aware of and confident about driving through ATM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TM effect on traffic management – 24% Don’t know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42% not confident they know how to drive through ATM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urrently the majority of motorists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would welcome driver training to include information on ATM/ hard shoulder running (84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6200" y="3428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5. car servicing and basic checks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level of confidence in undertaking basic checks; changing spark plugs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graphicFrame>
        <p:nvGraphicFramePr>
          <p:cNvPr id="919" name="Object 3"/>
          <p:cNvGraphicFramePr/>
          <p:nvPr/>
        </p:nvGraphicFramePr>
        <p:xfrm>
          <a:off x="2438280" y="1933560"/>
          <a:ext cx="133380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33560"/>
                    <a:ext cx="133380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1" name="Text Box 4"/>
          <p:cNvSpPr/>
          <p:nvPr/>
        </p:nvSpPr>
        <p:spPr>
          <a:xfrm>
            <a:off x="466560" y="21733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ompletely confident (5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2" name="Text Box 5"/>
          <p:cNvSpPr/>
          <p:nvPr/>
        </p:nvSpPr>
        <p:spPr>
          <a:xfrm>
            <a:off x="2433960" y="1557360"/>
            <a:ext cx="71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oil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3" name="Rectangle 6"/>
          <p:cNvSpPr/>
          <p:nvPr/>
        </p:nvSpPr>
        <p:spPr>
          <a:xfrm>
            <a:off x="100080" y="5446800"/>
            <a:ext cx="88408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How confident are you in checking the following?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13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How confident are you that you know how to change the spark plugs on your car?</a:t>
            </a: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4" name="Text Box 7"/>
          <p:cNvSpPr/>
          <p:nvPr/>
        </p:nvSpPr>
        <p:spPr>
          <a:xfrm>
            <a:off x="466560" y="270360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very confident (4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5" name="Text Box 8"/>
          <p:cNvSpPr/>
          <p:nvPr/>
        </p:nvSpPr>
        <p:spPr>
          <a:xfrm>
            <a:off x="466560" y="324324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fairly confident (3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6" name="Text Box 9"/>
          <p:cNvSpPr/>
          <p:nvPr/>
        </p:nvSpPr>
        <p:spPr>
          <a:xfrm>
            <a:off x="466560" y="378288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not very confident (2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7" name="Text Box 10"/>
          <p:cNvSpPr/>
          <p:nvPr/>
        </p:nvSpPr>
        <p:spPr>
          <a:xfrm>
            <a:off x="466560" y="432288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not at all confident (1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8" name="Text Box 11"/>
          <p:cNvSpPr/>
          <p:nvPr/>
        </p:nvSpPr>
        <p:spPr>
          <a:xfrm>
            <a:off x="466560" y="479736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mean score (5-1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9" name="Text Box 13"/>
          <p:cNvSpPr/>
          <p:nvPr/>
        </p:nvSpPr>
        <p:spPr>
          <a:xfrm>
            <a:off x="3875760" y="155736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water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0" name="Text Box 15"/>
          <p:cNvSpPr/>
          <p:nvPr/>
        </p:nvSpPr>
        <p:spPr>
          <a:xfrm>
            <a:off x="5243040" y="1557360"/>
            <a:ext cx="110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tyre pressu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1" name="Text Box 17"/>
          <p:cNvSpPr/>
          <p:nvPr/>
        </p:nvSpPr>
        <p:spPr>
          <a:xfrm>
            <a:off x="6608880" y="1344600"/>
            <a:ext cx="131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all lights on your vehic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2" name="Text Box 19"/>
          <p:cNvSpPr/>
          <p:nvPr/>
        </p:nvSpPr>
        <p:spPr>
          <a:xfrm>
            <a:off x="8108280" y="1344600"/>
            <a:ext cx="109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changing the</a:t>
            </a:r>
            <a:br>
              <a:rPr sz="1400"/>
            </a:b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spark plug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3" name="Text Box 20"/>
          <p:cNvSpPr/>
          <p:nvPr/>
        </p:nvSpPr>
        <p:spPr>
          <a:xfrm>
            <a:off x="2507040" y="479736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.0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934" name="Object 21"/>
          <p:cNvGraphicFramePr/>
          <p:nvPr/>
        </p:nvGraphicFramePr>
        <p:xfrm>
          <a:off x="3657600" y="1932120"/>
          <a:ext cx="1333440" cy="293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932120"/>
                    <a:ext cx="133344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6" name="Text Box 22"/>
          <p:cNvSpPr/>
          <p:nvPr/>
        </p:nvSpPr>
        <p:spPr>
          <a:xfrm>
            <a:off x="3843720" y="479592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.97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937" name="Object 23"/>
          <p:cNvGraphicFramePr/>
          <p:nvPr/>
        </p:nvGraphicFramePr>
        <p:xfrm>
          <a:off x="5024520" y="1930320"/>
          <a:ext cx="1333440" cy="293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8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4520" y="1930320"/>
                    <a:ext cx="133344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9" name="Text Box 24"/>
          <p:cNvSpPr/>
          <p:nvPr/>
        </p:nvSpPr>
        <p:spPr>
          <a:xfrm>
            <a:off x="5274360" y="479412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.8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940" name="Object 25"/>
          <p:cNvGraphicFramePr/>
          <p:nvPr/>
        </p:nvGraphicFramePr>
        <p:xfrm>
          <a:off x="6608880" y="1933560"/>
          <a:ext cx="1438200" cy="293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1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08880" y="1933560"/>
                    <a:ext cx="143820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2" name="Text Box 26"/>
          <p:cNvSpPr/>
          <p:nvPr/>
        </p:nvSpPr>
        <p:spPr>
          <a:xfrm>
            <a:off x="6728400" y="479268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.2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943" name="Object 27"/>
          <p:cNvGraphicFramePr/>
          <p:nvPr/>
        </p:nvGraphicFramePr>
        <p:xfrm>
          <a:off x="7905600" y="1927080"/>
          <a:ext cx="1333800" cy="293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4" name="Object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05600" y="1927080"/>
                    <a:ext cx="1333800" cy="29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5" name="Text Box 28"/>
          <p:cNvSpPr/>
          <p:nvPr/>
        </p:nvSpPr>
        <p:spPr>
          <a:xfrm>
            <a:off x="8154000" y="479124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.4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6" name="Text Box 29"/>
          <p:cNvSpPr/>
          <p:nvPr/>
        </p:nvSpPr>
        <p:spPr>
          <a:xfrm>
            <a:off x="6610320" y="43657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7" name="Rectangle 30"/>
          <p:cNvSpPr/>
          <p:nvPr/>
        </p:nvSpPr>
        <p:spPr>
          <a:xfrm>
            <a:off x="5816520" y="5373720"/>
            <a:ext cx="3673440" cy="57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Men more confident than women – for all the abov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7-24s least confident – on all the abov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8" name="Rectangle 31"/>
          <p:cNvSpPr/>
          <p:nvPr/>
        </p:nvSpPr>
        <p:spPr>
          <a:xfrm>
            <a:off x="8048520" y="1341360"/>
            <a:ext cx="1441440" cy="388800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frequency of undertaking basic checks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graphicFrame>
        <p:nvGraphicFramePr>
          <p:cNvPr id="950" name="Object 3"/>
          <p:cNvGraphicFramePr/>
          <p:nvPr/>
        </p:nvGraphicFramePr>
        <p:xfrm>
          <a:off x="2438280" y="1785960"/>
          <a:ext cx="181944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85960"/>
                    <a:ext cx="18194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2" name="Text Box 4"/>
          <p:cNvSpPr/>
          <p:nvPr/>
        </p:nvSpPr>
        <p:spPr>
          <a:xfrm>
            <a:off x="466560" y="192240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weekl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3" name="Text Box 5"/>
          <p:cNvSpPr/>
          <p:nvPr/>
        </p:nvSpPr>
        <p:spPr>
          <a:xfrm>
            <a:off x="2433960" y="1409760"/>
            <a:ext cx="71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oil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4" name="Rectangle 6"/>
          <p:cNvSpPr/>
          <p:nvPr/>
        </p:nvSpPr>
        <p:spPr>
          <a:xfrm>
            <a:off x="100080" y="5732640"/>
            <a:ext cx="8840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10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How often is your car checked for the following?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5" name="Text Box 13"/>
          <p:cNvSpPr/>
          <p:nvPr/>
        </p:nvSpPr>
        <p:spPr>
          <a:xfrm>
            <a:off x="4091400" y="140976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water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6" name="Text Box 15"/>
          <p:cNvSpPr/>
          <p:nvPr/>
        </p:nvSpPr>
        <p:spPr>
          <a:xfrm>
            <a:off x="5697000" y="1409760"/>
            <a:ext cx="110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tyre pressu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7" name="Text Box 17"/>
          <p:cNvSpPr/>
          <p:nvPr/>
        </p:nvSpPr>
        <p:spPr>
          <a:xfrm>
            <a:off x="7451640" y="1197000"/>
            <a:ext cx="131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all lights on your vehic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8" name="Text Box 20"/>
          <p:cNvSpPr/>
          <p:nvPr/>
        </p:nvSpPr>
        <p:spPr>
          <a:xfrm>
            <a:off x="469800" y="22813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ever 2-3 week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9" name="Text Box 21"/>
          <p:cNvSpPr/>
          <p:nvPr/>
        </p:nvSpPr>
        <p:spPr>
          <a:xfrm>
            <a:off x="473040" y="263988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monthl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0" name="Text Box 22"/>
          <p:cNvSpPr/>
          <p:nvPr/>
        </p:nvSpPr>
        <p:spPr>
          <a:xfrm>
            <a:off x="476280" y="299880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every 2-3 month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1" name="Text Box 23"/>
          <p:cNvSpPr/>
          <p:nvPr/>
        </p:nvSpPr>
        <p:spPr>
          <a:xfrm>
            <a:off x="479520" y="335772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every 4-5 month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2" name="Text Box 24"/>
          <p:cNvSpPr/>
          <p:nvPr/>
        </p:nvSpPr>
        <p:spPr>
          <a:xfrm>
            <a:off x="482760" y="371628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every 6 month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3" name="Text Box 25"/>
          <p:cNvSpPr/>
          <p:nvPr/>
        </p:nvSpPr>
        <p:spPr>
          <a:xfrm>
            <a:off x="485640" y="407520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less frequentl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4" name="Text Box 26"/>
          <p:cNvSpPr/>
          <p:nvPr/>
        </p:nvSpPr>
        <p:spPr>
          <a:xfrm>
            <a:off x="488880" y="443376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nev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5" name="Text Box 27"/>
          <p:cNvSpPr/>
          <p:nvPr/>
        </p:nvSpPr>
        <p:spPr>
          <a:xfrm>
            <a:off x="492120" y="479412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on’t kno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966" name="Object 29"/>
          <p:cNvGraphicFramePr/>
          <p:nvPr/>
        </p:nvGraphicFramePr>
        <p:xfrm>
          <a:off x="4070520" y="1785960"/>
          <a:ext cx="1819080" cy="346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7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0520" y="1785960"/>
                    <a:ext cx="181908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8" name="Object 30"/>
          <p:cNvGraphicFramePr/>
          <p:nvPr/>
        </p:nvGraphicFramePr>
        <p:xfrm>
          <a:off x="5702400" y="1785960"/>
          <a:ext cx="1819080" cy="346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9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02400" y="1785960"/>
                    <a:ext cx="181908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Object 31"/>
          <p:cNvGraphicFramePr/>
          <p:nvPr/>
        </p:nvGraphicFramePr>
        <p:xfrm>
          <a:off x="7454880" y="1785960"/>
          <a:ext cx="1819440" cy="346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1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54880" y="1785960"/>
                    <a:ext cx="18194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2" name="Rectangle 34"/>
          <p:cNvSpPr/>
          <p:nvPr/>
        </p:nvSpPr>
        <p:spPr>
          <a:xfrm>
            <a:off x="2360520" y="1917720"/>
            <a:ext cx="6408720" cy="1079640"/>
          </a:xfrm>
          <a:prstGeom prst="rect">
            <a:avLst/>
          </a:prstGeom>
          <a:noFill/>
          <a:ln w="19080">
            <a:solidFill>
              <a:srgbClr val="005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methodology: MS2 - technolog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89917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 total sample of 1,034 motorists: 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964 nationally representative for age, gender, socio-economic groups, all GB regions and new car buyers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plus 70 booster sample of company car drivers – to provide sufficient numbers for analysis (total of 111)  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results post-weighted to represent company car drivers as per market size (4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ts val="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Survey undertaken by FieldWorks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internet survey (hosted by Research Now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panel of GB motorists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interview length – 20 minutes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Fieldwork dates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uesday 12</a:t>
            </a:r>
            <a:r>
              <a:rPr b="0" lang="en-GB" sz="1600" spc="-1" strike="noStrike" baseline="30000">
                <a:solidFill>
                  <a:srgbClr val="4d4d4d"/>
                </a:solidFill>
                <a:latin typeface="Arial Narrow"/>
              </a:rPr>
              <a:t>th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 August – Wednesday 20</a:t>
            </a:r>
            <a:r>
              <a:rPr b="0" lang="en-GB" sz="1600" spc="-1" strike="noStrike" baseline="30000">
                <a:solidFill>
                  <a:srgbClr val="4d4d4d"/>
                </a:solidFill>
                <a:latin typeface="Arial Narrow"/>
              </a:rPr>
              <a:t>th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 August 2008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60"/>
          <p:cNvSpPr/>
          <p:nvPr/>
        </p:nvSpPr>
        <p:spPr>
          <a:xfrm>
            <a:off x="6681960" y="3502080"/>
            <a:ext cx="2592360" cy="2303280"/>
          </a:xfrm>
          <a:prstGeom prst="rect">
            <a:avLst/>
          </a:prstGeom>
          <a:solidFill>
            <a:srgbClr val="dc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974" name="Object 2"/>
          <p:cNvGraphicFramePr/>
          <p:nvPr/>
        </p:nvGraphicFramePr>
        <p:xfrm>
          <a:off x="2936880" y="1628640"/>
          <a:ext cx="4486320" cy="39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628640"/>
                    <a:ext cx="448632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who undertakes basic checks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573120" y="18651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self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8" name="Text Box 41"/>
          <p:cNvSpPr/>
          <p:nvPr/>
        </p:nvSpPr>
        <p:spPr>
          <a:xfrm>
            <a:off x="2976840" y="153828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9" name="Text Box 42"/>
          <p:cNvSpPr/>
          <p:nvPr/>
        </p:nvSpPr>
        <p:spPr>
          <a:xfrm>
            <a:off x="6755040" y="357336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Company car drive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0" name="Text Box 43"/>
          <p:cNvSpPr/>
          <p:nvPr/>
        </p:nvSpPr>
        <p:spPr>
          <a:xfrm>
            <a:off x="8682480" y="3933720"/>
            <a:ext cx="4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9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1" name="Text Box 48"/>
          <p:cNvSpPr/>
          <p:nvPr/>
        </p:nvSpPr>
        <p:spPr>
          <a:xfrm>
            <a:off x="6753240" y="3933720"/>
            <a:ext cx="163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ompany does these checks on my car routinel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2" name="Rectangle 50"/>
          <p:cNvSpPr/>
          <p:nvPr/>
        </p:nvSpPr>
        <p:spPr>
          <a:xfrm>
            <a:off x="100080" y="5589720"/>
            <a:ext cx="6581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   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*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less than 0.5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11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Do you do those checks (i.e., oil, water, tyres, lights) yourself or does someone else do them?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3" name="Text Box 51"/>
          <p:cNvSpPr/>
          <p:nvPr/>
        </p:nvSpPr>
        <p:spPr>
          <a:xfrm>
            <a:off x="560520" y="269244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garage/ dealership/ mechani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4" name="Text Box 52"/>
          <p:cNvSpPr/>
          <p:nvPr/>
        </p:nvSpPr>
        <p:spPr>
          <a:xfrm>
            <a:off x="573120" y="227664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husband/ wife/ partn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5" name="Text Box 53"/>
          <p:cNvSpPr/>
          <p:nvPr/>
        </p:nvSpPr>
        <p:spPr>
          <a:xfrm>
            <a:off x="573120" y="305280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other family memb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6" name="Text Box 54"/>
          <p:cNvSpPr/>
          <p:nvPr/>
        </p:nvSpPr>
        <p:spPr>
          <a:xfrm>
            <a:off x="573120" y="344808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friend/ neighbou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7" name="Text Box 55"/>
          <p:cNvSpPr/>
          <p:nvPr/>
        </p:nvSpPr>
        <p:spPr>
          <a:xfrm>
            <a:off x="573120" y="38433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ompan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8" name="Text Box 56"/>
          <p:cNvSpPr/>
          <p:nvPr/>
        </p:nvSpPr>
        <p:spPr>
          <a:xfrm>
            <a:off x="573120" y="424008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ar checks itself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9" name="Text Box 57"/>
          <p:cNvSpPr/>
          <p:nvPr/>
        </p:nvSpPr>
        <p:spPr>
          <a:xfrm>
            <a:off x="573120" y="506880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oth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0" name="Text Box 58"/>
          <p:cNvSpPr/>
          <p:nvPr/>
        </p:nvSpPr>
        <p:spPr>
          <a:xfrm>
            <a:off x="8682480" y="4797360"/>
            <a:ext cx="4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5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1" name="Text Box 59"/>
          <p:cNvSpPr/>
          <p:nvPr/>
        </p:nvSpPr>
        <p:spPr>
          <a:xfrm>
            <a:off x="6753240" y="4797360"/>
            <a:ext cx="163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ompany asks if I have done these check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2" name="Rectangle 61"/>
          <p:cNvSpPr/>
          <p:nvPr/>
        </p:nvSpPr>
        <p:spPr>
          <a:xfrm>
            <a:off x="6703920" y="1638360"/>
            <a:ext cx="2570400" cy="144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3" name="Text Box 62"/>
          <p:cNvSpPr/>
          <p:nvPr/>
        </p:nvSpPr>
        <p:spPr>
          <a:xfrm>
            <a:off x="6681960" y="227664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438200"/>
                <a:tab algn="r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self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86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438200"/>
                <a:tab algn="r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438200"/>
                <a:tab algn="r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husband/ wife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7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4" name="Line 63"/>
          <p:cNvSpPr/>
          <p:nvPr/>
        </p:nvSpPr>
        <p:spPr>
          <a:xfrm>
            <a:off x="6775560" y="2214720"/>
            <a:ext cx="235404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5" name="Text Box 64"/>
          <p:cNvSpPr/>
          <p:nvPr/>
        </p:nvSpPr>
        <p:spPr>
          <a:xfrm>
            <a:off x="7762320" y="1709640"/>
            <a:ext cx="61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ma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n=529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6" name="Text Box 65"/>
          <p:cNvSpPr/>
          <p:nvPr/>
        </p:nvSpPr>
        <p:spPr>
          <a:xfrm>
            <a:off x="8583120" y="1709640"/>
            <a:ext cx="61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fema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n=505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7" name="Rectangle 66"/>
          <p:cNvSpPr/>
          <p:nvPr/>
        </p:nvSpPr>
        <p:spPr>
          <a:xfrm>
            <a:off x="7905600" y="2249640"/>
            <a:ext cx="432000" cy="35856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8" name="Rectangle 67"/>
          <p:cNvSpPr/>
          <p:nvPr/>
        </p:nvSpPr>
        <p:spPr>
          <a:xfrm>
            <a:off x="8697960" y="2673360"/>
            <a:ext cx="431640" cy="358920"/>
          </a:xfrm>
          <a:prstGeom prst="rect">
            <a:avLst/>
          </a:prstGeom>
          <a:noFill/>
          <a:ln w="1908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9" name="Text Box 68"/>
          <p:cNvSpPr/>
          <p:nvPr/>
        </p:nvSpPr>
        <p:spPr>
          <a:xfrm>
            <a:off x="3082680" y="508464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0" name="Text Box 69"/>
          <p:cNvSpPr/>
          <p:nvPr/>
        </p:nvSpPr>
        <p:spPr>
          <a:xfrm>
            <a:off x="3082680" y="386064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1" name="Text Box 70"/>
          <p:cNvSpPr/>
          <p:nvPr/>
        </p:nvSpPr>
        <p:spPr>
          <a:xfrm>
            <a:off x="6753240" y="551664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company car drivers (n=111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worrying about how to do basic checks/ need for regular servicing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graphicFrame>
        <p:nvGraphicFramePr>
          <p:cNvPr id="1003" name="Object 3"/>
          <p:cNvGraphicFramePr/>
          <p:nvPr/>
        </p:nvGraphicFramePr>
        <p:xfrm>
          <a:off x="2581200" y="2085840"/>
          <a:ext cx="2247840" cy="31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1200" y="2085840"/>
                    <a:ext cx="2247840" cy="31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5" name="Text Box 4"/>
          <p:cNvSpPr/>
          <p:nvPr/>
        </p:nvSpPr>
        <p:spPr>
          <a:xfrm>
            <a:off x="466560" y="226836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gree completely (5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6" name="Text Box 5"/>
          <p:cNvSpPr/>
          <p:nvPr/>
        </p:nvSpPr>
        <p:spPr>
          <a:xfrm>
            <a:off x="2578320" y="200988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7" name="Rectangle 6"/>
          <p:cNvSpPr/>
          <p:nvPr/>
        </p:nvSpPr>
        <p:spPr>
          <a:xfrm>
            <a:off x="0" y="5589720"/>
            <a:ext cx="88408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14/16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To what extent do you agree or disagree with the following statements?</a:t>
            </a: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8" name="Text Box 7"/>
          <p:cNvSpPr/>
          <p:nvPr/>
        </p:nvSpPr>
        <p:spPr>
          <a:xfrm>
            <a:off x="466560" y="26845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gree (4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9" name="Text Box 8"/>
          <p:cNvSpPr/>
          <p:nvPr/>
        </p:nvSpPr>
        <p:spPr>
          <a:xfrm>
            <a:off x="466560" y="31003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neither agree nor disagree (3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0" name="Text Box 9"/>
          <p:cNvSpPr/>
          <p:nvPr/>
        </p:nvSpPr>
        <p:spPr>
          <a:xfrm>
            <a:off x="466560" y="351648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isagree (2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1" name="Text Box 10"/>
          <p:cNvSpPr/>
          <p:nvPr/>
        </p:nvSpPr>
        <p:spPr>
          <a:xfrm>
            <a:off x="466560" y="39337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isagree completely (1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2" name="Text Box 11"/>
          <p:cNvSpPr/>
          <p:nvPr/>
        </p:nvSpPr>
        <p:spPr>
          <a:xfrm>
            <a:off x="466560" y="47563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on’t kno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3" name="Text Box 12"/>
          <p:cNvSpPr/>
          <p:nvPr/>
        </p:nvSpPr>
        <p:spPr>
          <a:xfrm>
            <a:off x="466560" y="52117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mean score (5-1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4" name="Rectangle 13"/>
          <p:cNvSpPr/>
          <p:nvPr/>
        </p:nvSpPr>
        <p:spPr>
          <a:xfrm>
            <a:off x="128520" y="1484280"/>
            <a:ext cx="4305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14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The sophistication of in-car technology these days means that I do not have to worry about knowing how to do basic checks myself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015" name="Object 14"/>
          <p:cNvGraphicFramePr/>
          <p:nvPr/>
        </p:nvGraphicFramePr>
        <p:xfrm>
          <a:off x="7467480" y="2085840"/>
          <a:ext cx="1876680" cy="314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2085840"/>
                    <a:ext cx="1876680" cy="31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7" name="Text Box 15"/>
          <p:cNvSpPr/>
          <p:nvPr/>
        </p:nvSpPr>
        <p:spPr>
          <a:xfrm>
            <a:off x="5378400" y="22669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gree completely (5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8" name="Text Box 16"/>
          <p:cNvSpPr/>
          <p:nvPr/>
        </p:nvSpPr>
        <p:spPr>
          <a:xfrm>
            <a:off x="7464600" y="200808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9" name="Text Box 17"/>
          <p:cNvSpPr/>
          <p:nvPr/>
        </p:nvSpPr>
        <p:spPr>
          <a:xfrm>
            <a:off x="5378400" y="26827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gree (4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0" name="Text Box 18"/>
          <p:cNvSpPr/>
          <p:nvPr/>
        </p:nvSpPr>
        <p:spPr>
          <a:xfrm>
            <a:off x="5378400" y="309888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neither agree nor disagree (3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1" name="Text Box 19"/>
          <p:cNvSpPr/>
          <p:nvPr/>
        </p:nvSpPr>
        <p:spPr>
          <a:xfrm>
            <a:off x="5378400" y="351468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isagree (2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2" name="Text Box 20"/>
          <p:cNvSpPr/>
          <p:nvPr/>
        </p:nvSpPr>
        <p:spPr>
          <a:xfrm>
            <a:off x="5378400" y="393228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isagree completely (1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3" name="Text Box 21"/>
          <p:cNvSpPr/>
          <p:nvPr/>
        </p:nvSpPr>
        <p:spPr>
          <a:xfrm>
            <a:off x="5378400" y="475452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on’t kno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4" name="Text Box 22"/>
          <p:cNvSpPr/>
          <p:nvPr/>
        </p:nvSpPr>
        <p:spPr>
          <a:xfrm>
            <a:off x="5378400" y="5210280"/>
            <a:ext cx="25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mean score (5-1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5" name="Rectangle 23"/>
          <p:cNvSpPr/>
          <p:nvPr/>
        </p:nvSpPr>
        <p:spPr>
          <a:xfrm>
            <a:off x="5014800" y="1484280"/>
            <a:ext cx="43052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16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ars these days do not need regular servicing for mechanical/ electrical maintenance – it’s more to do with maintaining the car’s financial valu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6" name="AutoShape 24"/>
          <p:cNvSpPr/>
          <p:nvPr/>
        </p:nvSpPr>
        <p:spPr>
          <a:xfrm>
            <a:off x="3800520" y="2295360"/>
            <a:ext cx="73080" cy="648000"/>
          </a:xfrm>
          <a:custGeom>
            <a:avLst/>
            <a:gdLst>
              <a:gd name="textAreaLeft" fmla="*/ 0 w 73080"/>
              <a:gd name="textAreaRight" fmla="*/ 26280 w 7308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5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7" name="Text Box 25"/>
          <p:cNvSpPr/>
          <p:nvPr/>
        </p:nvSpPr>
        <p:spPr>
          <a:xfrm>
            <a:off x="3874680" y="249696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6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8" name="AutoShape 26"/>
          <p:cNvSpPr/>
          <p:nvPr/>
        </p:nvSpPr>
        <p:spPr>
          <a:xfrm>
            <a:off x="4376880" y="3544920"/>
            <a:ext cx="72720" cy="647640"/>
          </a:xfrm>
          <a:custGeom>
            <a:avLst/>
            <a:gdLst>
              <a:gd name="textAreaLeft" fmla="*/ 0 w 72720"/>
              <a:gd name="textAreaRight" fmla="*/ 26280 w 72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5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9" name="Text Box 27"/>
          <p:cNvSpPr/>
          <p:nvPr/>
        </p:nvSpPr>
        <p:spPr>
          <a:xfrm>
            <a:off x="4451040" y="374652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8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0" name="Text Box 28"/>
          <p:cNvSpPr/>
          <p:nvPr/>
        </p:nvSpPr>
        <p:spPr>
          <a:xfrm>
            <a:off x="2723040" y="521172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.7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1" name="AutoShape 30"/>
          <p:cNvSpPr/>
          <p:nvPr/>
        </p:nvSpPr>
        <p:spPr>
          <a:xfrm>
            <a:off x="8264520" y="2295360"/>
            <a:ext cx="73080" cy="648000"/>
          </a:xfrm>
          <a:custGeom>
            <a:avLst/>
            <a:gdLst>
              <a:gd name="textAreaLeft" fmla="*/ 0 w 73080"/>
              <a:gd name="textAreaRight" fmla="*/ 26280 w 7308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5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2" name="Text Box 31"/>
          <p:cNvSpPr/>
          <p:nvPr/>
        </p:nvSpPr>
        <p:spPr>
          <a:xfrm>
            <a:off x="8338680" y="249696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6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3" name="AutoShape 32"/>
          <p:cNvSpPr/>
          <p:nvPr/>
        </p:nvSpPr>
        <p:spPr>
          <a:xfrm>
            <a:off x="9274320" y="3544920"/>
            <a:ext cx="72720" cy="647640"/>
          </a:xfrm>
          <a:custGeom>
            <a:avLst/>
            <a:gdLst>
              <a:gd name="textAreaLeft" fmla="*/ 0 w 72720"/>
              <a:gd name="textAreaRight" fmla="*/ 26280 w 72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5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4" name="Text Box 33"/>
          <p:cNvSpPr/>
          <p:nvPr/>
        </p:nvSpPr>
        <p:spPr>
          <a:xfrm>
            <a:off x="9348480" y="374652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7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car servicing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graphicFrame>
        <p:nvGraphicFramePr>
          <p:cNvPr id="1036" name="Object 5"/>
          <p:cNvGraphicFramePr/>
          <p:nvPr/>
        </p:nvGraphicFramePr>
        <p:xfrm>
          <a:off x="3657600" y="1933560"/>
          <a:ext cx="3784680" cy="32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33560"/>
                    <a:ext cx="378468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Text Box 6"/>
          <p:cNvSpPr/>
          <p:nvPr/>
        </p:nvSpPr>
        <p:spPr>
          <a:xfrm>
            <a:off x="1569960" y="2763720"/>
            <a:ext cx="254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main deal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9" name="Text Box 7"/>
          <p:cNvSpPr/>
          <p:nvPr/>
        </p:nvSpPr>
        <p:spPr>
          <a:xfrm>
            <a:off x="1569960" y="4614840"/>
            <a:ext cx="23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main dealer of another mak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0" name="Rectangle 11"/>
          <p:cNvSpPr/>
          <p:nvPr/>
        </p:nvSpPr>
        <p:spPr>
          <a:xfrm>
            <a:off x="8194680" y="1285920"/>
            <a:ext cx="289080" cy="21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1" name="Text Box 12"/>
          <p:cNvSpPr/>
          <p:nvPr/>
        </p:nvSpPr>
        <p:spPr>
          <a:xfrm>
            <a:off x="8553960" y="1206360"/>
            <a:ext cx="5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200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2" name="Rectangle 13"/>
          <p:cNvSpPr/>
          <p:nvPr/>
        </p:nvSpPr>
        <p:spPr>
          <a:xfrm>
            <a:off x="8194680" y="1636560"/>
            <a:ext cx="289080" cy="216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3" name="Text Box 14"/>
          <p:cNvSpPr/>
          <p:nvPr/>
        </p:nvSpPr>
        <p:spPr>
          <a:xfrm>
            <a:off x="8555760" y="1557360"/>
            <a:ext cx="5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198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4" name="Text Box 15"/>
          <p:cNvSpPr/>
          <p:nvPr/>
        </p:nvSpPr>
        <p:spPr>
          <a:xfrm>
            <a:off x="1569960" y="2147760"/>
            <a:ext cx="23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garage/ workshop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5" name="Text Box 16"/>
          <p:cNvSpPr/>
          <p:nvPr/>
        </p:nvSpPr>
        <p:spPr>
          <a:xfrm>
            <a:off x="1569960" y="3997440"/>
            <a:ext cx="23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do it myself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6" name="Text Box 17"/>
          <p:cNvSpPr/>
          <p:nvPr/>
        </p:nvSpPr>
        <p:spPr>
          <a:xfrm>
            <a:off x="1569960" y="3381480"/>
            <a:ext cx="23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family/ frien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7" name="Text Box 21"/>
          <p:cNvSpPr/>
          <p:nvPr/>
        </p:nvSpPr>
        <p:spPr>
          <a:xfrm>
            <a:off x="3731040" y="176544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8" name="Rectangle 22"/>
          <p:cNvSpPr/>
          <p:nvPr/>
        </p:nvSpPr>
        <p:spPr>
          <a:xfrm>
            <a:off x="100080" y="5661000"/>
            <a:ext cx="7777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Q15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Where is your car servic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MS2 base: 2008 all respondents (n=1,034); 1988 all responsible for servicing car (n=1,205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e94"/>
                </a:solidFill>
                <a:latin typeface="Arial"/>
              </a:rPr>
              <a:t>Summary 5.1 – servicing and basic checks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851868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443160" indent="-26568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ar servicing and basic checks are regarded as important – even though technology has raised car reliability and performance to a whole new level.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3160" indent="-26568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Basic checks: oil, water, tyres, lights are undertaken routinely and with confidence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1360" indent="-1634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by drivers themselves (65%) – or by their husbands/ partners (19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1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3160" indent="-26568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e sophistication of today’s in-car technology does not mean that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1360" indent="-1634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motorists don’t have to worry about know to do basic checks themselves (48% disagree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1360" indent="-1634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ars these days do not need regular servicing for mechanical/ electrical maintenance – it’s more to do with maintaining the car’s financial value (67% disagree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1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3160" indent="-26568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But the sophistication of cars these days does mean that: 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1360" indent="-1634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ere is far less DIY servicing than twenty years ago (2008: 4% vs 1988: 23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1360" indent="-1634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servicing is left to the specialists – main dealers (40%); garage/ workshop (41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1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66200" y="3428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6. car crime and securit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6200" y="692280"/>
            <a:ext cx="9023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car theft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graphicFrame>
        <p:nvGraphicFramePr>
          <p:cNvPr id="1053" name="Object 3"/>
          <p:cNvGraphicFramePr/>
          <p:nvPr/>
        </p:nvGraphicFramePr>
        <p:xfrm>
          <a:off x="2216160" y="1805040"/>
          <a:ext cx="37609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6160" y="1805040"/>
                    <a:ext cx="37609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5" name="Text Box 4"/>
          <p:cNvSpPr/>
          <p:nvPr/>
        </p:nvSpPr>
        <p:spPr>
          <a:xfrm>
            <a:off x="466560" y="2100240"/>
            <a:ext cx="254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00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6" name="Text Box 5"/>
          <p:cNvSpPr/>
          <p:nvPr/>
        </p:nvSpPr>
        <p:spPr>
          <a:xfrm>
            <a:off x="466560" y="2597040"/>
            <a:ext cx="23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98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7" name="Text Box 10"/>
          <p:cNvSpPr/>
          <p:nvPr/>
        </p:nvSpPr>
        <p:spPr>
          <a:xfrm>
            <a:off x="466560" y="4327560"/>
            <a:ext cx="23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recovered undamage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8" name="Text Box 13"/>
          <p:cNvSpPr/>
          <p:nvPr/>
        </p:nvSpPr>
        <p:spPr>
          <a:xfrm>
            <a:off x="2227320" y="1771560"/>
            <a:ext cx="2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9" name="Text Box 15"/>
          <p:cNvSpPr/>
          <p:nvPr/>
        </p:nvSpPr>
        <p:spPr>
          <a:xfrm>
            <a:off x="19080" y="1411200"/>
            <a:ext cx="37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Q17a</a:t>
            </a: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Had car stolen in the last three yea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0" name="Rectangle 16"/>
          <p:cNvSpPr/>
          <p:nvPr/>
        </p:nvSpPr>
        <p:spPr>
          <a:xfrm>
            <a:off x="282600" y="5703840"/>
            <a:ext cx="7777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*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aution: low base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who have had car stolen in the last three years (n=25); 1988 (n=16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1" name="Rectangle 17"/>
          <p:cNvSpPr/>
          <p:nvPr/>
        </p:nvSpPr>
        <p:spPr>
          <a:xfrm>
            <a:off x="466560" y="3068640"/>
            <a:ext cx="7777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; 1988 (n=1,576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062" name="Object 18"/>
          <p:cNvGraphicFramePr/>
          <p:nvPr/>
        </p:nvGraphicFramePr>
        <p:xfrm>
          <a:off x="2219400" y="4203720"/>
          <a:ext cx="376236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9400" y="4203720"/>
                    <a:ext cx="37623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4" name="Text Box 19"/>
          <p:cNvSpPr/>
          <p:nvPr/>
        </p:nvSpPr>
        <p:spPr>
          <a:xfrm>
            <a:off x="2218680" y="37879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2008*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5" name="Text Box 20"/>
          <p:cNvSpPr/>
          <p:nvPr/>
        </p:nvSpPr>
        <p:spPr>
          <a:xfrm>
            <a:off x="19080" y="3500280"/>
            <a:ext cx="40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Q17b</a:t>
            </a: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  Was it recovered damaged or undamaged?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6" name="Text Box 21"/>
          <p:cNvSpPr/>
          <p:nvPr/>
        </p:nvSpPr>
        <p:spPr>
          <a:xfrm>
            <a:off x="469800" y="4786200"/>
            <a:ext cx="23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recovered damage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7" name="Text Box 22"/>
          <p:cNvSpPr/>
          <p:nvPr/>
        </p:nvSpPr>
        <p:spPr>
          <a:xfrm>
            <a:off x="473040" y="5235480"/>
            <a:ext cx="23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not recovere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068" name="Object 27"/>
          <p:cNvGraphicFramePr/>
          <p:nvPr/>
        </p:nvGraphicFramePr>
        <p:xfrm>
          <a:off x="5892840" y="4219560"/>
          <a:ext cx="3762360" cy="14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9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92840" y="4219560"/>
                    <a:ext cx="37623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0" name="Text Box 28"/>
          <p:cNvSpPr/>
          <p:nvPr/>
        </p:nvSpPr>
        <p:spPr>
          <a:xfrm>
            <a:off x="5919120" y="37879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1988*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1" name="Text Box 31"/>
          <p:cNvSpPr/>
          <p:nvPr/>
        </p:nvSpPr>
        <p:spPr>
          <a:xfrm>
            <a:off x="2217600" y="4092480"/>
            <a:ext cx="2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2" name="Text Box 32"/>
          <p:cNvSpPr/>
          <p:nvPr/>
        </p:nvSpPr>
        <p:spPr>
          <a:xfrm>
            <a:off x="5933880" y="4092480"/>
            <a:ext cx="2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experience of car crime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074" name="Text Box 6"/>
          <p:cNvSpPr/>
          <p:nvPr/>
        </p:nvSpPr>
        <p:spPr>
          <a:xfrm>
            <a:off x="466560" y="2473200"/>
            <a:ext cx="23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-  radio/ CD/ DV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5" name="Text Box 12"/>
          <p:cNvSpPr/>
          <p:nvPr/>
        </p:nvSpPr>
        <p:spPr>
          <a:xfrm>
            <a:off x="1639080" y="1830240"/>
            <a:ext cx="28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18a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Experienced in last 3 year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6" name="Text Box 14"/>
          <p:cNvSpPr/>
          <p:nvPr/>
        </p:nvSpPr>
        <p:spPr>
          <a:xfrm>
            <a:off x="469800" y="2932200"/>
            <a:ext cx="23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-  other ite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7" name="Text Box 15"/>
          <p:cNvSpPr/>
          <p:nvPr/>
        </p:nvSpPr>
        <p:spPr>
          <a:xfrm>
            <a:off x="473040" y="3381480"/>
            <a:ext cx="23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vandalism towards ca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8" name="Text Box 17"/>
          <p:cNvSpPr/>
          <p:nvPr/>
        </p:nvSpPr>
        <p:spPr>
          <a:xfrm>
            <a:off x="2360520" y="4292640"/>
            <a:ext cx="2808360" cy="1368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198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ar radio or stereo stolen within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6%</a:t>
            </a:r>
            <a:br>
              <a:rPr sz="1400"/>
            </a:b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the last three yea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Base: all respondents (n=1,576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9" name="Text Box 18"/>
          <p:cNvSpPr/>
          <p:nvPr/>
        </p:nvSpPr>
        <p:spPr>
          <a:xfrm>
            <a:off x="2361960" y="2238480"/>
            <a:ext cx="2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0" name="Text Box 21"/>
          <p:cNvSpPr/>
          <p:nvPr/>
        </p:nvSpPr>
        <p:spPr>
          <a:xfrm>
            <a:off x="466560" y="1484280"/>
            <a:ext cx="18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200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1" name="Text Box 23"/>
          <p:cNvSpPr/>
          <p:nvPr/>
        </p:nvSpPr>
        <p:spPr>
          <a:xfrm>
            <a:off x="3800880" y="1836720"/>
            <a:ext cx="23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18b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Reported to polic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2" name="Text Box 24"/>
          <p:cNvSpPr/>
          <p:nvPr/>
        </p:nvSpPr>
        <p:spPr>
          <a:xfrm>
            <a:off x="4522680" y="2244600"/>
            <a:ext cx="2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3" name="Text Box 26"/>
          <p:cNvSpPr/>
          <p:nvPr/>
        </p:nvSpPr>
        <p:spPr>
          <a:xfrm>
            <a:off x="6392880" y="1843200"/>
            <a:ext cx="204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18c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Made a claim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4" name="Text Box 27"/>
          <p:cNvSpPr/>
          <p:nvPr/>
        </p:nvSpPr>
        <p:spPr>
          <a:xfrm>
            <a:off x="7115040" y="2251080"/>
            <a:ext cx="2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085" name="Object 28"/>
          <p:cNvGraphicFramePr/>
          <p:nvPr/>
        </p:nvGraphicFramePr>
        <p:xfrm>
          <a:off x="4498920" y="2349360"/>
          <a:ext cx="245736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8920" y="2349360"/>
                    <a:ext cx="24573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7" name="Text Box 30"/>
          <p:cNvSpPr/>
          <p:nvPr/>
        </p:nvSpPr>
        <p:spPr>
          <a:xfrm>
            <a:off x="473040" y="213372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Theft from car: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8" name="Rectangle 31"/>
          <p:cNvSpPr/>
          <p:nvPr/>
        </p:nvSpPr>
        <p:spPr>
          <a:xfrm>
            <a:off x="282600" y="5703840"/>
            <a:ext cx="7777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*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aution: low base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; all having experienced that crime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089" name="Object 32"/>
          <p:cNvGraphicFramePr/>
          <p:nvPr/>
        </p:nvGraphicFramePr>
        <p:xfrm>
          <a:off x="2341440" y="2349360"/>
          <a:ext cx="245772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0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1440" y="2349360"/>
                    <a:ext cx="245772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1" name="Object 33"/>
          <p:cNvGraphicFramePr/>
          <p:nvPr/>
        </p:nvGraphicFramePr>
        <p:xfrm>
          <a:off x="7104240" y="2349360"/>
          <a:ext cx="2457360" cy="14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2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04240" y="2349360"/>
                    <a:ext cx="24573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3" name="Text Box 34"/>
          <p:cNvSpPr/>
          <p:nvPr/>
        </p:nvSpPr>
        <p:spPr>
          <a:xfrm>
            <a:off x="8766360" y="249228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n=44*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4" name="Text Box 35"/>
          <p:cNvSpPr/>
          <p:nvPr/>
        </p:nvSpPr>
        <p:spPr>
          <a:xfrm>
            <a:off x="8747280" y="296712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n=60*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5" name="Text Box 36"/>
          <p:cNvSpPr/>
          <p:nvPr/>
        </p:nvSpPr>
        <p:spPr>
          <a:xfrm>
            <a:off x="8735400" y="3432240"/>
            <a:ext cx="61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n=217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precautions taken against crime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graphicFrame>
        <p:nvGraphicFramePr>
          <p:cNvPr id="1097" name="Object 3"/>
          <p:cNvGraphicFramePr/>
          <p:nvPr/>
        </p:nvGraphicFramePr>
        <p:xfrm>
          <a:off x="3657600" y="1762200"/>
          <a:ext cx="3527280" cy="38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762200"/>
                    <a:ext cx="3527280" cy="38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9" name="Text Box 4"/>
          <p:cNvSpPr/>
          <p:nvPr/>
        </p:nvSpPr>
        <p:spPr>
          <a:xfrm>
            <a:off x="466560" y="1844640"/>
            <a:ext cx="334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lways lock doo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0" name="Rectangle 6"/>
          <p:cNvSpPr/>
          <p:nvPr/>
        </p:nvSpPr>
        <p:spPr>
          <a:xfrm>
            <a:off x="8194680" y="1285920"/>
            <a:ext cx="289080" cy="21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1" name="Text Box 7"/>
          <p:cNvSpPr/>
          <p:nvPr/>
        </p:nvSpPr>
        <p:spPr>
          <a:xfrm>
            <a:off x="8553960" y="1206360"/>
            <a:ext cx="5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00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2" name="Rectangle 8"/>
          <p:cNvSpPr/>
          <p:nvPr/>
        </p:nvSpPr>
        <p:spPr>
          <a:xfrm>
            <a:off x="8194680" y="1636560"/>
            <a:ext cx="289080" cy="216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3" name="Text Box 9"/>
          <p:cNvSpPr/>
          <p:nvPr/>
        </p:nvSpPr>
        <p:spPr>
          <a:xfrm>
            <a:off x="8555760" y="1557360"/>
            <a:ext cx="5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98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4" name="Text Box 13"/>
          <p:cNvSpPr/>
          <p:nvPr/>
        </p:nvSpPr>
        <p:spPr>
          <a:xfrm>
            <a:off x="3731040" y="161136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5" name="Rectangle 14"/>
          <p:cNvSpPr/>
          <p:nvPr/>
        </p:nvSpPr>
        <p:spPr>
          <a:xfrm>
            <a:off x="460440" y="5950080"/>
            <a:ext cx="777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2008 all respondents (n=1,034); 1988 all respondents (n=1,576) * MS2 Base: all with garag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6" name="Text Box 15"/>
          <p:cNvSpPr/>
          <p:nvPr/>
        </p:nvSpPr>
        <p:spPr>
          <a:xfrm>
            <a:off x="466560" y="2182680"/>
            <a:ext cx="334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lways close window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7" name="Text Box 16"/>
          <p:cNvSpPr/>
          <p:nvPr/>
        </p:nvSpPr>
        <p:spPr>
          <a:xfrm>
            <a:off x="466560" y="3875040"/>
            <a:ext cx="334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put valuables in bo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8" name="Text Box 17"/>
          <p:cNvSpPr/>
          <p:nvPr/>
        </p:nvSpPr>
        <p:spPr>
          <a:xfrm>
            <a:off x="466560" y="2521080"/>
            <a:ext cx="334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over valuable up/ glove compartmen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9" name="Text Box 18"/>
          <p:cNvSpPr/>
          <p:nvPr/>
        </p:nvSpPr>
        <p:spPr>
          <a:xfrm>
            <a:off x="466560" y="3197160"/>
            <a:ext cx="334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void parking in high risk area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0" name="Text Box 19"/>
          <p:cNvSpPr/>
          <p:nvPr/>
        </p:nvSpPr>
        <p:spPr>
          <a:xfrm>
            <a:off x="460440" y="4508640"/>
            <a:ext cx="33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put car in garage overnight*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1" name="Text Box 20"/>
          <p:cNvSpPr/>
          <p:nvPr/>
        </p:nvSpPr>
        <p:spPr>
          <a:xfrm>
            <a:off x="488880" y="4924440"/>
            <a:ext cx="33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etched window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2" name="Text Box 21"/>
          <p:cNvSpPr/>
          <p:nvPr/>
        </p:nvSpPr>
        <p:spPr>
          <a:xfrm>
            <a:off x="466560" y="3500280"/>
            <a:ext cx="334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use car alar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3" name="Text Box 22"/>
          <p:cNvSpPr/>
          <p:nvPr/>
        </p:nvSpPr>
        <p:spPr>
          <a:xfrm>
            <a:off x="466560" y="5229360"/>
            <a:ext cx="334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use crook lock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4" name="Text Box 23"/>
          <p:cNvSpPr/>
          <p:nvPr/>
        </p:nvSpPr>
        <p:spPr>
          <a:xfrm>
            <a:off x="466560" y="2859120"/>
            <a:ext cx="334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mmobilis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5" name="Text Box 24"/>
          <p:cNvSpPr/>
          <p:nvPr/>
        </p:nvSpPr>
        <p:spPr>
          <a:xfrm>
            <a:off x="466560" y="4221000"/>
            <a:ext cx="334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remove all valuables – even from bo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6" name="Text Box 25"/>
          <p:cNvSpPr/>
          <p:nvPr/>
        </p:nvSpPr>
        <p:spPr>
          <a:xfrm>
            <a:off x="6753240" y="3357720"/>
            <a:ext cx="2376360" cy="230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older motorists (45years+) more likely to use: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mmobiliser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72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n garage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4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valuables in boot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63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ar alarm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59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etched windows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2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with garage (n=533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Summary 6.1 – car crime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90583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ar crime has fallen over the past twenty years (</a:t>
            </a:r>
            <a:r>
              <a:rPr b="0" i="1" lang="en-GB" sz="1600" spc="-1" strike="noStrike">
                <a:solidFill>
                  <a:srgbClr val="4d4d4d"/>
                </a:solidFill>
                <a:latin typeface="Arial Narrow"/>
              </a:rPr>
              <a:t>British Crime Survey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) and our survey findings support this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2% of motorists have had their cars stolen in the past 3 years compared with 4% twenty years ago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What has changed, is that cars stolen these days are more likely to be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damaged when recovered (2008: 70%  vs 1988 52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ese days vandalism towards cars (21%) is more prevalent than theft from cars (radio/ CD/ DVD player 5%; other theft 6%).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Summary 6.2 – car securit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90583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Most motorist take precautions against crime and will always lock doors (97%) and close windows (95%).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ompared with twenty years ago, motorists have adopted different security strategies.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ese days motorists are more likely to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over valuables up/ put in glove compartment  (2008: 86% vs 1988 56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void parking in high risk areas(2008: 64% vs 1988 44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use a car alarm (2008: 55% vs 1988 13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nd have the benefits of immobilisers (2008: 67% vs 1988 n/a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sample demographics: MS2 - technolog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52520" y="2349000"/>
            <a:ext cx="695808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2149560"/>
                <a:tab algn="r" pos="4037040"/>
                <a:tab algn="r" pos="5203800"/>
                <a:tab algn="r" pos="645948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sex: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male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49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51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50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149560"/>
                <a:tab algn="r" pos="4037040"/>
                <a:tab algn="r" pos="5203800"/>
                <a:tab algn="r" pos="645948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female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51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49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50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149560"/>
                <a:tab algn="r" pos="4037040"/>
                <a:tab algn="r" pos="5203800"/>
                <a:tab algn="r" pos="6459480"/>
                <a:tab algn="r" pos="7175520"/>
                <a:tab algn="r" pos="843264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149560"/>
                <a:tab algn="r" pos="4037040"/>
                <a:tab algn="r" pos="5203800"/>
                <a:tab algn="r" pos="645948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ge: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7-24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3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2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3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149560"/>
                <a:tab algn="r" pos="4037040"/>
                <a:tab algn="r" pos="5203800"/>
                <a:tab algn="r" pos="645948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25-44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36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38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37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149560"/>
                <a:tab algn="r" pos="4037040"/>
                <a:tab algn="r" pos="5203800"/>
                <a:tab algn="r" pos="645948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45-64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31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32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31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149560"/>
                <a:tab algn="r" pos="4037040"/>
                <a:tab algn="r" pos="5203800"/>
                <a:tab algn="r" pos="645948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65+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20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8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9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149560"/>
                <a:tab algn="r" pos="4037040"/>
                <a:tab algn="r" pos="5203800"/>
                <a:tab algn="r" pos="6459480"/>
                <a:tab algn="r" pos="7175520"/>
                <a:tab algn="r" pos="843264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149560"/>
                <a:tab algn="r" pos="4037040"/>
                <a:tab algn="r" pos="5203800"/>
                <a:tab algn="r" pos="645948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socio-economic grouping: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BC1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55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59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57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149560"/>
                <a:tab algn="r" pos="4037040"/>
                <a:tab algn="r" pos="5203800"/>
                <a:tab algn="r" pos="645948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2DE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45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41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43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1424160" y="2314440"/>
            <a:ext cx="6813360" cy="0"/>
          </a:xfrm>
          <a:prstGeom prst="line">
            <a:avLst/>
          </a:prstGeom>
          <a:ln w="1260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1424160" y="5516640"/>
            <a:ext cx="6813360" cy="0"/>
          </a:xfrm>
          <a:prstGeom prst="line">
            <a:avLst/>
          </a:prstGeom>
          <a:ln w="1260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4751280" y="1593720"/>
            <a:ext cx="120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quota se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(n=1,000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975280" y="1593720"/>
            <a:ext cx="120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achieve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(n=1,034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7191360" y="1589040"/>
            <a:ext cx="120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weighte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(n=1,034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66200" y="3428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7. an historic perspective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the biggest technological changes in </a:t>
            </a:r>
            <a:r>
              <a:rPr b="1" i="1" lang="en-GB" sz="1800" spc="-1" strike="noStrike">
                <a:solidFill>
                  <a:srgbClr val="005e94"/>
                </a:solidFill>
                <a:latin typeface="Arial"/>
              </a:rPr>
              <a:t>cars </a:t>
            </a: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in the past 20 years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123" name="Text Box 3"/>
          <p:cNvSpPr/>
          <p:nvPr/>
        </p:nvSpPr>
        <p:spPr>
          <a:xfrm>
            <a:off x="465120" y="1935000"/>
            <a:ext cx="23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mproved safet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124" name="Object 5"/>
          <p:cNvGraphicFramePr/>
          <p:nvPr/>
        </p:nvGraphicFramePr>
        <p:xfrm>
          <a:off x="3503520" y="1814400"/>
          <a:ext cx="245772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3520" y="1814400"/>
                    <a:ext cx="245772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6" name="Text Box 7"/>
          <p:cNvSpPr/>
          <p:nvPr/>
        </p:nvSpPr>
        <p:spPr>
          <a:xfrm>
            <a:off x="465120" y="2394000"/>
            <a:ext cx="23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mprovements in technolog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7" name="Text Box 8"/>
          <p:cNvSpPr/>
          <p:nvPr/>
        </p:nvSpPr>
        <p:spPr>
          <a:xfrm>
            <a:off x="465120" y="2843280"/>
            <a:ext cx="23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ars have become more reliab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8" name="Text Box 10"/>
          <p:cNvSpPr/>
          <p:nvPr/>
        </p:nvSpPr>
        <p:spPr>
          <a:xfrm>
            <a:off x="3568680" y="1700280"/>
            <a:ext cx="2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9" name="Text Box 11"/>
          <p:cNvSpPr/>
          <p:nvPr/>
        </p:nvSpPr>
        <p:spPr>
          <a:xfrm>
            <a:off x="465120" y="1484280"/>
            <a:ext cx="182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Greater change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0" name="Rectangle 18"/>
          <p:cNvSpPr/>
          <p:nvPr/>
        </p:nvSpPr>
        <p:spPr>
          <a:xfrm>
            <a:off x="128520" y="5661000"/>
            <a:ext cx="70581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r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30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What are the biggest changes in the past 20 years in cars? (select up to three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1 base: all respondents (n=1,116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1" name="Text Box 19"/>
          <p:cNvSpPr/>
          <p:nvPr/>
        </p:nvSpPr>
        <p:spPr>
          <a:xfrm>
            <a:off x="465120" y="3763800"/>
            <a:ext cx="23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more high performance ca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132" name="Object 20"/>
          <p:cNvGraphicFramePr/>
          <p:nvPr/>
        </p:nvGraphicFramePr>
        <p:xfrm>
          <a:off x="3503520" y="3675240"/>
          <a:ext cx="245772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3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3520" y="3675240"/>
                    <a:ext cx="245772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4" name="Text Box 23"/>
          <p:cNvSpPr/>
          <p:nvPr/>
        </p:nvSpPr>
        <p:spPr>
          <a:xfrm>
            <a:off x="3568680" y="3552840"/>
            <a:ext cx="2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5" name="Text Box 24"/>
          <p:cNvSpPr/>
          <p:nvPr/>
        </p:nvSpPr>
        <p:spPr>
          <a:xfrm>
            <a:off x="465120" y="3394080"/>
            <a:ext cx="182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Lesser change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6" name="Text Box 25"/>
          <p:cNvSpPr/>
          <p:nvPr/>
        </p:nvSpPr>
        <p:spPr>
          <a:xfrm>
            <a:off x="465120" y="4108320"/>
            <a:ext cx="283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standardisation of unleaded petro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7" name="Text Box 26"/>
          <p:cNvSpPr/>
          <p:nvPr/>
        </p:nvSpPr>
        <p:spPr>
          <a:xfrm>
            <a:off x="465120" y="4452840"/>
            <a:ext cx="31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mprovements in in-car entertainmen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8" name="Text Box 27"/>
          <p:cNvSpPr/>
          <p:nvPr/>
        </p:nvSpPr>
        <p:spPr>
          <a:xfrm>
            <a:off x="465120" y="4797360"/>
            <a:ext cx="29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surge in design of hybrid/ electric ca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9" name="Text Box 28"/>
          <p:cNvSpPr/>
          <p:nvPr/>
        </p:nvSpPr>
        <p:spPr>
          <a:xfrm>
            <a:off x="465120" y="5151600"/>
            <a:ext cx="32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use of high performance fuel (e.g. premium unleaded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0" name="Text Box 29"/>
          <p:cNvSpPr/>
          <p:nvPr/>
        </p:nvSpPr>
        <p:spPr>
          <a:xfrm>
            <a:off x="5889600" y="3284640"/>
            <a:ext cx="3024360" cy="122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Biggest change in the way you personally </a:t>
            </a:r>
            <a:r>
              <a:rPr b="0" i="1" lang="en-GB" sz="1400" spc="-1" strike="noStrike">
                <a:solidFill>
                  <a:srgbClr val="4d4d4d"/>
                </a:solidFill>
                <a:latin typeface="Arial Narrow"/>
              </a:rPr>
              <a:t>use your car 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n the past 20 yea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’ve become reliant on in-car </a:t>
            </a:r>
            <a:br>
              <a:rPr sz="1400"/>
            </a:b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technology e.g. SAT NAV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6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1" name="Object 2"/>
          <p:cNvGraphicFramePr/>
          <p:nvPr/>
        </p:nvGraphicFramePr>
        <p:xfrm>
          <a:off x="1784520" y="1557360"/>
          <a:ext cx="4552920" cy="39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1557360"/>
                    <a:ext cx="455292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best in-car technological innovations in the past 20 years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144" name="Text Box 4"/>
          <p:cNvSpPr/>
          <p:nvPr/>
        </p:nvSpPr>
        <p:spPr>
          <a:xfrm>
            <a:off x="487440" y="38163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B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5" name="Text Box 5"/>
          <p:cNvSpPr/>
          <p:nvPr/>
        </p:nvSpPr>
        <p:spPr>
          <a:xfrm>
            <a:off x="103320" y="6227640"/>
            <a:ext cx="881064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6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What in your opinion, have been the best in-car technological innovations in the past 20 years? Please select up to three from the following list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Base: all respondents (n= 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6" name="Text Box 6"/>
          <p:cNvSpPr/>
          <p:nvPr/>
        </p:nvSpPr>
        <p:spPr>
          <a:xfrm>
            <a:off x="1855800" y="1700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7" name="Text Box 9"/>
          <p:cNvSpPr/>
          <p:nvPr/>
        </p:nvSpPr>
        <p:spPr>
          <a:xfrm>
            <a:off x="487440" y="2041560"/>
            <a:ext cx="85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irbag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8" name="Text Box 24"/>
          <p:cNvSpPr/>
          <p:nvPr/>
        </p:nvSpPr>
        <p:spPr>
          <a:xfrm>
            <a:off x="487440" y="292896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Seatbel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9" name="Text Box 30"/>
          <p:cNvSpPr/>
          <p:nvPr/>
        </p:nvSpPr>
        <p:spPr>
          <a:xfrm>
            <a:off x="6248520" y="1557360"/>
            <a:ext cx="3170160" cy="441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Satellite navigatio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5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ir condition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2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Parking sensor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entral lock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Blind spot sensor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7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ollision warn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Whiplash protection system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Electronic window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6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Hazard warning light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5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Brake assist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Electronic stability control/ ESP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Intelligent protection system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Intelligent speed adaptio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Tyre pressure monitoring system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Lane departure warn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3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daptive cruise control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EBD: electronic brake distribution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Adaptive front lighting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LED rear lights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0" name="Text Box 31"/>
          <p:cNvSpPr/>
          <p:nvPr/>
        </p:nvSpPr>
        <p:spPr>
          <a:xfrm>
            <a:off x="487440" y="47052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Power steering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Summary 7.1 – what has changed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90583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e greatest technological changes to cars in the past twenty years are judged to be…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improved safety (59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improvements in technology (44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improved reliability (43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… 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with the best in-car technological innovations being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irbags (55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seatbelts (49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BS (39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power steering (38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66200" y="3428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8. the future: technological reality and ability to solve today’s motoring problems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what technology will be a reality in 20 years time – in-car technolog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graphicFrame>
        <p:nvGraphicFramePr>
          <p:cNvPr id="1155" name="Object 4"/>
          <p:cNvGraphicFramePr/>
          <p:nvPr/>
        </p:nvGraphicFramePr>
        <p:xfrm>
          <a:off x="4665600" y="1419120"/>
          <a:ext cx="2457360" cy="41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0" y="1419120"/>
                    <a:ext cx="2457360" cy="41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7" name="Text Box 5"/>
          <p:cNvSpPr/>
          <p:nvPr/>
        </p:nvSpPr>
        <p:spPr>
          <a:xfrm>
            <a:off x="4676760" y="1268280"/>
            <a:ext cx="2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8" name="Rectangle 6"/>
          <p:cNvSpPr/>
          <p:nvPr/>
        </p:nvSpPr>
        <p:spPr>
          <a:xfrm>
            <a:off x="128520" y="5661000"/>
            <a:ext cx="792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r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3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Which of the following do you think will be a reality in 20 years time? (please choose as many as you wish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1 base: all respondents (n=1,116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9" name="Text Box 8"/>
          <p:cNvSpPr/>
          <p:nvPr/>
        </p:nvSpPr>
        <p:spPr>
          <a:xfrm>
            <a:off x="466560" y="4941720"/>
            <a:ext cx="326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988 – expectations for the year 2001 (n=1,576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0" name="Line 10"/>
          <p:cNvSpPr/>
          <p:nvPr/>
        </p:nvSpPr>
        <p:spPr>
          <a:xfrm>
            <a:off x="560520" y="4946760"/>
            <a:ext cx="640872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1" name="Text Box 11"/>
          <p:cNvSpPr/>
          <p:nvPr/>
        </p:nvSpPr>
        <p:spPr>
          <a:xfrm>
            <a:off x="466560" y="5227560"/>
            <a:ext cx="326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ars will be driven by computers/ won’t need driver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2" name="Text Box 12"/>
          <p:cNvSpPr/>
          <p:nvPr/>
        </p:nvSpPr>
        <p:spPr>
          <a:xfrm>
            <a:off x="466560" y="1484280"/>
            <a:ext cx="326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the car will tell you when you are over the speed limi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3" name="Text Box 13"/>
          <p:cNvSpPr/>
          <p:nvPr/>
        </p:nvSpPr>
        <p:spPr>
          <a:xfrm>
            <a:off x="466560" y="1727280"/>
            <a:ext cx="427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ars will have fingerprint/ voice/ iris/ breath recognition – for security and use of in-car control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4" name="Text Box 14"/>
          <p:cNvSpPr/>
          <p:nvPr/>
        </p:nvSpPr>
        <p:spPr>
          <a:xfrm>
            <a:off x="466560" y="2122560"/>
            <a:ext cx="326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ars will not allow you to go over the speed limi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5" name="Text Box 15"/>
          <p:cNvSpPr/>
          <p:nvPr/>
        </p:nvSpPr>
        <p:spPr>
          <a:xfrm>
            <a:off x="466560" y="2449440"/>
            <a:ext cx="326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ars will be much smaller than they are toda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6" name="Text Box 16"/>
          <p:cNvSpPr/>
          <p:nvPr/>
        </p:nvSpPr>
        <p:spPr>
          <a:xfrm>
            <a:off x="466560" y="2738520"/>
            <a:ext cx="39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ars will be able to ‘talk’ to each other to pinpoint and avoid traffic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7" name="Text Box 17"/>
          <p:cNvSpPr/>
          <p:nvPr/>
        </p:nvSpPr>
        <p:spPr>
          <a:xfrm>
            <a:off x="466560" y="3036960"/>
            <a:ext cx="36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in-car Wi-Fi – so you are permanently connected to the interne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8" name="Text Box 18"/>
          <p:cNvSpPr/>
          <p:nvPr/>
        </p:nvSpPr>
        <p:spPr>
          <a:xfrm>
            <a:off x="466560" y="3278160"/>
            <a:ext cx="427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ars will have remote access to the home to e.g. record TV programmes, switch appliances on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9" name="Text Box 19"/>
          <p:cNvSpPr/>
          <p:nvPr/>
        </p:nvSpPr>
        <p:spPr>
          <a:xfrm>
            <a:off x="466560" y="3673440"/>
            <a:ext cx="326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cars will be able to drive themselve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0" name="Text Box 21"/>
          <p:cNvSpPr/>
          <p:nvPr/>
        </p:nvSpPr>
        <p:spPr>
          <a:xfrm>
            <a:off x="466560" y="4056120"/>
            <a:ext cx="326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1989 – expectations for the year 2001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1" name="Text Box 22"/>
          <p:cNvSpPr/>
          <p:nvPr/>
        </p:nvSpPr>
        <p:spPr>
          <a:xfrm>
            <a:off x="466560" y="4290840"/>
            <a:ext cx="39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fax, telephones, photocopiers standard on all executive car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2" name="Line 23"/>
          <p:cNvSpPr/>
          <p:nvPr/>
        </p:nvSpPr>
        <p:spPr>
          <a:xfrm>
            <a:off x="560520" y="4044960"/>
            <a:ext cx="640872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3" name="Text Box 24"/>
          <p:cNvSpPr/>
          <p:nvPr/>
        </p:nvSpPr>
        <p:spPr>
          <a:xfrm>
            <a:off x="469800" y="4594320"/>
            <a:ext cx="397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on-board computers that provide directions will be fitted to all car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what technology will be a reality in 20 years time – fuel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graphicFrame>
        <p:nvGraphicFramePr>
          <p:cNvPr id="1175" name="Object 4"/>
          <p:cNvGraphicFramePr/>
          <p:nvPr/>
        </p:nvGraphicFramePr>
        <p:xfrm>
          <a:off x="3657600" y="1700280"/>
          <a:ext cx="245736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700280"/>
                    <a:ext cx="24573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7" name="Text Box 5"/>
          <p:cNvSpPr/>
          <p:nvPr/>
        </p:nvSpPr>
        <p:spPr>
          <a:xfrm>
            <a:off x="3659040" y="1700280"/>
            <a:ext cx="2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8" name="Rectangle 6"/>
          <p:cNvSpPr/>
          <p:nvPr/>
        </p:nvSpPr>
        <p:spPr>
          <a:xfrm>
            <a:off x="128520" y="5661000"/>
            <a:ext cx="792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r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Q37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Which of the following do you think will be a reality in 20 years time? (please choose as many as you wish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MS1 base: all respondents (n=1,116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9" name="Text Box 7"/>
          <p:cNvSpPr/>
          <p:nvPr/>
        </p:nvSpPr>
        <p:spPr>
          <a:xfrm>
            <a:off x="469800" y="2060640"/>
            <a:ext cx="326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fully electric cars will be widesprea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0" name="Text Box 11"/>
          <p:cNvSpPr/>
          <p:nvPr/>
        </p:nvSpPr>
        <p:spPr>
          <a:xfrm>
            <a:off x="469800" y="328464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1988 – expectations for the year 2001* 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n=1,576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1" name="Text Box 12"/>
          <p:cNvSpPr/>
          <p:nvPr/>
        </p:nvSpPr>
        <p:spPr>
          <a:xfrm>
            <a:off x="469800" y="3716280"/>
            <a:ext cx="301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all petrol cars will be required to use unleaded petro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2" name="Line 13"/>
          <p:cNvSpPr/>
          <p:nvPr/>
        </p:nvSpPr>
        <p:spPr>
          <a:xfrm>
            <a:off x="560520" y="3284640"/>
            <a:ext cx="864072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3" name="Text Box 14"/>
          <p:cNvSpPr/>
          <p:nvPr/>
        </p:nvSpPr>
        <p:spPr>
          <a:xfrm>
            <a:off x="469800" y="4606920"/>
            <a:ext cx="326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most cars in Britain will run on electricity, not petro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4" name="Text Box 15"/>
          <p:cNvSpPr/>
          <p:nvPr/>
        </p:nvSpPr>
        <p:spPr>
          <a:xfrm>
            <a:off x="7113600" y="203688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electric cars will be commonly used for town driving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5" name="Text Box 16"/>
          <p:cNvSpPr/>
          <p:nvPr/>
        </p:nvSpPr>
        <p:spPr>
          <a:xfrm>
            <a:off x="6176880" y="20606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*1990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28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6" name="Text Box 17"/>
          <p:cNvSpPr/>
          <p:nvPr/>
        </p:nvSpPr>
        <p:spPr>
          <a:xfrm>
            <a:off x="469800" y="14842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200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what technology will be a reality in 20 years time – road management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188" name="Text Box 3"/>
          <p:cNvSpPr/>
          <p:nvPr/>
        </p:nvSpPr>
        <p:spPr>
          <a:xfrm>
            <a:off x="465120" y="1969920"/>
            <a:ext cx="32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rivers will have to pay to drive in all citie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189" name="Object 4"/>
          <p:cNvGraphicFramePr/>
          <p:nvPr/>
        </p:nvGraphicFramePr>
        <p:xfrm>
          <a:off x="3648240" y="1819440"/>
          <a:ext cx="245736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8240" y="1819440"/>
                    <a:ext cx="24573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1" name="Text Box 5"/>
          <p:cNvSpPr/>
          <p:nvPr/>
        </p:nvSpPr>
        <p:spPr>
          <a:xfrm>
            <a:off x="3659040" y="1700280"/>
            <a:ext cx="2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2" name="Rectangle 6"/>
          <p:cNvSpPr/>
          <p:nvPr/>
        </p:nvSpPr>
        <p:spPr>
          <a:xfrm>
            <a:off x="128520" y="5661000"/>
            <a:ext cx="792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r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37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Which of the following do you think will be a reality in 20 years time? (please choose as many as you wish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1 base: all respondents (n=1,116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3" name="Text Box 10"/>
          <p:cNvSpPr/>
          <p:nvPr/>
        </p:nvSpPr>
        <p:spPr>
          <a:xfrm>
            <a:off x="469800" y="2476440"/>
            <a:ext cx="326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tolls on motorway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4" name="Text Box 11"/>
          <p:cNvSpPr/>
          <p:nvPr/>
        </p:nvSpPr>
        <p:spPr>
          <a:xfrm>
            <a:off x="474840" y="2982960"/>
            <a:ext cx="32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ars will not be allowed into city centre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5" name="Text Box 12"/>
          <p:cNvSpPr/>
          <p:nvPr/>
        </p:nvSpPr>
        <p:spPr>
          <a:xfrm>
            <a:off x="479520" y="3489480"/>
            <a:ext cx="32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all roads will have high speed camera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6" name="Text Box 13"/>
          <p:cNvSpPr/>
          <p:nvPr/>
        </p:nvSpPr>
        <p:spPr>
          <a:xfrm>
            <a:off x="484200" y="3914640"/>
            <a:ext cx="32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drivers will only be allowed into cities at allocated time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7" name="Text Box 14"/>
          <p:cNvSpPr/>
          <p:nvPr/>
        </p:nvSpPr>
        <p:spPr>
          <a:xfrm>
            <a:off x="5673600" y="1773360"/>
            <a:ext cx="326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expectations for the year 2001*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8" name="Text Box 15"/>
          <p:cNvSpPr/>
          <p:nvPr/>
        </p:nvSpPr>
        <p:spPr>
          <a:xfrm>
            <a:off x="6465960" y="2979720"/>
            <a:ext cx="32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cars will be banned from all town centre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9" name="Text Box 17"/>
          <p:cNvSpPr/>
          <p:nvPr/>
        </p:nvSpPr>
        <p:spPr>
          <a:xfrm>
            <a:off x="5600880" y="2492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4d4d4d"/>
                </a:solidFill>
                <a:latin typeface="Arial"/>
              </a:rPr>
              <a:t>*1989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  42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0" name="Text Box 18"/>
          <p:cNvSpPr/>
          <p:nvPr/>
        </p:nvSpPr>
        <p:spPr>
          <a:xfrm>
            <a:off x="5600880" y="2997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4d4d4d"/>
                </a:solidFill>
                <a:latin typeface="Arial"/>
              </a:rPr>
              <a:t>*1988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  56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1" name="Text Box 19"/>
          <p:cNvSpPr/>
          <p:nvPr/>
        </p:nvSpPr>
        <p:spPr>
          <a:xfrm>
            <a:off x="5600880" y="4005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4d4d4d"/>
                </a:solidFill>
                <a:latin typeface="Arial"/>
              </a:rPr>
              <a:t>*1989</a:t>
            </a: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  42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2" name="Object 2"/>
          <p:cNvGraphicFramePr/>
          <p:nvPr/>
        </p:nvGraphicFramePr>
        <p:xfrm>
          <a:off x="2486160" y="2343240"/>
          <a:ext cx="302868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6160" y="2343240"/>
                    <a:ext cx="302868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the role of future technology in solving today’s motoring problems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graphicFrame>
        <p:nvGraphicFramePr>
          <p:cNvPr id="1205" name="Object 4"/>
          <p:cNvGraphicFramePr/>
          <p:nvPr/>
        </p:nvGraphicFramePr>
        <p:xfrm>
          <a:off x="5810400" y="2352600"/>
          <a:ext cx="263664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0400" y="2352600"/>
                    <a:ext cx="26366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7" name="Text Box 5"/>
          <p:cNvSpPr/>
          <p:nvPr/>
        </p:nvSpPr>
        <p:spPr>
          <a:xfrm>
            <a:off x="8945280" y="1371600"/>
            <a:ext cx="55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mean</a:t>
            </a:r>
            <a:br>
              <a:rPr sz="1200"/>
            </a:b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score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-5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8" name="Text Box 6"/>
          <p:cNvSpPr/>
          <p:nvPr/>
        </p:nvSpPr>
        <p:spPr>
          <a:xfrm>
            <a:off x="533520" y="2378160"/>
            <a:ext cx="254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Future technology will be able to solve today’s motoring problem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9" name="Line 9"/>
          <p:cNvSpPr/>
          <p:nvPr/>
        </p:nvSpPr>
        <p:spPr>
          <a:xfrm>
            <a:off x="5875200" y="2367000"/>
            <a:ext cx="0" cy="23511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0" name="Text Box 10"/>
          <p:cNvSpPr/>
          <p:nvPr/>
        </p:nvSpPr>
        <p:spPr>
          <a:xfrm>
            <a:off x="9019080" y="249228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.8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1" name="Text Box 12"/>
          <p:cNvSpPr/>
          <p:nvPr/>
        </p:nvSpPr>
        <p:spPr>
          <a:xfrm>
            <a:off x="5470560" y="249228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2" name="Text Box 14"/>
          <p:cNvSpPr/>
          <p:nvPr/>
        </p:nvSpPr>
        <p:spPr>
          <a:xfrm>
            <a:off x="8290080" y="249228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3" name="Text Box 16"/>
          <p:cNvSpPr/>
          <p:nvPr/>
        </p:nvSpPr>
        <p:spPr>
          <a:xfrm>
            <a:off x="3248280" y="249228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4" name="Text Box 17"/>
          <p:cNvSpPr/>
          <p:nvPr/>
        </p:nvSpPr>
        <p:spPr>
          <a:xfrm>
            <a:off x="3081240" y="1371600"/>
            <a:ext cx="7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total disagre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-2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5" name="Text Box 18"/>
          <p:cNvSpPr/>
          <p:nvPr/>
        </p:nvSpPr>
        <p:spPr>
          <a:xfrm>
            <a:off x="8048520" y="1554120"/>
            <a:ext cx="83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total agre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4-5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6" name="Text Box 19"/>
          <p:cNvSpPr/>
          <p:nvPr/>
        </p:nvSpPr>
        <p:spPr>
          <a:xfrm>
            <a:off x="5313240" y="137160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neither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3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7" name="Text Box 20"/>
          <p:cNvSpPr/>
          <p:nvPr/>
        </p:nvSpPr>
        <p:spPr>
          <a:xfrm>
            <a:off x="6032520" y="137160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agree slightl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4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8" name="Text Box 21"/>
          <p:cNvSpPr/>
          <p:nvPr/>
        </p:nvSpPr>
        <p:spPr>
          <a:xfrm>
            <a:off x="6897600" y="137160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agree strongl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5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9" name="Text Box 22"/>
          <p:cNvSpPr/>
          <p:nvPr/>
        </p:nvSpPr>
        <p:spPr>
          <a:xfrm>
            <a:off x="4594320" y="1371600"/>
            <a:ext cx="83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disagree slightl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2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0" name="Text Box 23"/>
          <p:cNvSpPr/>
          <p:nvPr/>
        </p:nvSpPr>
        <p:spPr>
          <a:xfrm>
            <a:off x="3800520" y="137160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 Narrow"/>
              </a:rPr>
              <a:t>disagree strongl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(1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1" name="Rectangle 24"/>
          <p:cNvSpPr/>
          <p:nvPr/>
        </p:nvSpPr>
        <p:spPr>
          <a:xfrm>
            <a:off x="100080" y="5599080"/>
            <a:ext cx="891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29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How strongly do you agree or disagree with the following statements?</a:t>
            </a: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2 base: all respondents (n=1,034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2" name="Line 25"/>
          <p:cNvSpPr/>
          <p:nvPr/>
        </p:nvSpPr>
        <p:spPr>
          <a:xfrm>
            <a:off x="5448240" y="2367000"/>
            <a:ext cx="0" cy="23511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3" name="Text Box 30"/>
          <p:cNvSpPr/>
          <p:nvPr/>
        </p:nvSpPr>
        <p:spPr>
          <a:xfrm>
            <a:off x="538200" y="3386160"/>
            <a:ext cx="254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17-2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4" name="Text Box 32"/>
          <p:cNvSpPr/>
          <p:nvPr/>
        </p:nvSpPr>
        <p:spPr>
          <a:xfrm>
            <a:off x="5475600" y="338616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5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5" name="Text Box 33"/>
          <p:cNvSpPr/>
          <p:nvPr/>
        </p:nvSpPr>
        <p:spPr>
          <a:xfrm>
            <a:off x="8294760" y="338616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3252960" y="338616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7" name="Text Box 35"/>
          <p:cNvSpPr/>
          <p:nvPr/>
        </p:nvSpPr>
        <p:spPr>
          <a:xfrm>
            <a:off x="536400" y="4276800"/>
            <a:ext cx="254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25+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8" name="Text Box 36"/>
          <p:cNvSpPr/>
          <p:nvPr/>
        </p:nvSpPr>
        <p:spPr>
          <a:xfrm>
            <a:off x="5473800" y="42768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9" name="Text Box 37"/>
          <p:cNvSpPr/>
          <p:nvPr/>
        </p:nvSpPr>
        <p:spPr>
          <a:xfrm>
            <a:off x="8293320" y="42768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0" name="Text Box 38"/>
          <p:cNvSpPr/>
          <p:nvPr/>
        </p:nvSpPr>
        <p:spPr>
          <a:xfrm>
            <a:off x="3251520" y="42768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37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1" name="Rectangle 39"/>
          <p:cNvSpPr/>
          <p:nvPr/>
        </p:nvSpPr>
        <p:spPr>
          <a:xfrm>
            <a:off x="3225960" y="4222800"/>
            <a:ext cx="431640" cy="358560"/>
          </a:xfrm>
          <a:prstGeom prst="rect">
            <a:avLst/>
          </a:prstGeom>
          <a:noFill/>
          <a:ln w="19080">
            <a:solidFill>
              <a:srgbClr val="005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2" name="Rectangle 40"/>
          <p:cNvSpPr/>
          <p:nvPr/>
        </p:nvSpPr>
        <p:spPr>
          <a:xfrm>
            <a:off x="8265960" y="3357720"/>
            <a:ext cx="432000" cy="358560"/>
          </a:xfrm>
          <a:prstGeom prst="rect">
            <a:avLst/>
          </a:prstGeom>
          <a:noFill/>
          <a:ln w="19080">
            <a:solidFill>
              <a:srgbClr val="005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what needs to happen now to reduce our car dependency 20 years from now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234" name="Text Box 3"/>
          <p:cNvSpPr/>
          <p:nvPr/>
        </p:nvSpPr>
        <p:spPr>
          <a:xfrm>
            <a:off x="465120" y="2276640"/>
            <a:ext cx="32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mprovement of investment in public transpor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235" name="Object 4"/>
          <p:cNvGraphicFramePr/>
          <p:nvPr/>
        </p:nvGraphicFramePr>
        <p:xfrm>
          <a:off x="3505320" y="1819440"/>
          <a:ext cx="24573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819440"/>
                    <a:ext cx="24573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7" name="Text Box 7"/>
          <p:cNvSpPr/>
          <p:nvPr/>
        </p:nvSpPr>
        <p:spPr>
          <a:xfrm>
            <a:off x="3730680" y="1916280"/>
            <a:ext cx="2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8" name="Rectangle 9"/>
          <p:cNvSpPr/>
          <p:nvPr/>
        </p:nvSpPr>
        <p:spPr>
          <a:xfrm>
            <a:off x="128520" y="5661000"/>
            <a:ext cx="792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r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Q36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What are the main changes that need to happen to reduce our car dependency 20 years from now? (choose up to three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200" spc="-1" strike="noStrike">
                <a:solidFill>
                  <a:srgbClr val="4d4d4d"/>
                </a:solidFill>
                <a:latin typeface="Arial Narrow"/>
              </a:rPr>
              <a:t>MS1 base: all respondents (n=1,116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9" name="Text Box 19"/>
          <p:cNvSpPr/>
          <p:nvPr/>
        </p:nvSpPr>
        <p:spPr>
          <a:xfrm>
            <a:off x="465120" y="3357720"/>
            <a:ext cx="32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investment in alternative fuels/ bio-fuels/ electri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0" name="Text Box 20"/>
          <p:cNvSpPr/>
          <p:nvPr/>
        </p:nvSpPr>
        <p:spPr>
          <a:xfrm>
            <a:off x="469800" y="44211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safer roads for cycle and pedestrian usag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1" name="Text Box 21"/>
          <p:cNvSpPr/>
          <p:nvPr/>
        </p:nvSpPr>
        <p:spPr>
          <a:xfrm>
            <a:off x="6824520" y="3068640"/>
            <a:ext cx="2089440" cy="1003320"/>
          </a:xfrm>
          <a:prstGeom prst="rect">
            <a:avLst/>
          </a:prstGeom>
          <a:solidFill>
            <a:srgbClr val="dc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technological solutions can only provide part of the answer to today’s motoring problem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2" name="AutoShape 22"/>
          <p:cNvSpPr/>
          <p:nvPr/>
        </p:nvSpPr>
        <p:spPr>
          <a:xfrm>
            <a:off x="6105600" y="3357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5e94"/>
          </a:solidFill>
          <a:ln w="9360">
            <a:solidFill>
              <a:srgbClr val="005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3" name="Rectangle 23"/>
          <p:cNvSpPr/>
          <p:nvPr/>
        </p:nvSpPr>
        <p:spPr>
          <a:xfrm>
            <a:off x="415800" y="3068640"/>
            <a:ext cx="5689800" cy="936720"/>
          </a:xfrm>
          <a:prstGeom prst="rect">
            <a:avLst/>
          </a:prstGeom>
          <a:noFill/>
          <a:ln w="19080">
            <a:solidFill>
              <a:srgbClr val="005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560520" y="3213000"/>
            <a:ext cx="6408720" cy="306360"/>
          </a:xfrm>
          <a:prstGeom prst="rect">
            <a:avLst/>
          </a:prstGeom>
          <a:solidFill>
            <a:srgbClr val="49b5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560520" y="3827520"/>
            <a:ext cx="6408720" cy="306360"/>
          </a:xfrm>
          <a:prstGeom prst="rect">
            <a:avLst/>
          </a:prstGeom>
          <a:solidFill>
            <a:srgbClr val="49b5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560520" y="4441680"/>
            <a:ext cx="6408720" cy="306360"/>
          </a:xfrm>
          <a:prstGeom prst="rect">
            <a:avLst/>
          </a:prstGeom>
          <a:solidFill>
            <a:srgbClr val="49b5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560520" y="5056200"/>
            <a:ext cx="6408720" cy="306360"/>
          </a:xfrm>
          <a:prstGeom prst="rect">
            <a:avLst/>
          </a:prstGeom>
          <a:solidFill>
            <a:srgbClr val="49b5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560520" y="2617920"/>
            <a:ext cx="6408720" cy="306360"/>
          </a:xfrm>
          <a:prstGeom prst="rect">
            <a:avLst/>
          </a:prstGeom>
          <a:solidFill>
            <a:srgbClr val="49b5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region: MS2 - technolog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0160" y="2278080"/>
            <a:ext cx="6769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dec" pos="3314880"/>
                <a:tab algn="r" pos="439416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London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3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3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3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dec" pos="3314880"/>
                <a:tab algn="r" pos="439416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South East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4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5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4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dec" pos="3314880"/>
                <a:tab algn="r" pos="439416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South West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9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9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9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dec" pos="3314880"/>
                <a:tab algn="r" pos="439416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West Midlands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9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9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9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dec" pos="3314880"/>
                <a:tab algn="r" pos="439416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East Midlands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7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7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7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dec" pos="3314880"/>
                <a:tab algn="r" pos="439416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East of England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9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9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9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dec" pos="3314880"/>
                <a:tab algn="r" pos="439416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Yorks/Humber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9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9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9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dec" pos="3314880"/>
                <a:tab algn="r" pos="439416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North East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4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4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dec" pos="3314880"/>
                <a:tab algn="r" pos="439416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North West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2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3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2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dec" pos="3314880"/>
                <a:tab algn="r" pos="439416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Wales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5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5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dec" pos="3314880"/>
                <a:tab algn="r" pos="439416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Scotland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9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9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9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dec" pos="3314880"/>
                <a:tab algn="r" pos="439416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587520" y="2243160"/>
            <a:ext cx="6381720" cy="0"/>
          </a:xfrm>
          <a:prstGeom prst="line">
            <a:avLst/>
          </a:prstGeom>
          <a:ln w="1260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560520" y="5734080"/>
            <a:ext cx="6408720" cy="0"/>
          </a:xfrm>
          <a:prstGeom prst="line">
            <a:avLst/>
          </a:prstGeom>
          <a:ln w="1260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284640" y="1522440"/>
            <a:ext cx="120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quota se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(n=1,000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408560" y="1522440"/>
            <a:ext cx="120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achieve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(n=1,034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587920" y="1522440"/>
            <a:ext cx="149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weighted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(n=1,034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7473960" y="2637000"/>
            <a:ext cx="2089080" cy="2519280"/>
          </a:xfrm>
          <a:prstGeom prst="rect">
            <a:avLst/>
          </a:prstGeom>
          <a:solidFill>
            <a:srgbClr val="ffff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39" name="Object 19"/>
          <p:cNvGraphicFramePr/>
          <p:nvPr/>
        </p:nvGraphicFramePr>
        <p:xfrm>
          <a:off x="8050320" y="2917800"/>
          <a:ext cx="1253880" cy="23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50320" y="2917800"/>
                    <a:ext cx="125388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20"/>
          <p:cNvSpPr/>
          <p:nvPr/>
        </p:nvSpPr>
        <p:spPr>
          <a:xfrm>
            <a:off x="7473960" y="320508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ity/urba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7473960" y="39258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suburb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7493040" y="46465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rura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8700120" y="4649760"/>
            <a:ext cx="4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25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9088920" y="3932280"/>
            <a:ext cx="4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52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8657280" y="3186000"/>
            <a:ext cx="4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 Narrow"/>
              </a:rPr>
              <a:t>22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7442640" y="270684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 Narrow"/>
              </a:rPr>
              <a:t>Loc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Summary 8.1 – what will be different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90583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e perception of technological reality in twenty years time is of ever sophisticated cars that will be able to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ell you when you are over the speed limit (71%) – or not allow you to go over the speed limit (50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recognise fingerprints/ voice/ iris/ breath – for security and use of in-car controls (60%) 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ommunicate with each other ref traffic information (35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be permanently linked to the internet via Wi-Fi (30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… 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nd fully electric cars will be widespread (60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echnology will play a major role in traffic management in order to control, restrict and monitor our motoring – and ensure that we pay for the roads we use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drivers will have to pay to drive in all cities (58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olls on motorways (58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ars will not be allowed into city centres (51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all roads will have high speed cameras (46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Summary 8.2 – solving today’s motoring problems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90583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e more popular view is that technology will not be able to solve today’s motoring problems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38% disagree vs 31% agree that it wil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7-24 year olds have a different view than those aged 25years +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that technology will be able to solve today’s motoring problems (39% agree vs 26% disagree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Nevertheless, all motorists recognise that technological solutions can only provide part of the answer to today’s motoring problems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4d4d4d"/>
                </a:solidFill>
                <a:latin typeface="Arial Narrow"/>
              </a:rPr>
              <a:t>For example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In order to reduce car dependency, alternative transport strategies also need to be part of the solution: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improvements and investment in public transport (72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2" marL="809640" indent="-165240">
              <a:spcBef>
                <a:spcPts val="400"/>
              </a:spcBef>
              <a:buClr>
                <a:srgbClr val="4d4d4d"/>
              </a:buClr>
              <a:buFont typeface="Arial Narrow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safer roads for cycles and pedestrian usage (39%)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8" name="Picture 2" descr="bridge"/>
          <p:cNvPicPr/>
          <p:nvPr/>
        </p:nvPicPr>
        <p:blipFill>
          <a:blip r:embed="rId1"/>
          <a:srcRect l="5536" t="2953" r="0" b="6496"/>
          <a:stretch/>
        </p:blipFill>
        <p:spPr>
          <a:xfrm>
            <a:off x="1447920" y="1978200"/>
            <a:ext cx="5064120" cy="3584520"/>
          </a:xfrm>
          <a:prstGeom prst="rect">
            <a:avLst/>
          </a:prstGeom>
          <a:ln w="0">
            <a:noFill/>
          </a:ln>
        </p:spPr>
      </p:pic>
      <p:sp>
        <p:nvSpPr>
          <p:cNvPr id="1249" name="Rectangle 3"/>
          <p:cNvSpPr/>
          <p:nvPr/>
        </p:nvSpPr>
        <p:spPr>
          <a:xfrm>
            <a:off x="6392880" y="1981080"/>
            <a:ext cx="2736720" cy="3581640"/>
          </a:xfrm>
          <a:prstGeom prst="rect">
            <a:avLst/>
          </a:prstGeom>
          <a:solidFill>
            <a:srgbClr val="b5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0" name="Text Box 4"/>
          <p:cNvSpPr/>
          <p:nvPr/>
        </p:nvSpPr>
        <p:spPr>
          <a:xfrm>
            <a:off x="6392880" y="4464000"/>
            <a:ext cx="24541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Verdana"/>
              </a:rPr>
              <a:t>Telephone</a:t>
            </a:r>
            <a:r>
              <a:rPr b="0" lang="en-GB" sz="1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4d4d4d"/>
                </a:solidFill>
                <a:latin typeface="Verdana"/>
              </a:rPr>
              <a:t>+44 (0)20 7357 9919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Verdana"/>
              </a:rPr>
              <a:t>Facsimile</a:t>
            </a:r>
            <a:r>
              <a:rPr b="0" lang="en-GB" sz="1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4d4d4d"/>
                </a:solidFill>
                <a:latin typeface="Verdana"/>
              </a:rPr>
              <a:t>+44 (0)20 7357 9773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Verdana"/>
              </a:rPr>
              <a:t>Website</a:t>
            </a:r>
            <a:r>
              <a:rPr b="0" lang="en-GB" sz="1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n-GB" sz="1000" spc="-1" strike="noStrike" u="sng">
                <a:solidFill>
                  <a:srgbClr val="005e94"/>
                </a:solidFill>
                <a:uFillTx/>
                <a:latin typeface="Verdana"/>
                <a:hlinkClick r:id="rId2"/>
              </a:rPr>
              <a:t>www.quadrangle.com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1" name="Text Box 5"/>
          <p:cNvSpPr/>
          <p:nvPr/>
        </p:nvSpPr>
        <p:spPr>
          <a:xfrm>
            <a:off x="7164360" y="3303720"/>
            <a:ext cx="216540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Verdana"/>
              </a:rPr>
              <a:t>The Butlers Wharf Building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Verdana"/>
              </a:rPr>
              <a:t>36 Shad Thame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Verdana"/>
              </a:rPr>
              <a:t>Lond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Verdana"/>
              </a:rPr>
              <a:t>SE1 2Y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2" name="Rectangle 6"/>
          <p:cNvSpPr/>
          <p:nvPr/>
        </p:nvSpPr>
        <p:spPr>
          <a:xfrm>
            <a:off x="7164360" y="2563920"/>
            <a:ext cx="24163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quadrang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e94"/>
                </a:solidFill>
                <a:latin typeface="Arial"/>
              </a:rPr>
              <a:t>1991 How much would you make use of the following if it was installed in your car?</a:t>
            </a:r>
            <a:endParaRPr b="1" lang="en-US" sz="16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254" name="Text Box 4"/>
          <p:cNvSpPr/>
          <p:nvPr/>
        </p:nvSpPr>
        <p:spPr>
          <a:xfrm>
            <a:off x="466560" y="3321000"/>
            <a:ext cx="276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 Narrow"/>
              </a:rPr>
              <a:t>A system which automatically keeps you a safe distance from the car in front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255" name="Object 5"/>
          <p:cNvGraphicFramePr/>
          <p:nvPr/>
        </p:nvGraphicFramePr>
        <p:xfrm>
          <a:off x="4257720" y="2060640"/>
          <a:ext cx="368604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60640"/>
                    <a:ext cx="36860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7" name="Text Box 8"/>
          <p:cNvSpPr/>
          <p:nvPr/>
        </p:nvSpPr>
        <p:spPr>
          <a:xfrm>
            <a:off x="8437680" y="333216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8" name="Text Box 10"/>
          <p:cNvSpPr/>
          <p:nvPr/>
        </p:nvSpPr>
        <p:spPr>
          <a:xfrm>
            <a:off x="3468960" y="33210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8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9" name="Text Box 11"/>
          <p:cNvSpPr/>
          <p:nvPr/>
        </p:nvSpPr>
        <p:spPr>
          <a:xfrm>
            <a:off x="3305160" y="1341360"/>
            <a:ext cx="78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Would us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1-3)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0" name="Text Box 12"/>
          <p:cNvSpPr/>
          <p:nvPr/>
        </p:nvSpPr>
        <p:spPr>
          <a:xfrm>
            <a:off x="8193240" y="1341360"/>
            <a:ext cx="93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Would not us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4-5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1" name="Text Box 13"/>
          <p:cNvSpPr/>
          <p:nvPr/>
        </p:nvSpPr>
        <p:spPr>
          <a:xfrm>
            <a:off x="5673600" y="1341360"/>
            <a:ext cx="83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A litt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3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2" name="Text Box 14"/>
          <p:cNvSpPr/>
          <p:nvPr/>
        </p:nvSpPr>
        <p:spPr>
          <a:xfrm>
            <a:off x="6345360" y="1341360"/>
            <a:ext cx="83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Not at al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4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3" name="Text Box 15"/>
          <p:cNvSpPr/>
          <p:nvPr/>
        </p:nvSpPr>
        <p:spPr>
          <a:xfrm>
            <a:off x="7137360" y="1341360"/>
            <a:ext cx="83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No opinion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5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4" name="Text Box 16"/>
          <p:cNvSpPr/>
          <p:nvPr/>
        </p:nvSpPr>
        <p:spPr>
          <a:xfrm>
            <a:off x="4952880" y="134136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A fair amoun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2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5" name="Text Box 17"/>
          <p:cNvSpPr/>
          <p:nvPr/>
        </p:nvSpPr>
        <p:spPr>
          <a:xfrm>
            <a:off x="4160880" y="1341360"/>
            <a:ext cx="8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A great dea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1) 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6" name="Text Box 18"/>
          <p:cNvSpPr/>
          <p:nvPr/>
        </p:nvSpPr>
        <p:spPr>
          <a:xfrm>
            <a:off x="468360" y="3838680"/>
            <a:ext cx="276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 Narrow"/>
              </a:rPr>
              <a:t>A system which adjusted your speed for road conditions or weather condition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7" name="Text Box 19"/>
          <p:cNvSpPr/>
          <p:nvPr/>
        </p:nvSpPr>
        <p:spPr>
          <a:xfrm>
            <a:off x="8439480" y="383544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8" name="Text Box 21"/>
          <p:cNvSpPr/>
          <p:nvPr/>
        </p:nvSpPr>
        <p:spPr>
          <a:xfrm>
            <a:off x="3470400" y="382428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8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9" name="Text Box 22"/>
          <p:cNvSpPr/>
          <p:nvPr/>
        </p:nvSpPr>
        <p:spPr>
          <a:xfrm>
            <a:off x="469800" y="2233440"/>
            <a:ext cx="276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 Narrow"/>
              </a:rPr>
              <a:t>Parking guidance systems to tell you where parking is available in a town or city centr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0" name="Text Box 23"/>
          <p:cNvSpPr/>
          <p:nvPr/>
        </p:nvSpPr>
        <p:spPr>
          <a:xfrm>
            <a:off x="8440920" y="22525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1" name="Text Box 25"/>
          <p:cNvSpPr/>
          <p:nvPr/>
        </p:nvSpPr>
        <p:spPr>
          <a:xfrm>
            <a:off x="3472200" y="22194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8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2" name="Text Box 26"/>
          <p:cNvSpPr/>
          <p:nvPr/>
        </p:nvSpPr>
        <p:spPr>
          <a:xfrm>
            <a:off x="471600" y="2779560"/>
            <a:ext cx="318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 Narrow"/>
              </a:rPr>
              <a:t>A talking computer which advised you of failures such as lights or braking systems before you would normally be aware of them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3" name="Text Box 27"/>
          <p:cNvSpPr/>
          <p:nvPr/>
        </p:nvSpPr>
        <p:spPr>
          <a:xfrm>
            <a:off x="8442360" y="277668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2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4" name="Text Box 29"/>
          <p:cNvSpPr/>
          <p:nvPr/>
        </p:nvSpPr>
        <p:spPr>
          <a:xfrm>
            <a:off x="3473640" y="27655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8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5" name="Rectangle 30"/>
          <p:cNvSpPr/>
          <p:nvPr/>
        </p:nvSpPr>
        <p:spPr>
          <a:xfrm>
            <a:off x="0" y="1197000"/>
            <a:ext cx="8840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LEX 1992: all respondents (n=1,277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6" name="Text Box 8"/>
          <p:cNvSpPr/>
          <p:nvPr/>
        </p:nvSpPr>
        <p:spPr>
          <a:xfrm>
            <a:off x="8469360" y="547848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6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7" name="Text Box 10"/>
          <p:cNvSpPr/>
          <p:nvPr/>
        </p:nvSpPr>
        <p:spPr>
          <a:xfrm>
            <a:off x="3500640" y="5467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3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8" name="Text Box 18"/>
          <p:cNvSpPr/>
          <p:nvPr/>
        </p:nvSpPr>
        <p:spPr>
          <a:xfrm>
            <a:off x="500040" y="5553000"/>
            <a:ext cx="276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 Narrow"/>
              </a:rPr>
              <a:t>A car telephon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9" name="Text Box 19"/>
          <p:cNvSpPr/>
          <p:nvPr/>
        </p:nvSpPr>
        <p:spPr>
          <a:xfrm>
            <a:off x="8471160" y="598176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9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0" name="Text Box 21"/>
          <p:cNvSpPr/>
          <p:nvPr/>
        </p:nvSpPr>
        <p:spPr>
          <a:xfrm>
            <a:off x="3502080" y="59706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1" name="Text Box 22"/>
          <p:cNvSpPr/>
          <p:nvPr/>
        </p:nvSpPr>
        <p:spPr>
          <a:xfrm>
            <a:off x="501480" y="4379760"/>
            <a:ext cx="276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 Narrow"/>
              </a:rPr>
              <a:t>A system which planned your route and guided you without you needing to use a map parking is available in a town or city centr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2" name="Text Box 23"/>
          <p:cNvSpPr/>
          <p:nvPr/>
        </p:nvSpPr>
        <p:spPr>
          <a:xfrm>
            <a:off x="8472600" y="439884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2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3" name="Text Box 25"/>
          <p:cNvSpPr/>
          <p:nvPr/>
        </p:nvSpPr>
        <p:spPr>
          <a:xfrm>
            <a:off x="3503880" y="43657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7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4" name="Text Box 26"/>
          <p:cNvSpPr/>
          <p:nvPr/>
        </p:nvSpPr>
        <p:spPr>
          <a:xfrm>
            <a:off x="503280" y="4925880"/>
            <a:ext cx="318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 Narrow"/>
              </a:rPr>
              <a:t>A system which adjusts your speed automatically as you entered a lower speed zon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5" name="Text Box 27"/>
          <p:cNvSpPr/>
          <p:nvPr/>
        </p:nvSpPr>
        <p:spPr>
          <a:xfrm>
            <a:off x="8474400" y="49230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2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6" name="Text Box 29"/>
          <p:cNvSpPr/>
          <p:nvPr/>
        </p:nvSpPr>
        <p:spPr>
          <a:xfrm>
            <a:off x="3505320" y="491184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7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7" name="Text Box 18"/>
          <p:cNvSpPr/>
          <p:nvPr/>
        </p:nvSpPr>
        <p:spPr>
          <a:xfrm>
            <a:off x="488880" y="5921280"/>
            <a:ext cx="27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 Narrow"/>
              </a:rPr>
              <a:t>An in-car office including a computer and fax machin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8" name="Text Box 10"/>
          <p:cNvSpPr/>
          <p:nvPr/>
        </p:nvSpPr>
        <p:spPr>
          <a:xfrm>
            <a:off x="3835440" y="33210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6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9" name="Text Box 11"/>
          <p:cNvSpPr/>
          <p:nvPr/>
        </p:nvSpPr>
        <p:spPr>
          <a:xfrm>
            <a:off x="3736800" y="1341360"/>
            <a:ext cx="7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Would use a lo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Narrow"/>
              </a:rPr>
              <a:t>(1-2)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0" name="Text Box 21"/>
          <p:cNvSpPr/>
          <p:nvPr/>
        </p:nvSpPr>
        <p:spPr>
          <a:xfrm>
            <a:off x="3837240" y="382428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67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1" name="Text Box 25"/>
          <p:cNvSpPr/>
          <p:nvPr/>
        </p:nvSpPr>
        <p:spPr>
          <a:xfrm>
            <a:off x="3838680" y="22194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77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2" name="Text Box 29"/>
          <p:cNvSpPr/>
          <p:nvPr/>
        </p:nvSpPr>
        <p:spPr>
          <a:xfrm>
            <a:off x="3840480" y="27655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6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3" name="Text Box 10"/>
          <p:cNvSpPr/>
          <p:nvPr/>
        </p:nvSpPr>
        <p:spPr>
          <a:xfrm>
            <a:off x="3867480" y="5467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4" name="Text Box 21"/>
          <p:cNvSpPr/>
          <p:nvPr/>
        </p:nvSpPr>
        <p:spPr>
          <a:xfrm>
            <a:off x="3949920" y="597060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5" name="Text Box 25"/>
          <p:cNvSpPr/>
          <p:nvPr/>
        </p:nvSpPr>
        <p:spPr>
          <a:xfrm>
            <a:off x="3870360" y="43657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5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6" name="Text Box 29"/>
          <p:cNvSpPr/>
          <p:nvPr/>
        </p:nvSpPr>
        <p:spPr>
          <a:xfrm>
            <a:off x="3872160" y="491184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5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e94"/>
                </a:solidFill>
                <a:latin typeface="Arial"/>
              </a:rPr>
              <a:t>motoring/ car</a:t>
            </a:r>
            <a:r>
              <a:rPr b="0" lang="en-US" sz="1800" spc="-1" strike="noStrike">
                <a:solidFill>
                  <a:srgbClr val="005e9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e94"/>
                </a:solidFill>
                <a:latin typeface="Arial"/>
              </a:rPr>
              <a:t>ownership/ car purchase: MS2 - technology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3800" y="2631960"/>
            <a:ext cx="6769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dec" pos="3492360"/>
                <a:tab algn="r" pos="457200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Hold current driving licence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00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00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n/a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dec" pos="3492360"/>
                <a:tab algn="r" pos="457200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Drive car at least monthly nowadays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00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00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n/a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dec" pos="3492360"/>
                <a:tab algn="r" pos="457200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ar ownership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dec" pos="3492360"/>
                <a:tab algn="r" pos="457200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privately owned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88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87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94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dec" pos="3492360"/>
                <a:tab algn="r" pos="457200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provided by company 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0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11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4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dec" pos="3492360"/>
                <a:tab algn="r" pos="457200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business expenses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2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2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2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dec" pos="3492360"/>
                <a:tab algn="r" pos="457200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Car purchase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dec" pos="3492360"/>
                <a:tab algn="r" pos="457200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new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33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38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33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dec" pos="3492360"/>
                <a:tab algn="r" pos="457200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nearly new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21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22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47840" indent="-268560">
              <a:spcBef>
                <a:spcPts val="499"/>
              </a:spcBef>
              <a:buClr>
                <a:srgbClr val="cc0000"/>
              </a:buClr>
              <a:buFont typeface="Arial Narrow"/>
              <a:buChar char="•"/>
              <a:tabLst>
                <a:tab algn="dec" pos="3492360"/>
                <a:tab algn="r" pos="4572000"/>
                <a:tab algn="r" pos="5740560"/>
                <a:tab algn="r" pos="7175520"/>
                <a:tab algn="r" pos="843264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second-hand/ used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40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 Narrow"/>
              </a:rPr>
              <a:t>45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1450800" y="2597040"/>
            <a:ext cx="6382080" cy="0"/>
          </a:xfrm>
          <a:prstGeom prst="line">
            <a:avLst/>
          </a:prstGeom>
          <a:ln w="1260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1424160" y="4575240"/>
            <a:ext cx="6408720" cy="0"/>
          </a:xfrm>
          <a:prstGeom prst="line">
            <a:avLst/>
          </a:prstGeom>
          <a:ln w="12600">
            <a:solidFill>
              <a:srgbClr val="49b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4464000" y="1838160"/>
            <a:ext cx="120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quota se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(n=1,000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587920" y="1838160"/>
            <a:ext cx="120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achieve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(n=1,034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6767640" y="1413000"/>
            <a:ext cx="1496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weighted for national / market representatio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(n=1,034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7329600" y="3927600"/>
            <a:ext cx="215640" cy="503280"/>
          </a:xfrm>
          <a:custGeom>
            <a:avLst/>
            <a:gdLst>
              <a:gd name="textAreaLeft" fmla="*/ 0 w 215640"/>
              <a:gd name="textAreaRight" fmla="*/ 7776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7473960" y="399888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6%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4592520" y="5294160"/>
            <a:ext cx="142920" cy="433440"/>
          </a:xfrm>
          <a:custGeom>
            <a:avLst/>
            <a:gdLst>
              <a:gd name="textAreaLeft" fmla="*/ 0 w 142920"/>
              <a:gd name="textAreaRight" fmla="*/ 51480 w 142920"/>
              <a:gd name="textAreaTop" fmla="*/ 11160 h 433440"/>
              <a:gd name="textAreaBottom" fmla="*/ 4222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5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4738320" y="5357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67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6200" y="3428640"/>
            <a:ext cx="9023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e94"/>
                </a:solidFill>
                <a:latin typeface="Arial"/>
              </a:rPr>
              <a:t>1. about the motorist</a:t>
            </a:r>
            <a:endParaRPr b="1" lang="en-US" sz="1800" spc="-1" strike="noStrike">
              <a:solidFill>
                <a:srgbClr val="005e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1:17:36Z</dcterms:created>
  <dc:creator> </dc:creator>
  <dc:description/>
  <dc:language>en-US</dc:language>
  <cp:lastModifiedBy>Quadrangle User</cp:lastModifiedBy>
  <dcterms:modified xsi:type="dcterms:W3CDTF">2008-09-15T13:09:34Z</dcterms:modified>
  <cp:revision>509</cp:revision>
  <dc:subject/>
  <dc:title>Slide 1</dc:title>
</cp:coreProperties>
</file>